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B4F3-3C94-4B77-A305-9F397A925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F1E1-DB54-4C35-9F36-E23A93417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3302-0B06-4948-B69A-84E2414AD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B5DE-4285-4B84-A52A-F7F42660B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885B-0848-4933-874B-8D41954E1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70EE-49CA-45F1-AE99-36E945B98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532C-B594-48CE-A7D0-7FF6D676C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831C-344C-4C03-97E8-559CAE26D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5E3B-F30F-4725-AA52-7A02F8E1E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0C61-0E26-469A-AFD7-971F4B98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1380-38B9-46D5-9CCF-0ABC61D7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3BF7-3782-4828-992B-E46E3F46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B460C-AD62-43B4-A834-C920A4030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6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has the second witch been busy doing?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illing swine” – killing pi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es this suggest about their characters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9640" y="299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enjoy destroying life, being needlessly cr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first witch is angry with a woman.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e wouldn’t share her chestnuts with 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e told her to “get lost” (Aroint the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does she decide to punish 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rturing her husband who is a sea cap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is significant about a rat without a tai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suggest that the rat is a witch in disgu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ist the supernatural powers the witches seem to hav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1280" y="270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can sail in a si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can control the we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can cast sp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analytical comments can you make about lines 33 – 3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unds like a spell because of rhythm and rhyme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etition of “thrice” emphasises ev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rm” suggests sp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ct all say together emphasises their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is significant about Macbeth’s opening l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minds us of the witches “fair is foul and foul is fare” from opening scene of 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cbeth’s first words echo witches’ words, therefore Macbeth immediately associated with them and ev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 your own words … what do the witches look li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ir clothes are ragged and worn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don’t look like human be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have chapped fin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have thin l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have beard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5T15:58:54Z</dcterms:created>
  <dc:creator>fyallt</dc:creator>
  <dc:description/>
  <dc:language>en-US</dc:language>
  <cp:lastModifiedBy>fyallt</cp:lastModifiedBy>
  <dcterms:modified xsi:type="dcterms:W3CDTF">2009-01-06T12:14:39Z</dcterms:modified>
  <cp:revision>3</cp:revision>
  <dc:subject/>
  <dc:title>What has the second witch been busy doing? </dc:title>
</cp:coreProperties>
</file>