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C992-30DC-4308-BC77-BDFB4B3C4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FF42-6599-462D-B812-45105E30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42F4-4A3D-4C6A-9200-7C261270E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B79F-4A54-4D8E-AAD4-D3C7CAEA1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866D-00A5-41A6-8753-31AC948D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2DC7-6A7F-4B36-A0A4-110AF043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E98D-670A-44F1-9339-B48119C4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ADFE-A70F-48F2-8357-E14BE08E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F50E-56F8-4755-8E4B-5AB55C21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6988-6393-4C10-9561-50F62CB2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A37B-3DD0-4C2E-AE9B-FA1F6921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0478-3E49-4C4D-A022-A7F47AFB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1EBF-E1DE-446D-84E8-2B66FD072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has the second witch been busy doing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illing swine” – killing pi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es this suggest about their characters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640" y="299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enjoy destroying life, being needlessly cr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first witch is angry with a woman.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e wouldn’t share her chestnuts with 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e told her to “get lost” (Aroint the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es she decide to punish 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rturing her husband who is a sea cap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s significant about a rat without a tai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suggest that the rat is a witch in disgu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st the supernatural powers the witches seem to hav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can sail in a si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can control the we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can cast sp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analytical comments can you make about lines 33 – 3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unds like a spell because of rhythm and rhyme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etition of “thrice” emphasises ev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rm” suggests sp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t all say together emphasises their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is significant about Macbeth’s opening l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minds us of the witches “fair is foul and foul is fare” from opening scene of 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cbeth’s first words echo witches’ words, therefore Macbeth immediately associated with them and ev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 your own words … what do the witches look l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ir clothes are ragged and worn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don’t look like human be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have chapped fin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have thin l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have beard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15:58:54Z</dcterms:created>
  <dc:creator>fyallt</dc:creator>
  <dc:description/>
  <dc:language>en-US</dc:language>
  <cp:lastModifiedBy>fyallt</cp:lastModifiedBy>
  <dcterms:modified xsi:type="dcterms:W3CDTF">2009-01-06T12:14:39Z</dcterms:modified>
  <cp:revision>3</cp:revision>
  <dc:subject/>
  <dc:title>What has the second witch been busy doing? </dc:title>
</cp:coreProperties>
</file>