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A78-8CA0-4839-974A-6AEFEBC5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EC2-146B-4B85-9BFB-6ECD6A00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969-FA96-4F99-857F-6F57282E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31A-F046-413D-A6A6-18529759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971-5E55-4098-8045-81A04C6F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F82-AC55-4C55-AA93-A4C4D8C1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184-DB5A-4250-913F-E462DCDF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303-9848-4D64-992C-86AAEBFD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573-7DDC-48D0-B6BD-FFB0C5BD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C1B-E7E6-4202-B0E0-4B384E20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CC4-E347-4FF3-B4F3-3EC29D93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C48-3819-429A-B71A-5167875C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FB14-8FF5-4398-83A7-1F8111E2B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s the second witch been busy doing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illing swine” – killing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this suggest about their character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enjoy destroying life, being needlessly cr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irst witch is angry with a woman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wouldn’t share her chestnuts with 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told her to “get lost” (Aroint th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she decide to punish 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rturing her husband who is a sea cap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significant about a rat without a t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uggest that the rat is a witch in disg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 the supernatural powers the witches seem to ha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sail in a s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control the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cast sp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analytical comments can you make about lines 33 – 3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s like a spell because of rhythm and rhyme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tition of “thrice” emphasises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m” suggests sp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t all say together emphasises thei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significant about Macbeth’s opening 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inds us of the witches “fair is foul and foul is fare” from opening scene of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cbeth’s first words echo witches’ words, therefore Macbeth immediately associated with them and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 your own words … what do the witches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ir clothes are ragged and wor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don’t look like human be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chapped fin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thin 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bea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5:58:54Z</dcterms:created>
  <dc:creator>fyallt</dc:creator>
  <dc:description/>
  <dc:language>en-US</dc:language>
  <cp:lastModifiedBy>fyallt</cp:lastModifiedBy>
  <dcterms:modified xsi:type="dcterms:W3CDTF">2009-01-06T12:14:39Z</dcterms:modified>
  <cp:revision>3</cp:revision>
  <dc:subject/>
  <dc:title>What has the second witch been busy doing? </dc:title>
</cp:coreProperties>
</file>