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29D3-1C31-4DEE-B013-FD7B98C23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4DB5-C618-410B-B68E-02627806A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DB0C-C530-4951-A577-23C96F206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486E-B83C-43F3-AB1B-0FAAF1E49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2575-D9F7-41A3-8529-DFF268C34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8667-9930-4AF2-9EA6-E0DE849B2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DBCA-9A88-4247-9731-796C19489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3785-D76D-4172-BE1C-70B60A2D0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68F3-6DEA-42EF-9F7E-99946309C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D14E-71D3-4F95-B1A4-A5FB0BD1C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9CFE-2F11-4411-9515-BB0A848EC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F3A8-73B5-47FF-9A9B-A24D8396F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E699A-3382-42E1-950F-D47F46CF89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6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has the second witch been busy doing?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2852280"/>
            <a:ext cx="822960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killing swine” – killing pi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64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does this suggest about their characters?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9640" y="299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y enjoy destroying life, being needlessly cru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first witch is angry with a woman. 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e wouldn’t share her chestnuts with h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e told her to “get lost” (Aroint the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does she decide to punish h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rturing her husband who is a sea capt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is significant about a rat without a tai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suggest that the rat is a witch in disgu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ist the supernatural powers the witches seem to hav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11280" y="270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y can sail in a sie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y can control the wea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y can cast sp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What analytical comments can you make about lines 33 – 38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unds like a spell because of rhythm and rhyme sche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petition of “thrice” emphasises ev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arm” suggests sp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act all say together emphasises their p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What is significant about Macbeth’s opening li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minds us of the witches “fair is foul and foul is fare” from opening scene of pl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cbeth’s first words echo witches’ words, therefore Macbeth immediately associated with them and ev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n your own words … what do the witches look lik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ir clothes are ragged and worn 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y don’t look like human be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y have chapped fing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y have thin li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y have beard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5T15:58:54Z</dcterms:created>
  <dc:creator>fyallt</dc:creator>
  <dc:description/>
  <dc:language>en-US</dc:language>
  <cp:lastModifiedBy>fyallt</cp:lastModifiedBy>
  <dcterms:modified xsi:type="dcterms:W3CDTF">2009-01-06T12:14:39Z</dcterms:modified>
  <cp:revision>3</cp:revision>
  <dc:subject/>
  <dc:title>What has the second witch been busy doing? </dc:title>
</cp:coreProperties>
</file>