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CAB-004C-45D0-8264-CEDA5222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A36-433C-473C-9098-42670474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1B8-A198-4046-9A56-43DE57B2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AB0-6436-4249-A009-B696AFE5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B37-0C37-4EEB-9A88-4007AD4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4F5-337C-4BFF-81A6-1DDAE5F9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7F9-A279-40B7-A265-08D715CB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C39-226C-4CD7-B694-F1D6ACED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CA0-5CD0-4102-A1F1-796E7F9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296-C077-4030-A766-F328168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7FE-BB05-4D56-9E9D-CAF7378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96A-A1AB-4742-A57C-3451AD7C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965B-DCE5-49B5-8159-3C60535F1F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Symbol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empus Sans ITC"/>
              </a:rPr>
              <a:t>Symbols are objects, characters, figures, or colours used to represent abstra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empus Sans ITC"/>
              </a:rPr>
              <a:t>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fire is a symbol of the boys’ connection with civ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f the fire is maintained then this represents the boys’ longing to be 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When the fire burns low it is a sign that the boys are accepting their life on the island and sinking into sava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 fire is almost like a measuring stick – it reflects the sense of order and civilisation on the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ronically it is fire which attracts the attention and brings about their rescue at the end of th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owever, it wasn’t the signal fire; it was the fire Jack started to hunt out Ralph – what should have brought about death actually brought rescue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908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The Co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conch is a powerful symbol of order and civ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t is used to govern th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boy holding the shell has the right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n some ways more than a symbol - it is the actual vessel of legitimacy and democratic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As the civilized behaviour and order begin to disintegrate the conch loses it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Ralph blows the conch in Jack’s camp at Castle Rock, stones are thrown a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Piggy is killed the conch is sha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05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Piggy’s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Piggy is the most intelligent boy in the group and in some ways is like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is glasses represent the power of science and rational thought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is is seen when they need them to light the fire – can’t survive withou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’s the glasses Jack steals, not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y have the power to make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032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The Lord of the F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2786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Beelzeb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 comes from an Arabic word meaning fly-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n the bible it is the name for the prince of de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Now recognised as a name for the d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pig’s head holds rule over all the subject flies, just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beast , or evil within each of the boys, holds rule over thei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It is symbolic of the power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8:05:17Z</dcterms:created>
  <dc:creator>Fyall</dc:creator>
  <dc:description/>
  <dc:language>en-US</dc:language>
  <cp:lastModifiedBy>fyallt</cp:lastModifiedBy>
  <dcterms:modified xsi:type="dcterms:W3CDTF">2009-09-09T10:57:17Z</dcterms:modified>
  <cp:revision>4</cp:revision>
  <dc:subject/>
  <dc:title>Symbols </dc:title>
</cp:coreProperties>
</file>