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F9B-1E2C-428F-81F9-D29E606D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402-695C-4EA3-8699-1B973CC0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A9A-D569-4465-991F-06CA46AA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7E7-1E90-48F0-A175-35CA4386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A1C-05BE-4D9B-B1FC-1782B050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188-81C4-44D7-AF19-62CC3A3B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AF4-55B3-4A9D-80F3-61C20055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496-B7DD-4A9A-BFE3-B82BE363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F20-C1BF-427C-BFDF-B834E25F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675-850D-4DB9-862E-3F85191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D38-7BD1-46B9-B324-2747FDA6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FF5-AB5F-4A51-94C3-B25A6C7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A61D-C7B3-4CAD-AA00-03F2F1C7E6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Symbol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empus Sans ITC"/>
              </a:rPr>
              <a:t>Symbols are objects, characters, figures, or colours used to represent abstract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empus Sans ITC"/>
              </a:rPr>
              <a:t>F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fire is a symbol of the boys’ connection with civ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f the fire is maintained then this represents the boys’ longing to be 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When the fire burns low it is a sign that the boys are accepting their life on the island and sinking into sava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 fire is almost like a measuring stick – it reflects the sense of order and civilisation on the 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ronically it is fire which attracts the attention and brings about their rescue at the end of th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owever, it wasn’t the signal fire; it was the fire Jack started to hunt out Ralph – what should have brought about death actually brought rescue and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908000" y="386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The Co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conch is a powerful symbol of order and civ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t is used to govern th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boy holding the shell has the right to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n some ways more than a symbol - it is the actual vessel of legitimacy and democratic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As the civilized behaviour and order begin to disintegrate the conch loses it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Ralph blows the conch in Jack’s camp at Castle Rock, stones are thrown at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Piggy is killed the conch is sha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05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Piggy’s 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Piggy is the most intelligent boy in the group and in some ways is like a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is glasses represent the power of science and rational thought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is is seen when they need them to light the fire – can’t survive withou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’s the glasses Jack steals, not the co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y have the power to make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032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The Lord of the F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2520" y="1600200"/>
            <a:ext cx="278604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Beelzeb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 comes from an Arabic word meaning fly-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n the bible it is the name for the prince of de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Now recognised as a name for the d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pig’s head holds rule over all the subject flies, just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beast , or evil within each of the boys, holds rule over thei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It is symbolic of the power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8:05:17Z</dcterms:created>
  <dc:creator>Fyall</dc:creator>
  <dc:description/>
  <dc:language>en-US</dc:language>
  <cp:lastModifiedBy>fyallt</cp:lastModifiedBy>
  <dcterms:modified xsi:type="dcterms:W3CDTF">2009-09-09T10:57:17Z</dcterms:modified>
  <cp:revision>4</cp:revision>
  <dc:subject/>
  <dc:title>Symbols </dc:title>
</cp:coreProperties>
</file>