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F5E-0C32-4E65-88AD-6215E817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575-2FE0-47C3-99F0-510BE27D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B5D-671C-4778-B60E-E0479174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340-873F-47B1-BCD5-6E12D9E8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F0D-CF6B-4C52-8150-E608CB3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E9A-3528-4C71-BAE2-16B47E3B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FA2-D89A-48A3-96CE-CD524364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080-A765-4BB4-A34F-647356E5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F51-44DC-4314-8830-160CDFF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41B-E275-4FE4-A534-BDC4A51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D2E-4F9B-4C3F-ADBA-27EAC937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1DA-C134-45F1-862D-5C887582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B3E2-D118-47A3-B9F0-3353846448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Symbol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empus Sans ITC"/>
              </a:rPr>
              <a:t>Symbols are objects, characters, figures, or colours used to represent abstra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empus Sans ITC"/>
              </a:rPr>
              <a:t>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fire is a symbol of the boys’ connection with civ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f the fire is maintained then this represents the boys’ longing to be 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When the fire burns low it is a sign that the boys are accepting their life on the island and sinking into sava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 fire is almost like a measuring stick – it reflects the sense of order and civilisation on the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ronically it is fire which attracts the attention and brings about their rescue at the end of th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owever, it wasn’t the signal fire; it was the fire Jack started to hunt out Ralph – what should have brought about death actually brought rescue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908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The Co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conch is a powerful symbol of order and civ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t is used to govern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boy holding the shell has the right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n some ways more than a symbol - it is the actual vessel of legitimacy and democrat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As the civilized behaviour and order begin to disintegrate the conch loses it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Ralph blows the conch in Jack’s camp at Castle Rock, stones are thrown a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Piggy is killed the conch is sh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05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Piggy’s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Piggy is the most intelligent boy in the group and in some ways is like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is glasses represent the power of science and rational thought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is is seen when they need them to light the fire – can’t survive withou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’s the glasses Jack steals, not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y have the power to make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032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The Lord of the F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2786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Beelzeb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 comes from an Arabic word meaning fly-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n the bible it is the name for the prince of de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Now recognised as a name for the d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pig’s head holds rule over all the subject flies, just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beast , or evil within each of the boys, holds rule over thei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It is symbolic of the power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8:05:17Z</dcterms:created>
  <dc:creator>Fyall</dc:creator>
  <dc:description/>
  <dc:language>en-US</dc:language>
  <cp:lastModifiedBy>fyallt</cp:lastModifiedBy>
  <dcterms:modified xsi:type="dcterms:W3CDTF">2009-09-09T10:57:17Z</dcterms:modified>
  <cp:revision>4</cp:revision>
  <dc:subject/>
  <dc:title>Symbols </dc:title>
</cp:coreProperties>
</file>