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E59-4722-477C-9C06-4DF0782C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B7D-F410-4449-B9C2-87FCC425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0C6-C81F-4A6E-BAEA-6E936462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5B9-E287-47F4-BEE3-78632941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736-4B81-4228-9A11-5E589C97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D35-86E8-4244-B670-2BB87354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4C9-0A4A-42D1-B6C7-A8529F86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101-B375-40B6-A0E7-3ECBB8E4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FA9-B03C-4720-A0E2-C62841A5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9B8-98CA-4136-8CB9-0F62735D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627-A203-49D6-95F2-93541D3B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52E-06D5-4A77-A47C-3F8600D0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1861-157C-4B2E-B541-6A7445555E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empus Sans ITC"/>
              </a:rPr>
              <a:t>Symbol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empus Sans ITC"/>
              </a:rPr>
              <a:t>Symbols are objects, characters, figures, or colours used to represent abstract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empus Sans ITC"/>
              </a:rPr>
              <a:t>F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fire is a symbol of the boys’ connection with civ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f the fire is maintained then this represents the boys’ longing to be resc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When the fire burns low it is a sign that the boys are accepting their life on the island and sinking into sava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e fire is almost like a measuring stick – it reflects the sense of order and civilisation on the i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ronically it is fire which attracts the attention and brings about their rescue at the end of th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However, it wasn’t the signal fire; it was the fire Jack started to hunt out Ralph – what should have brought about death actually brought rescue and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908000" y="386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empus Sans ITC"/>
              </a:rPr>
              <a:t>The Co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conch is a powerful symbol of order and civ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t is used to govern th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the boy holding the shell has the right to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In some ways more than a symbol - it is the actual vessel of legitimacy and democratic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As the civilized behaviour and order begin to disintegrate the conch loses its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When Ralph blows the conch in Jack’s camp at Castle Rock, stones are thrown at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When Piggy is killed the conch is shat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05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empus Sans ITC"/>
              </a:rPr>
              <a:t>Piggy’s g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Piggy is the most intelligent boy in the group and in some ways is like an 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His glasses represent the power of science and rational thought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is is seen when they need them to light the fire – can’t survive withou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t’s the glasses Jack steals, not the co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They have the power to make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032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mpus Sans ITC"/>
              </a:rPr>
              <a:t>The Lord of the F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2520" y="1600200"/>
            <a:ext cx="278604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Beelzeb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t comes from an Arabic word meaning fly-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In the bible it is the name for the prince of de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Now recognised as a name for the de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he pig’s head holds rule over all the subject flies, just 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The beast , or evil within each of the boys, holds rule over thei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mpus Sans ITC"/>
              </a:rPr>
              <a:t>It is symbolic of the power of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8:05:17Z</dcterms:created>
  <dc:creator>Fyall</dc:creator>
  <dc:description/>
  <dc:language>en-US</dc:language>
  <cp:lastModifiedBy>fyallt</cp:lastModifiedBy>
  <dcterms:modified xsi:type="dcterms:W3CDTF">2009-09-09T10:57:17Z</dcterms:modified>
  <cp:revision>4</cp:revision>
  <dc:subject/>
  <dc:title>Symbols </dc:title>
</cp:coreProperties>
</file>