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51C-EFB5-4AD1-9392-9A808B73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373-1192-47C1-9FA2-AA1FEC96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69D-AA26-42D1-9CED-EE6306F7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5D59-A65A-4447-8C94-2E011F89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BC6-0535-4813-BB4E-FA252F98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93F-663F-43CA-A488-91D45AD9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6B0-530F-47A8-93DC-A31B2004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7F3-9E5C-43D3-B62C-79C1FFA6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FF5-3C87-4969-81C6-AD47F17C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892-4A1F-421C-AA84-3FD17A9C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82D-3289-496C-AB6A-6B7B178D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0E1F-E21A-45F8-A91D-38D4B205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A4AD-6479-486A-9F09-0CAFBB9D1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Lord of the Flies 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Vocabulary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Times New Roman"/>
              </a:rPr>
              <a:t>indignant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outraged at sense of injusti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declivitie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downward slop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ebullien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excitement / exuber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“…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with the martyred expression of a parent who has to keep up with the senseless ebullience of the children …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hronic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constantl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present, recurr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belligeren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aggressive, looking for a figh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hastisement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punishmen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impalpabl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difficult to grasp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errant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misbehav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onvulsion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when your muscles contract suddenly, violentl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apex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pointed end or tip of someth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ffulgen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agoon attacked them with blinding effulgence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ustre, bright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</a:rPr>
              <a:t>derisiv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mocking, scornfu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biddabl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bedi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ndigo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2349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 colour .. a deep violet-b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“…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he unknown indigo of infinite possibility.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tempestuous</a:t>
            </a:r>
            <a:br>
              <a:rPr sz="6000"/>
            </a:b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violent or storm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A shadow fronted him tempestuously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nterminabl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7636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emingly endless, long drawn out, usually because bo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An interminable dawn faded the stars out…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mphatic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 adjective that means showing empha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he reply was too emphatic for anyone to doubt them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hasm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ep crack in the ear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auseway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ised path or road across wa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fulcrum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lph used one hand as fulcrum and pressed down with the other till the shell rose,dripping, and Piggy could make a grab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int on which a lever r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was a slight, furtive boy whom no one knew, who kept to himself…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althy , sly, wanting to be hid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</a:rPr>
              <a:t>vicissitud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hange of circumstances esp. of condition or fortu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foliag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leav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pallor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imes New Roman"/>
              </a:rPr>
              <a:t>paleness, usually of fa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ontrit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very sorry for having done some thing wro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incredulou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unwilling to believ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9:16:30Z</dcterms:created>
  <dc:creator>FYAllT</dc:creator>
  <dc:description/>
  <dc:language>en-US</dc:language>
  <cp:lastModifiedBy>fyallt</cp:lastModifiedBy>
  <dcterms:modified xsi:type="dcterms:W3CDTF">2009-09-02T11:19:02Z</dcterms:modified>
  <cp:revision>11</cp:revision>
  <dc:subject/>
  <dc:title>Lord of the Flies Vocabulary</dc:title>
</cp:coreProperties>
</file>