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camera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6318-34FC-4586-9D26-8FAB71BED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AD1A-3440-4571-92B0-C6D21D98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F704-604E-4ABA-9D4B-5DFA18357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D049-DAB0-44BF-B69F-8359FF021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0F34-098C-4B5C-A3F9-9B55ACBE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EB4D-2D43-4CF9-8C23-BB2EB8B7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0645-A9FA-4FFF-A6C9-2FD40EA9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635A-2B0A-452F-BEDC-14321E1E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930A-8587-4119-B850-1F729F7A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ABA6-33A8-4093-98B8-E42328DC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DFF5-5E59-4E56-AB1C-38C7522E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2BE3-2882-4284-93AC-0AD7B49E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247D-196F-475A-ACE7-A2B20D52B3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Lord of the Flies 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Vocabulary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0000"/>
                </a:solidFill>
                <a:latin typeface="Times New Roman"/>
              </a:rPr>
              <a:t>indignant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Times New Roman"/>
              </a:rPr>
              <a:t>outraged at sense of injusti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declivities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Times New Roman"/>
              </a:rPr>
              <a:t>downward slop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ebullience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0328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excitement / exuberan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“…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with the martyred expression of a parent who has to keep up with the senseless ebullience of the children …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chronic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ffff"/>
                </a:solidFill>
                <a:latin typeface="Times New Roman"/>
              </a:rPr>
              <a:t>constantly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5400" spc="-1" strike="noStrike">
                <a:solidFill>
                  <a:srgbClr val="00ffff"/>
                </a:solidFill>
                <a:latin typeface="Times New Roman"/>
              </a:rPr>
              <a:t>present, recurring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belligerence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Times New Roman"/>
              </a:rPr>
              <a:t>aggressive, looking for a figh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chastisement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Times New Roman"/>
              </a:rPr>
              <a:t>punishmen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impalpable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ffff"/>
                </a:solidFill>
                <a:latin typeface="Times New Roman"/>
              </a:rPr>
              <a:t>difficult to grasp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errant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Times New Roman"/>
              </a:rPr>
              <a:t>misbehaving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convulsion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2421000"/>
            <a:ext cx="6400800" cy="32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Times New Roman"/>
              </a:rPr>
              <a:t>when your muscles contract suddenly, violentl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apex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2708280"/>
            <a:ext cx="6400800" cy="29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ffff"/>
                </a:solidFill>
                <a:latin typeface="Times New Roman"/>
              </a:rPr>
              <a:t>pointed end or tip of something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effulgence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lagoon attacked them with blinding effulgence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ustre, brightn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Times New Roman"/>
              </a:rPr>
              <a:t>derisive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Times New Roman"/>
              </a:rPr>
              <a:t>mocking, scornfu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biddable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bedien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indigo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32000" y="234900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 colour .. a deep violet-bl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“…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the unknown indigo of infinite possibility.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0000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tempestuous</a:t>
            </a:r>
            <a:br>
              <a:rPr sz="6000"/>
            </a:b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32000" y="19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violent or storm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A shadow fronted him tempestuously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interminable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7636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emingly endless, long drawn out, usually because bor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An interminable dawn faded the stars out…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emphatic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n adjective that means showing empha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The reply was too emphatic for anyone to doubt them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chasm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ep crack in the eart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causeway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aised path or road across wa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fulcrum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lph used one hand as fulcrum and pressed down with the other till the shell rose,dripping, and Piggy could make a grab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oint on which a lever re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rtiv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was a slight, furtive boy whom no one knew, who kept to himself…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althy , sly, wanting to be hidd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Times New Roman"/>
              </a:rPr>
              <a:t>vicissitude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924280"/>
            <a:ext cx="64008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Change of circumstances esp. of condition or fortu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Times New Roman"/>
              </a:rPr>
              <a:t>foliag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ffff"/>
                </a:solidFill>
                <a:latin typeface="Times New Roman"/>
              </a:rPr>
              <a:t>leav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pallor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imes New Roman"/>
              </a:rPr>
              <a:t>paleness, usually of fa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contrite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2421000"/>
            <a:ext cx="6400800" cy="32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ffff"/>
                </a:solidFill>
                <a:latin typeface="Times New Roman"/>
              </a:rPr>
              <a:t>very sorry for having done some thing wrong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incredulous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ffff"/>
                </a:solidFill>
                <a:latin typeface="Times New Roman"/>
              </a:rPr>
              <a:t>unwilling to believ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9:16:30Z</dcterms:created>
  <dc:creator>FYAllT</dc:creator>
  <dc:description/>
  <dc:language>en-US</dc:language>
  <cp:lastModifiedBy>fyallt</cp:lastModifiedBy>
  <dcterms:modified xsi:type="dcterms:W3CDTF">2009-09-02T11:19:02Z</dcterms:modified>
  <cp:revision>11</cp:revision>
  <dc:subject/>
  <dc:title>Lord of the Flies Vocabulary</dc:title>
</cp:coreProperties>
</file>