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B960-3544-4A7A-8780-E1DEAC18D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282D-6375-4A01-AD36-7006FB88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EEC2-FA3F-42A2-B5E2-07D5F62E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C93F-DCB2-47F1-84AF-A493DA351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E6EA8-A625-492E-9DF3-F6C9A40C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32DF6-4B43-495C-9D17-2B867B12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3DE28-1BC6-4BC9-A22F-D0383F69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6C189-977E-46AF-97E1-6B75EF58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361BC-C49F-41C6-B836-DBE96E72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DAD06-D8FA-4D09-B2FC-61381CD9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13F1D-C5A4-406E-B877-5B003719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FBCE-60DA-4D9D-B72A-A6AC6EA3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40E49-8E10-4FC4-8AE8-38B2B2F5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282B7-68EA-49E6-BFF2-C85F4BC2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8402B-1C31-43BC-971C-0C535879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6D32D-EA10-486A-A6A6-DB5B3B19E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3C933-0A38-4AC6-8F3B-A77949F93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C0C3-B9D7-459B-A5C9-81149E5B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8311-27C6-4653-93A4-9A0CB96B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7372-0E5E-44E5-8846-E7277614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9B39-0491-4ACA-B641-9E8ACE6D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085B-7205-40EF-B99D-FB6C15AD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C3D9-48BC-4B7D-A5BB-78C4EB80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1109-DE75-407B-9BD4-80BDB9EE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1BD1-332A-4711-90CB-FBD79FF66B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1553-A658-48C0-A01F-EEEE238EDA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Times New Roman"/>
              </a:rPr>
              <a:t>Lord of the Flie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by William Gold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In October 1997 Luke Woodham , aged 16, stabbed his mother, drove to school in her car and shot his sweetheart who had spurned him along with another girl. The police later found a “manifesto” he had writt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       “</a:t>
            </a: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I </a:t>
            </a:r>
            <a:r>
              <a:rPr b="0" i="1" lang="en-GB" sz="2800" spc="-1" strike="noStrike">
                <a:solidFill>
                  <a:srgbClr val="ffffff"/>
                </a:solidFill>
                <a:latin typeface="Tempus Sans ITC"/>
              </a:rPr>
              <a:t>am not insane … for murder is not weak or slow-witted.  Murder is gutsy and daring …. I do this to show society : Push and we will push back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In March 1998 In Jonesboro Arkansas, two young males aged 11 and 13, shot dead 4 children and one adult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mpus Sans ITC"/>
              </a:rPr>
              <a:t>A report into the incident commented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   “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They had laid an unsophisticated but effective trap; they set off the fire alarm in order to send the children into the playground to face the gunfire. Te Jonesboro boys had decided to kit themselves out in fatigues – even combat hats for the occasion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mpus Sans ITC"/>
              </a:rPr>
              <a:t>Parallels to in “Lord of the Flies” is cle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The young age of the boys who batter Simon to dea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The chilling way they dress themselves up as part of the gang and smear blood on their fa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The calculating way Ralph is flushed out of the forest by fi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The pleasure Roger takes in causing p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empus Sans ITC"/>
              </a:rPr>
              <a:t>Adventure books referred to:</a:t>
            </a:r>
            <a:br>
              <a:rPr sz="36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43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Treasure Island” by R.L Steven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This is about a young lad, Jack Hawkins, who goes on a treasure seeking voyage. He is kidnapped by pirates but his courage and loyalty bring about a happy e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859280" y="1916280"/>
            <a:ext cx="29448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Tempus Sans ITC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Swallows and Amazons”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by Arthur Rans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5410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This novel is set in the Lake District in England. It tells of the adventures a group of children have as they explore the islands by boat. In many ways it portrays a perfect childhood, full of fun, in which being “decent” always brings succe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300720" y="260280"/>
            <a:ext cx="2230560" cy="3384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156360" y="4164120"/>
            <a:ext cx="26272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508720" y="1125360"/>
            <a:ext cx="3009960" cy="5042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826920" y="1557360"/>
            <a:ext cx="3032280" cy="43927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mpus Sans ITC"/>
              </a:rPr>
              <a:t>The Coral Isla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190512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This is the novel most closely linked to Lord of the Flies. It is about three British boys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Tempus Sans ITC"/>
              </a:rPr>
              <a:t>Ralph (15), Jack (18) and Peterkin (14),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empus Sans ITC"/>
              </a:rPr>
              <a:t>who are shipwrecked on a desert island in the South Pacific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empus Sans ITC"/>
              </a:rPr>
              <a:t>Ralph is the centre figure and tells the sto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empus Sans ITC"/>
              </a:rPr>
              <a:t>Jack is the her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empus Sans ITC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empus Sans ITC"/>
              </a:rPr>
              <a:t>Peterkin is funny and clever (almost like a popular Piggy)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00720" y="1052640"/>
            <a:ext cx="46432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Fire on the island is a symbol for safety but also for destruction. Traditionally it represents hope, warmth and comf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There is another two-edged symbol. What is i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55640" y="549360"/>
            <a:ext cx="338472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mpus Sans ITC"/>
              </a:rPr>
              <a:t>The conc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619280" y="1987560"/>
            <a:ext cx="597708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3352680" cy="4105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-3877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mpus Sans ITC"/>
              </a:rPr>
              <a:t>William Gold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105520" y="981000"/>
            <a:ext cx="4038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rn in 1911 in Cornwal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World War 2, he joined Royal Nav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ter the war he returned to teaching and began writing nov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54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Lord of the Fli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first and most successful no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83 awarded Nobel prize for Litera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ed 199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84360" y="981000"/>
            <a:ext cx="48956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403280" y="907920"/>
            <a:ext cx="5761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187280" y="476280"/>
            <a:ext cx="6948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187280" y="1273320"/>
            <a:ext cx="66978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900000" y="528480"/>
            <a:ext cx="7272360" cy="545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63640" y="1177920"/>
            <a:ext cx="5400720" cy="4049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403280" y="907920"/>
            <a:ext cx="5761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115640" y="980640"/>
            <a:ext cx="668196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Golding wrote the novel after his experiences in WW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He was horrified by the man’s cruelty to fellow 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His novel explores the potential for evil in all of 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771640" y="404640"/>
            <a:ext cx="3429000" cy="3905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157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The Americans dropped an atomic bomb on Nagasaki and Hiroshim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3889080" cy="3636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500720" y="2924280"/>
            <a:ext cx="4130640" cy="33256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10552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Jewish Concentration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Cam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2919240" cy="3527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564000" y="2637000"/>
            <a:ext cx="4967280" cy="33843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105520" y="907920"/>
            <a:ext cx="40384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Japanese P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mpus Sans ITC"/>
              </a:rPr>
              <a:t>The novel is an allegory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What does that mea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It tells a story on a superficial leve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Underneath it has a deeper meaning and an explicit moral p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Characters, incidents and images stand for something else in the “real world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e.g. the conch stands for autho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292720" y="404640"/>
            <a:ext cx="3097080" cy="29800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36720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Some people see the boys’ life on the island as parallel to the rise off fascism in Germany before WW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Jack and the hunters represent Hitler’s You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932360" y="3733920"/>
            <a:ext cx="372888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Contemporary relev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In 1992 Jamie Bulger was lured away from his mother in a shopping centre By two boys aged 10 years. He was tortured and they battered him to death. With this act came a turning point in public perception of children; the notion of childhood innocence di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71640" y="2924280"/>
            <a:ext cx="1807920" cy="2736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492360" y="2997360"/>
            <a:ext cx="1960560" cy="2473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6012000" y="3068640"/>
            <a:ext cx="1981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7T10:43:43Z</dcterms:created>
  <dc:creator>Fyall</dc:creator>
  <dc:description/>
  <dc:language>en-US</dc:language>
  <cp:lastModifiedBy>fyallt</cp:lastModifiedBy>
  <dcterms:modified xsi:type="dcterms:W3CDTF">2009-10-05T17:08:35Z</dcterms:modified>
  <cp:revision>13</cp:revision>
  <dc:subject/>
  <dc:title>Lord of the Flies</dc:title>
</cp:coreProperties>
</file>