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CDA-A974-4F69-8E72-8855F085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F842-476B-4823-89D1-0C472EE5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78C-1152-4D3E-9B39-444FB611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D11-E1A6-4E95-8BE3-6BAB129A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86469-2E09-485A-BE23-F2E03580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AADA3-DB0B-4EBF-AD82-68CF19EC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E1C75-4EE1-48D5-844A-AAFF6454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DD3BD-6807-4E15-8A13-30FBEE40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A9F55-0A87-4B52-B1C0-FC9EE0FD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B9DEA-61C9-4618-8919-4BCCC47F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21CC9-B74E-44FA-9CC1-A990CC59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1F2-6C74-4661-BF4F-4403A323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53648-36E7-4168-8080-D9F2AA15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54814-65F6-4174-80C7-C6A4805D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7E615-5953-4A37-8D63-6D8D4588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0D9F4-14CC-4398-8642-86A40D67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BD7AC-C9C3-468D-AACD-D36E379C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4EDE-FF21-4DC8-B4CD-401CC8B5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A5C-E4B0-4C80-B3E7-EBC1445B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C0A-0CF1-4353-8107-1DA3F4D8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532-27DE-48A7-8EB2-F6AC1CA2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6F5-A709-4736-AD56-97CD06AE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E9B-5506-4F51-94C9-35A067F1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F40-18E8-403E-AB5E-88932B72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73F3-A717-4509-B445-87EA08526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879E-7B0A-4100-A8F1-5A2F77572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Lord of the Fli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y William Gol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n October 1997 Luke Woodham , aged 16, stabbed his mother, drove to school in her car and shot his sweetheart who had spurned him along with another girl. The police later found a “manifesto” he had writ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       “</a:t>
            </a: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 </a:t>
            </a:r>
            <a:r>
              <a:rPr b="0" i="1" lang="en-GB" sz="2800" spc="-1" strike="noStrike">
                <a:solidFill>
                  <a:srgbClr val="ffffff"/>
                </a:solidFill>
                <a:latin typeface="Tempus Sans ITC"/>
              </a:rPr>
              <a:t>am not insane … for murder is not weak or slow-witted.  Murder is gutsy and daring …. I do this to show society : Push and we will push bac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In March 1998 In Jonesboro Arkansas, two young males aged 11 and 13, shot dead 4 children and one adul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A report into the incident commented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 “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y had laid an unsophisticated but effective trap; they set off the fire alarm in order to send the children into the playground to face the gunfire. Te Jonesboro boys had decided to kit themselves out in fatigues – even combat hats for the occasio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Parallels to in “Lord of the Flies” is cl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young age of the boys who batter Simon to dea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chilling way they dress themselves up as part of the gang and smear blood on their fa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calculating way Ralph is flushed out of the forest by f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pleasure Roger takes in causing p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empus Sans ITC"/>
              </a:rPr>
              <a:t>Adventure books referred to:</a:t>
            </a:r>
            <a:br>
              <a:rPr sz="36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4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Treasure Island” by R.L Steven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This is about a young lad, Jack Hawkins, who goes on a treasure seeking voyage. He is kidnapped by pirates but his courage and loyalty bring about a happy e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2944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Tempus Sans ITC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Swallows and Amazons”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by Arthur Rans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5410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This novel is set in the Lake District in England. It tells of the adventures a group of children have as they explore the islands by boat. In many ways it portrays a perfect childhood, full of fun, in which being “decent” always brings succ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230560" cy="338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156360" y="4164120"/>
            <a:ext cx="26272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08720" y="1125360"/>
            <a:ext cx="3009960" cy="5042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3032280" cy="4392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Coral Is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9051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This is the novel most closely linked to Lord of the Flies. It is about three British boy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Ralph (15), Jack (18) and Peterkin (14),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who are shipwrecked on a desert island in the South Pacific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Ralph is the centre figure and tells the st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Jack is the her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Peterkin is funny and clever (almost like a popular Piggy)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643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Fire on the island is a symbol for safety but also for destruction. Traditionally it represents hope, warmth and com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There is another two-edged symbol. What is i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338472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con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619280" y="1987560"/>
            <a:ext cx="59770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3352680" cy="410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-387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William Gol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05520" y="98100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rn in 1911 in Cornwal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World War 2, he joined Royal Nav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he war he returned to teaching and began writing no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54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Lord of the Fl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first and most successful no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83 awarded Nobel prize for Lit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ed 199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4895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694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7280" y="1273320"/>
            <a:ext cx="6697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00000" y="528480"/>
            <a:ext cx="727236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63640" y="1177920"/>
            <a:ext cx="5400720" cy="4049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03280" y="90792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6681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Golding wrote the novel after his experiences in WW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He was horrified by the man’s cruelty to fellow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His novel explores the potential for evil in all of 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429000" cy="390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57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Americans dropped an atomic bomb on Nagasaki and Hiroshi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889080" cy="363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00720" y="2924280"/>
            <a:ext cx="4130640" cy="3325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10552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ewish Concentration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Cam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919240" cy="352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564000" y="2637000"/>
            <a:ext cx="4967280" cy="3384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105520" y="90792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apanese P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novel is an allegory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What does that me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It tells a story on a superficial lev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Underneath it has a deeper meaning and an explicit moral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Characters, incidents and images stand for something else in the “real wor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e.g. the conch stands for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92720" y="404640"/>
            <a:ext cx="3097080" cy="2980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3672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Some people see the boys’ life on the island as parallel to the rise off fascism in Germany before WW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ack and the hunters represent Hitler’s Y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932360" y="3733920"/>
            <a:ext cx="37288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Contemporary relev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In 1992 Jamie Bulger was lured away from his mother in a shopping centre By two boys aged 10 years. He was tortured and they battered him to death. With this act came a turning point in public perception of children; the notion of childhood innocence di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1807920" cy="273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1960560" cy="2473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012000" y="3068640"/>
            <a:ext cx="1981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0:43:43Z</dcterms:created>
  <dc:creator>Fyall</dc:creator>
  <dc:description/>
  <dc:language>en-US</dc:language>
  <cp:lastModifiedBy>fyallt</cp:lastModifiedBy>
  <dcterms:modified xsi:type="dcterms:W3CDTF">2009-10-05T17:08:35Z</dcterms:modified>
  <cp:revision>13</cp:revision>
  <dc:subject/>
  <dc:title>Lord of the Flies</dc:title>
</cp:coreProperties>
</file>