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6D3-E7D3-41B4-953C-AA38432F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CDD-02AD-409B-AF74-4743083C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328-9DA7-4531-AC4F-350E4C79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561-3741-484E-91D2-2B1DB55C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8A1-CD9B-424A-94A1-6E74AC20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E72-9292-4405-8854-31A975A2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0B4-BEBE-4CDD-937A-0303CBF9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4CD-2C3D-429D-BB4C-9A029994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92C-4505-4635-9746-DF498AC4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DAE-640E-4EF9-B8FC-C818FF79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326-EAD8-463E-A365-53FECD6A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F8D-0B5E-40A5-8674-25D2DF54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DC64-9E98-4000-B7DC-DD9E087F5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Lord of the Flies 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Vocabulary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Times New Roman"/>
              </a:rPr>
              <a:t>indignant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outraged at sense of injusti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declivitie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downward slop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ebulli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xcitement / exuber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with the martyred expression of a parent who has to keep up with the senseless ebullience of the children 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hronic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constantl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present, recurr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belliger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aggressive, looking for a figh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hastisemen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punishme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impalp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difficult to grasp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erran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misbehav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onvulsion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when your muscles contract suddenly, violentl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apex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pointed end or tip of someth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ffulg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agoon attacked them with blinding effulgence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ustre, brigh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</a:rPr>
              <a:t>derisiv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mocking, scornfu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bidd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bedi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digo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2349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 colour .. a deep violet-b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unknown indigo of infinite possibility.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tempestuous</a:t>
            </a:r>
            <a:br>
              <a:rPr sz="6000"/>
            </a:b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violent or storm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A shadow fronted him tempestuously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termin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76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emingly endless, long drawn out, usually because bo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An interminable dawn faded the stars out…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mphatic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 adjective that means showing empha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reply was too emphatic for anyone to doubt them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hasm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ep crack in the ear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auseway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ised path or road across wa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fulcrum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lph used one hand as fulcrum and pressed down with the other till the shell rose,dripping, and Piggy could make a grab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int on which a lever r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was a slight, furtive boy whom no one knew, who kept to himself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althy , sly, wanting to be hid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</a:rPr>
              <a:t>vicissitud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hange of circumstances esp. of condition or fortu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foliag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leav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pallo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</a:rPr>
              <a:t>paleness, usually of fa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ontrit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very sorry for having done some thing wro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incredulou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unwilling to believ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9:16:30Z</dcterms:created>
  <dc:creator>FYAllT</dc:creator>
  <dc:description/>
  <dc:language>en-US</dc:language>
  <cp:lastModifiedBy>fyallt</cp:lastModifiedBy>
  <dcterms:modified xsi:type="dcterms:W3CDTF">2009-09-02T11:19:02Z</dcterms:modified>
  <cp:revision>11</cp:revision>
  <dc:subject/>
  <dc:title>Lord of the Flies Vocabulary</dc:title>
</cp:coreProperties>
</file>