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whoosh.wav" ContentType="audio/x-wav"/>
  <Override PartName="/ppt/media/camera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DA99-B124-4355-9590-74386BF47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C449-2015-4726-94F9-7CC807A5C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A220-4E29-474E-B515-77977C06A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F1A8-556D-4CFB-862E-019B25DE8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7478-A21F-46BD-8BA1-194473734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4D86-2CDE-4815-931E-C9543A222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DDCB-3FB1-4B33-A0D5-0BA0F9342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DE54-1025-4771-A61C-ECB3D16F3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7A01-911A-49D0-97E6-43537F961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9BF5-760F-4975-A08A-19189DCC4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B703-DD06-4133-9F0B-27084B6C7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D200-8E05-4F8D-BC3A-E2E5F5402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C4402-AAEB-4CE5-910E-4D0F9FF195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Lord of the Flies </a:t>
            </a: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Vocabulary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411280" y="3645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ff0000"/>
                </a:solidFill>
                <a:latin typeface="Times New Roman"/>
              </a:rPr>
              <a:t>indignant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00"/>
                </a:solidFill>
                <a:latin typeface="Times New Roman"/>
              </a:rPr>
              <a:t>outraged at sense of injustic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0000"/>
                </a:solidFill>
                <a:latin typeface="Times New Roman"/>
              </a:rPr>
              <a:t>declivities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00"/>
                </a:solidFill>
                <a:latin typeface="Times New Roman"/>
              </a:rPr>
              <a:t>downward slope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" dur="2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0000"/>
                </a:solidFill>
                <a:latin typeface="Times New Roman"/>
              </a:rPr>
              <a:t>ebullience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403280" y="2060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excitement / exuberanc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Times New Roman"/>
              </a:rPr>
              <a:t>“…</a:t>
            </a: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with the martyred expression of a parent who has to keep up with the senseless ebullience of the children …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0000"/>
                </a:solidFill>
                <a:latin typeface="Times New Roman"/>
              </a:rPr>
              <a:t>chronic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ffff"/>
                </a:solidFill>
                <a:latin typeface="Times New Roman"/>
              </a:rPr>
              <a:t>constantly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5400" spc="-1" strike="noStrike">
                <a:solidFill>
                  <a:srgbClr val="00ffff"/>
                </a:solidFill>
                <a:latin typeface="Times New Roman"/>
              </a:rPr>
              <a:t>present, recurring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0000"/>
                </a:solidFill>
                <a:latin typeface="Times New Roman"/>
              </a:rPr>
              <a:t>belligerence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00"/>
                </a:solidFill>
                <a:latin typeface="Times New Roman"/>
              </a:rPr>
              <a:t>aggressive, looking for a fight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0000"/>
                </a:solidFill>
                <a:latin typeface="Times New Roman"/>
              </a:rPr>
              <a:t>chastisement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00"/>
                </a:solidFill>
                <a:latin typeface="Times New Roman"/>
              </a:rPr>
              <a:t>punishment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0000"/>
                </a:solidFill>
                <a:latin typeface="Times New Roman"/>
              </a:rPr>
              <a:t>impalpable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ffff"/>
                </a:solidFill>
                <a:latin typeface="Times New Roman"/>
              </a:rPr>
              <a:t>difficult to grasp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0000"/>
                </a:solidFill>
                <a:latin typeface="Times New Roman"/>
              </a:rPr>
              <a:t>errant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00"/>
                </a:solidFill>
                <a:latin typeface="Times New Roman"/>
              </a:rPr>
              <a:t>misbehaving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21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0000"/>
                </a:solidFill>
                <a:latin typeface="Times New Roman"/>
              </a:rPr>
              <a:t>convulsion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2421000"/>
            <a:ext cx="6400800" cy="32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00"/>
                </a:solidFill>
                <a:latin typeface="Times New Roman"/>
              </a:rPr>
              <a:t>when your muscles contract suddenly, violently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55640" y="119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0000"/>
                </a:solidFill>
                <a:latin typeface="Times New Roman"/>
              </a:rPr>
              <a:t>apex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2708280"/>
            <a:ext cx="6400800" cy="29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ffff"/>
                </a:solidFill>
                <a:latin typeface="Times New Roman"/>
              </a:rPr>
              <a:t>pointed end or tip of something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effulgence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lagoon attacked them with blinding effulgence”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ustre, brightnes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0000"/>
                </a:solidFill>
                <a:latin typeface="Times New Roman"/>
              </a:rPr>
              <a:t>derisive</a:t>
            </a:r>
            <a:endParaRPr b="0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00"/>
                </a:solidFill>
                <a:latin typeface="Times New Roman"/>
              </a:rPr>
              <a:t>mocking, scornful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3" dur="2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8" dur="2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biddable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obedien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indigo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32000" y="2349000"/>
            <a:ext cx="64008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a colour .. a deep violet-blu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“…</a:t>
            </a: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the unknown indigo of infinite possibility..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0000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tempestuous</a:t>
            </a:r>
            <a:br>
              <a:rPr sz="6000"/>
            </a:b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32000" y="19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violent or storm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0" i="1" lang="en-US" sz="4000" spc="-1" strike="noStrike">
                <a:solidFill>
                  <a:srgbClr val="ffff00"/>
                </a:solidFill>
                <a:latin typeface="Times New Roman"/>
              </a:rPr>
              <a:t>A shadow fronted him tempestuously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”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436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interminable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476360" y="2781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eemingly endless, long drawn out, usually because bor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An interminable dawn faded the stars out…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emphatic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403280" y="2060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An adjective that means showing emphasi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The reply was too emphatic for anyone to doubt them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chasm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ep crack in the earth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causeway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aised path or road across wat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fulcrum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alph used one hand as fulcrum and pressed down with the other till the shell rose,dripping, and Piggy could make a grab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point on which a lever res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urtiv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re was a slight, furtive boy whom no one knew, who kept to himself…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ealthy , sly, wanting to be hidd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29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0000"/>
                </a:solidFill>
                <a:latin typeface="Times New Roman"/>
              </a:rPr>
              <a:t>vicissitude</a:t>
            </a:r>
            <a:endParaRPr b="0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2924280"/>
            <a:ext cx="6400800" cy="27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Change of circumstances esp. of condition or fortun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0000"/>
                </a:solidFill>
                <a:latin typeface="Times New Roman"/>
              </a:rPr>
              <a:t>foliage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ffff"/>
                </a:solidFill>
                <a:latin typeface="Times New Roman"/>
              </a:rPr>
              <a:t>leave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0000"/>
                </a:solidFill>
                <a:latin typeface="Times New Roman"/>
              </a:rPr>
              <a:t>pallor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Times New Roman"/>
              </a:rPr>
              <a:t>paleness, usually of fac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0000"/>
                </a:solidFill>
                <a:latin typeface="Times New Roman"/>
              </a:rPr>
              <a:t>contrite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2421000"/>
            <a:ext cx="6400800" cy="32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ffff"/>
                </a:solidFill>
                <a:latin typeface="Times New Roman"/>
              </a:rPr>
              <a:t>very sorry for having done some thing wrong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0000"/>
                </a:solidFill>
                <a:latin typeface="Times New Roman"/>
              </a:rPr>
              <a:t>incredulous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ffff"/>
                </a:solidFill>
                <a:latin typeface="Times New Roman"/>
              </a:rPr>
              <a:t>unwilling to believ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1T09:16:30Z</dcterms:created>
  <dc:creator>FYAllT</dc:creator>
  <dc:description/>
  <dc:language>en-US</dc:language>
  <cp:lastModifiedBy>fyallt</cp:lastModifiedBy>
  <dcterms:modified xsi:type="dcterms:W3CDTF">2009-09-02T11:19:02Z</dcterms:modified>
  <cp:revision>11</cp:revision>
  <dc:subject/>
  <dc:title>Lord of the Flies Vocabulary</dc:title>
</cp:coreProperties>
</file>