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593-5819-46B3-9C26-8CC69B34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0D4-D011-4C4C-BBE1-33F9D46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223-C195-4A1F-ABA1-F97D76F6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234-59DF-447F-A6D8-3A8C451D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832C6-D8B7-4127-8B17-4BD70150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2A98B-5EF4-4BA5-B4E6-7CE16FA2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D43DD-6E00-4A82-AB44-0E2E4FBF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776A9-4ADD-489B-8E6E-DFF3984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30D4-1E49-4D4A-9072-34C65BE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69E24-E0DE-4F4C-8EB7-9C97DE9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2806-5C8E-488E-AF6B-1463E0BC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4B2-3507-4F10-9066-EBABC30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F1250-3ACF-468F-A0CC-3C7BC97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BB59-050A-43E5-8919-4042B2A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A426E-9D91-4D8D-921D-870D920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44CA2-5572-4745-9AFC-B5A56704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3A318-BA6D-4D3C-BA98-74609346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3E8-7BF1-4354-B01C-2D8C2176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65E-284E-4105-8FD0-A2E26CE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AD4-6378-4CE4-888E-96BA75F3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138-78C9-4548-B62D-0D064D2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5FC-B331-427A-81E0-51A85C5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35C-FEAB-4B0E-8B85-B7F44B5F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C56-2B41-4867-BD04-0F895DEA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AFB7-F640-4FAA-AA9D-BE183E46E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9A32-2B9E-4BF9-A8BA-A3C53404D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ord of the Fl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y 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n October 1997 Luke Woodham , aged 16, stabbed his mother, drove to school in her car and shot his sweetheart who had spurned him along with another girl. The police later found a “manifesto” he had writ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      “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 </a:t>
            </a:r>
            <a:r>
              <a:rPr b="0" i="1" lang="en-GB" sz="2800" spc="-1" strike="noStrike">
                <a:solidFill>
                  <a:srgbClr val="ffffff"/>
                </a:solidFill>
                <a:latin typeface="Tempus Sans ITC"/>
              </a:rPr>
              <a:t>am not insane … for murder is not weak or slow-witted.  Murder is gutsy and daring …. I do this to show society : Push and we will push ba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In March 1998 In Jonesboro Arkansas, two young males aged 11 and 13, shot dead 4 children and one adul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 report into the incident comment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y had laid an unsophisticated but effective trap; they set off the fire alarm in order to send the children into the playground to face the gunfire. Te Jonesboro boys had decided to kit themselves out in fatigues – even combat hats for the occas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Parallels to in “Lord of the Flies” is cl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young age of the boys who batter Simon to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hilling way they dress themselves up as part of the gang and smear blood on their 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alculating way Ralph is flushed out of the forest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pleasure Roger takes in causing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Adventure books referred to: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reasure Island” by R.L Steve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his is about a young lad, Jack Hawkins, who goes on a treasure seeking voyage. He is kidnapped by pirates but his courage and loyalty bring about a happy 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944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Swallows and Amazons”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by Arthur Ran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541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is novel is set in the Lake District in England. It tells of the adventures a group of children have as they explore the islands by boat. In many ways it portrays a perfect childhood, full of fun, in which being “decent” always brings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3056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56360" y="4164120"/>
            <a:ext cx="2627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09960" cy="504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03228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ral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This is the novel most closely linked to Lord of the Flies. It is about three British boy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Ralph (15), Jack (18) and Peterkin (14),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who are shipwrecked on a desert island in the South Pacifi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Ralph is the centre figure and tells the 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Jack is the he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Peterkin is funny and clever (almost like a popular Piggy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ire on the island is a symbol for safety but also for destruction. Traditionally it represents hope, warmth and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ere is another two-edged symbol. What is i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84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1987560"/>
            <a:ext cx="5977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52680" cy="41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-38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98100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in 1911 in Cornw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orld War 2, he joined Royal 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 he returned to teaching and began writing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4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rd of the Fl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first and most successful 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83 awarded Nobel prize for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4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273320"/>
            <a:ext cx="6697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28480"/>
            <a:ext cx="7272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177920"/>
            <a:ext cx="5400720" cy="40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6681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Golding wrote the novel after his experiences in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e was horrified by the man’s cruelty to fellow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is novel explores the potential for evil in all of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Americans dropped an atomic bomb on Nagasaki and Hirosh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889080" cy="36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30640" cy="33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552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ewish Concentra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19240" cy="352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496728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panese P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novel is an allegor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What does that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 tells a story on a superficial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Underneath it has a deeper meaning and an explicit moral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haracters, incidents and images stand for something else in the “real wor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e.g. the conch stands for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97080" cy="298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6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ome people see the boys’ life on the island as parallel to the rise off fascism in Germany before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ck and the hunters represent Hitler’s Y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733920"/>
            <a:ext cx="3728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ontemporary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n 1992 Jamie Bulger was lured away from his mother in a shopping centre By two boys aged 10 years. He was tortured and they battered him to death. With this act came a turning point in public perception of children; the notion of childhood innocence d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80792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96056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19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43:43Z</dcterms:created>
  <dc:creator>Fyall</dc:creator>
  <dc:description/>
  <dc:language>en-US</dc:language>
  <cp:lastModifiedBy>fyallt</cp:lastModifiedBy>
  <dcterms:modified xsi:type="dcterms:W3CDTF">2009-10-05T17:08:35Z</dcterms:modified>
  <cp:revision>13</cp:revision>
  <dc:subject/>
  <dc:title>Lord of the Flies</dc:title>
</cp:coreProperties>
</file>