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3CA-763F-4040-8C2E-2BF70A99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174-170E-48C4-93E2-227ABE64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B41-7DF0-4C14-9D77-F73E8C86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336-D058-40A0-9EA6-C5D828F8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B2840-6E94-41CC-AE5A-403D64E2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C332E-110F-4140-BC5B-CDC39786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AC42-9BB5-4E26-9476-9DB2E06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2F848-9FB3-4C42-9B24-C5D139C2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107BB-6AA0-40C2-96B1-6FC49E81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CAEA4-077C-4D56-849A-5C4BEE7D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15088-16D3-413E-ACD0-C364B92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938-9746-478C-BAE7-B35D7B5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85E73-E892-41EF-89EC-8F23518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65711-649E-40EF-B1C9-4C3B03C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C00D-DB5F-4169-AB4C-DE45EC5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B0A9F-B7BB-4E3F-B3CA-5D6D5C32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EC71-6A80-4571-AF50-DB7729CD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70B-1005-41E4-AC7E-5D9F551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2EB-423E-491B-8E37-E0D6E08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1CD-A5D3-403B-90D2-D777FB1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303-2F00-493B-B625-7039DE98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84D-6173-4B3E-A7B6-83D2D46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451-376D-49EE-A181-0AAA5E4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0C4-205C-483E-AFEE-5DB56A7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635-D41C-4A46-A407-6709FA134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555-1512-4EA9-9791-79DF8D8D2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ord of the Fli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y 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n October 1997 Luke Woodham , aged 16, stabbed his mother, drove to school in her car and shot his sweetheart who had spurned him along with another girl. The police later found a “manifesto” he had writ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       “</a:t>
            </a:r>
            <a:r>
              <a:rPr b="0" lang="en-GB" sz="2800" spc="-1" strike="noStrike">
                <a:solidFill>
                  <a:srgbClr val="ffffff"/>
                </a:solidFill>
                <a:latin typeface="Tempus Sans ITC"/>
              </a:rPr>
              <a:t>I </a:t>
            </a:r>
            <a:r>
              <a:rPr b="0" i="1" lang="en-GB" sz="2800" spc="-1" strike="noStrike">
                <a:solidFill>
                  <a:srgbClr val="ffffff"/>
                </a:solidFill>
                <a:latin typeface="Tempus Sans ITC"/>
              </a:rPr>
              <a:t>am not insane … for murder is not weak or slow-witted.  Murder is gutsy and daring …. I do this to show society : Push and we will push bac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In March 1998 In Jonesboro Arkansas, two young males aged 11 and 13, shot dead 4 children and one adul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 report into the incident comment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y had laid an unsophisticated but effective trap; they set off the fire alarm in order to send the children into the playground to face the gunfire. Te Jonesboro boys had decided to kit themselves out in fatigues – even combat hats for the occas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Parallels to in “Lord of the Flies” is cl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young age of the boys who batter Simon to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hilling way they dress themselves up as part of the gang and smear blood on their f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calculating way Ralph is flushed out of the forest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pleasure Roger takes in causing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mpus Sans ITC"/>
              </a:rPr>
              <a:t>Adventure books referred to:</a:t>
            </a:r>
            <a:br>
              <a:rPr sz="36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reasure Island” by R.L Steve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his is about a young lad, Jack Hawkins, who goes on a treasure seeking voyage. He is kidnapped by pirates but his courage and loyalty bring about a happy 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944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empus Sans ITC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Swallows and Amazons”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by Arthur Rans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541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is novel is set in the Lake District in England. It tells of the adventures a group of children have as they explore the islands by boat. In many ways it portrays a perfect childhood, full of fun, in which being “decent” always brings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3056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156360" y="4164120"/>
            <a:ext cx="2627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09960" cy="504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03228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ral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empus Sans ITC"/>
              </a:rPr>
              <a:t>This is the novel most closely linked to Lord of the Flies. It is about three British boy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Ralph (15), Jack (18) and Peterkin (14),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empus Sans ITC"/>
              </a:rPr>
              <a:t>who are shipwrecked on a desert island in the South Pacific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Ralph is the centre figure and tells the 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Jack is the her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empus Sans ITC"/>
              </a:rPr>
              <a:t>Peterkin is funny and clever (almost like a popular Piggy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Fire on the island is a symbol for safety but also for destruction. Traditionally it represents hope, warmth and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There is another two-edged symbol. What is i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384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con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1987560"/>
            <a:ext cx="59770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52680" cy="41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-38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William Gol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98100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in 1911 in Cornwa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orld War 2, he joined Royal Nav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 he returned to teaching and began writing no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4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rd of the Fl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first and most successful 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83 awarded Nobel prize for Lit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4895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94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273320"/>
            <a:ext cx="6697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28480"/>
            <a:ext cx="727236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177920"/>
            <a:ext cx="5400720" cy="404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03280" y="90792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6681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Golding wrote the novel after his experiences in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e was horrified by the man’s cruelty to fellow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His novel explores the potential for evil in all of 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2900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57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he Americans dropped an atomic bomb on Nagasaki and Hirosh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889080" cy="363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4130640" cy="332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552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ewish Concentration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19240" cy="352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496728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panese P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The novel is an allegor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What does that me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 tells a story on a superficial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Underneath it has a deeper meaning and an explicit moral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haracters, incidents and images stand for something else in the “real wor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e.g. the conch stands for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97080" cy="298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36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ome people see the boys’ life on the island as parallel to the rise off fascism in Germany before WW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Jack and the hunters represent Hitler’s Y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932360" y="3733920"/>
            <a:ext cx="3728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Contemporary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empus Sans ITC"/>
              </a:rPr>
              <a:t>In 1992 Jamie Bulger was lured away from his mother in a shopping centre By two boys aged 10 years. He was tortured and they battered him to death. With this act came a turning point in public perception of children; the notion of childhood innocence d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180792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960560" cy="247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1981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0:43:43Z</dcterms:created>
  <dc:creator>Fyall</dc:creator>
  <dc:description/>
  <dc:language>en-US</dc:language>
  <cp:lastModifiedBy>fyallt</cp:lastModifiedBy>
  <dcterms:modified xsi:type="dcterms:W3CDTF">2009-10-05T17:08:35Z</dcterms:modified>
  <cp:revision>13</cp:revision>
  <dc:subject/>
  <dc:title>Lord of the Flies</dc:title>
</cp:coreProperties>
</file>