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A3BE-B67C-4445-A612-3852CDA11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342C-640D-4795-9002-D38D7DA9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94EC-BCAA-42F7-A152-84A56BA84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A3FE-E20A-46A4-96B3-FFDA386C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FA1A-6B91-474D-B60F-BE662E28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A79C-853D-481E-8641-D008BAC9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9124-EE60-4BFA-A518-3F067CEA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AE85-BE1D-4389-A47E-03A92777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7ED5-ED73-4938-8BC2-376C42A1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633A-C257-4A5B-842E-575BEB5E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51B3-5ABC-4DF1-B37C-448E3E5A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0E06-0AB4-4275-A15D-44944228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D138-0184-4137-A758-F115D8FCA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cbeth Act 1 Sc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ady Macbeth reads letter from Macb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92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vent her from having or showing any compassion and dec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the milk from her breasts and replace it with poison – replace any motherly, tender instincts with 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did Macbeth write the let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that Lady Macbeth would be able to enjoy the good news as soon a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793116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dy Macbeth is worried that her husband because he is: ”too full o’ th’ milk of human kindness”. What does she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 is too full of compassion and dec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es she mean when she talks of “The nearest way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quickest way - To murder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wait - act immedi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 knows her husband is ambitious but fears he lacks the necessary “illness”. What is t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 does she long for him to come home quickly? (2 reason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I may pour my spirits in thine ea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 can whisper her ideas to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hastise with the valour of my tongue / all that impedes the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 can persuade him to do what he’s too frightened to 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loquially = whip him into shape with her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news surprises her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king is coming to spend the night at their cas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words suggest she is planning to kill King Dunc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fatal entrance of Duncan under my battlemen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al … dea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5 things does she pray the evil spirits will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Unsex 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take away all her feminine qu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 her from top to toe with 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direst cruelties” (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st types of cruel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icken”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r blood so the she becomes hard and insen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4:16:23Z</dcterms:created>
  <dc:creator>fyallt</dc:creator>
  <dc:description/>
  <dc:language>en-US</dc:language>
  <cp:lastModifiedBy>fyallt</cp:lastModifiedBy>
  <dcterms:modified xsi:type="dcterms:W3CDTF">2009-01-07T14:42:07Z</dcterms:modified>
  <cp:revision>3</cp:revision>
  <dc:subject/>
  <dc:title>Macbeth Act 1 Sc 5</dc:title>
</cp:coreProperties>
</file>