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ED39-768E-470F-B0B8-C94D4DB25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4D34-A2A8-4F69-AD54-A323589C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94B9-610B-4E31-8D43-FBC4FABEA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A325-0355-4287-B684-0832EA489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3AD5-A6D5-4EAF-A720-D273A7C7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5D8F-B9B6-42ED-A5C9-0EBCE2A8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2070-9596-49D0-948D-51EFC05C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B727-EDBD-4E1B-94CB-CF3EAD1D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6FD9-E432-4231-84EA-354A60A1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B99E-146B-46A5-AEBD-9CC2F03E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3877-5F44-458E-8968-C4CB3EC4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27B0-3B3A-4E6A-BD27-BDADEF9C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321F-9B17-47CA-90DF-63C906643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cbeth Act 1 Sc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ady Macbeth reads letter from Macbe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924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vent her from having or showing any compassion and dec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the milk from her breasts and replace it with poison – replace any motherly, tender instincts with e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did Macbeth write the let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that Lady Macbeth would be able to enjoy the good news as soon a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793116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dy Macbeth is worried that her husband because he is: ”too full o’ th’ milk of human kindness”. What does she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 is too full of compassion and dec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es she mean when she talks of “The nearest way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quickest way - To murder the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wait - act immedi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 knows her husband is ambitious but fears he lacks the necessary “illness”. What is t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y does she long for him to come home quickly? (2 reason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I may pour my spirits in thine ear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 can whisper her ideas to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hastise with the valour of my tongue / all that impedes the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 can persuade him to do what he’s too frightened to 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loquially = whip him into shape with her ton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at news surprises her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king is coming to spend the night at their cas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words suggest she is planning to kill King Dunc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fatal entrance of Duncan under my battlemen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al … dea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5 things does she pray the evil spirits will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Unsex h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take away all her feminine qu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l her from top to toe with 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direst cruelties” (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st types of cruel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icken”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r blood so the she becomes hard and insen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4:16:23Z</dcterms:created>
  <dc:creator>fyallt</dc:creator>
  <dc:description/>
  <dc:language>en-US</dc:language>
  <cp:lastModifiedBy>fyallt</cp:lastModifiedBy>
  <dcterms:modified xsi:type="dcterms:W3CDTF">2009-01-07T14:42:07Z</dcterms:modified>
  <cp:revision>3</cp:revision>
  <dc:subject/>
  <dc:title>Macbeth Act 1 Sc 5</dc:title>
</cp:coreProperties>
</file>