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8AE-02A3-4A7F-ABF1-281A3259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C1E4-CDA1-42F4-AED2-BB1B26BE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089-5621-43BF-A79F-A5F37866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660-2553-4C15-9D58-722FC5DC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EED6-61E4-491A-956F-19588DD0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7A55-9E3A-4434-942B-1B1CAD5D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B80-6A19-4A6D-AC94-56CD799E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79BD-C2DA-4B9A-9C94-74801588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319-73A8-424E-AAAF-958A75B3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8891-4E8C-4E1C-A0B5-FA45CA8D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4D73-F1C3-4033-B5BA-52523F3D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2B6-93A3-4235-A73C-4780B547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192E-D243-4E0B-B956-29FD64E8D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cbeth Act 1 Sc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dy Macbeth reads letter from Macb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92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vent her from having or showing any compassion and dec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the milk from her breasts and replace it with poison – replace any motherly, tender instincts with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id Macbeth write the l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that Lady Macbeth would be able to enjoy the good news as soon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93116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dy Macbeth is worried that her husband because he is: ”too full o’ th’ milk of human kindness”. What does she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 is too full of compassion and dec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she mean when she talks of “The nearest way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quickest way - To murder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wait - act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knows her husband is ambitious but fears he lacks the necessary “illness”. What is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does she long for him to come home quickly? (2 reason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 may pour my spirits in thine ea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can whisper her ideas to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hastise with the valour of my tongue / all that impedes th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can persuade him to do what he’s too frightened to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oquially = whip him into shape with her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news surprises he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king is coming to spend the night at their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ords suggest she is planning to kill King Dunc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fatal entrance of Duncan under my battlem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al … dea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5 things does she pray the evil spirits will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Unsex 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take away all her feminine 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 her from top to toe with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irest cruelties” (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st types of cruel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icken”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 blood so the she becomes hard and in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4:16:23Z</dcterms:created>
  <dc:creator>fyallt</dc:creator>
  <dc:description/>
  <dc:language>en-US</dc:language>
  <cp:lastModifiedBy>fyallt</cp:lastModifiedBy>
  <dcterms:modified xsi:type="dcterms:W3CDTF">2009-01-07T14:42:07Z</dcterms:modified>
  <cp:revision>3</cp:revision>
  <dc:subject/>
  <dc:title>Macbeth Act 1 Sc 5</dc:title>
</cp:coreProperties>
</file>