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B87-4E57-4C74-8935-829207A2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4D3-12CB-4BF2-A2AC-97DE6DA4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1D6-5254-48E9-9D59-04ABDD3B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AD2-C5A9-4D54-B11B-A1398B47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ED5-35EB-46D9-B48F-160B1B42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87E-4E64-49E9-97F7-C24C18F7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C79-F55E-42CB-8D99-16D02E56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EDA-71F8-4341-B508-BBEBA390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715-011B-48B4-88D8-F421393C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647-0AE0-4EED-B811-8CCBEAAB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FE5-AC91-40DA-8FF6-B6FBA2D9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87F-AE55-447D-BA55-52393A9B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79D7-61AB-4F26-951F-6BC63EC9A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cbeth Act 1 Sc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dy Macbeth reads letter from Macb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92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 her from having or showing any compassion and de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the milk from her breasts and replace it with poison – replace any motherly, tender instincts with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id Macbeth write the l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that Lady Macbeth would be able to enjoy the good news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93116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dy Macbeth is worried that her husband because he is: ”too full o’ th’ milk of human kindness”. What does she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is too full of compassion and de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she mean when she talks of “The nearest way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quickest way - To murder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wait - act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knows her husband is ambitious but fears he lacks the necessary “illness”. What i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es she long for him to come home quickly? (2 reason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 may pour my spirits in thine ea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can whisper her ideas to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hastise with the valour of my tongue / all that impedes th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can persuade him to do what he’s too frightened 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oquially = whip him into shape with her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news surprises he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ing is coming to spend the night at their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ords suggest she is planning to kill King Dunc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fatal entrance of Duncan under my battle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al … dea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5 things does she pray the evil spirits will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Unsex 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take away all her feminine 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 her from top to toe with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irest cruelties” (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st types of cruel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icken”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 blood so the she becomes hard and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4:16:23Z</dcterms:created>
  <dc:creator>fyallt</dc:creator>
  <dc:description/>
  <dc:language>en-US</dc:language>
  <cp:lastModifiedBy>fyallt</cp:lastModifiedBy>
  <dcterms:modified xsi:type="dcterms:W3CDTF">2009-01-07T14:42:07Z</dcterms:modified>
  <cp:revision>3</cp:revision>
  <dc:subject/>
  <dc:title>Macbeth Act 1 Sc 5</dc:title>
</cp:coreProperties>
</file>