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351-0B69-4EAF-92BF-E2E04361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98D-8C6A-4772-BBB2-9E8035F4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E8E-2185-4296-B0B3-1716E7A0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BC2-F553-4B76-BB8F-00D28549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9B7-1613-4766-AD8B-D6982E4A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00B-EE4A-4B54-94B9-9BF6614A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6FF-CA28-4904-BCC0-116FCBDA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061-FD86-4EDD-B5F5-FAF9320E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723-DA64-4B5C-BF39-BA2957A6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C84-58C6-4BD1-95F9-CFAD5D9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AAB-A008-4692-AFCF-B085A21E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0E0-29BC-46EE-8A4F-724D1F8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4392-9896-4D1C-B943-BCDA261E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cbeth Act 1 Sc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dy Macbeth reads letter from Macb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92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 her from having or showing any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the milk from her breasts and replace it with poison – replace any motherly, tender instincts with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id Macbeth write the l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that Lady Macbeth would be able to enjoy the good new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93116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dy Macbeth is worried that her husband because he is: ”too full o’ th’ milk of human kindness”. What does she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 is too full of compassion and de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she mean when she talks of “The nearest wa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ckest way - To murder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wait - act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knows her husband is ambitious but fears he lacks the necessary “illness”. What i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es she long for him to come home quickly? (2 reason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 may pour my spirits in thine ea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whisper her ideas to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hastise with the valour of my tongue / all that impedes th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can persuade him to do what he’s too frightened 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oquially = whip him into shape with her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news surprises he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ing is coming to spend the night at their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ords suggest she is planning to kill King Dunc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fatal entrance of Duncan under my battle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al … dea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5 things does she pray the evil spirits will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Unsex 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ake away all her feminine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 her from top to toe with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irest cruelties” (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st types of cruel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icken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 blood so the she becomes hard and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23Z</dcterms:created>
  <dc:creator>fyallt</dc:creator>
  <dc:description/>
  <dc:language>en-US</dc:language>
  <cp:lastModifiedBy>fyallt</cp:lastModifiedBy>
  <dcterms:modified xsi:type="dcterms:W3CDTF">2009-01-07T14:42:07Z</dcterms:modified>
  <cp:revision>3</cp:revision>
  <dc:subject/>
  <dc:title>Macbeth Act 1 Sc 5</dc:title>
</cp:coreProperties>
</file>