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C43D-DB39-4D10-B96F-3F1D902A8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B95C-9459-4059-BCA4-25E4265E4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B9AE-362D-408D-AFD0-E8A844CE0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1916-1004-4885-8EB3-2108593CB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826B-AC51-44AD-B137-9750D582C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858F-492C-425E-B556-0F1C345A1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9EDF-3892-455E-9CD8-ECFDD52D6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8196-1AA4-4F5A-B40A-87354A03E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D845-E57E-4DAD-8F23-6BD1FAB3A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A6EA-7A8E-4B4E-AB78-3CE87FD31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7FF9-FD65-4125-B621-623885FC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326A-B77E-4434-BA74-9D4DB94D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B5B85-F856-488C-A6AE-71C5C0909C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ff00"/>
                </a:solidFill>
                <a:latin typeface="Arial"/>
              </a:rPr>
              <a:t>Piggy - appea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Shorter than Ral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Fat: “The naked crooks of his knees were plump… He was … very fa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ck g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Has asth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Piggy – before arriv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Was called “Piggy” at school  and he did’t like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n-GB" sz="2800" spc="-1" strike="noStrike">
                <a:solidFill>
                  <a:srgbClr val="ffff00"/>
                </a:solidFill>
                <a:latin typeface="Arial"/>
              </a:rPr>
              <a:t>I don’t care what they call me,” he said confidentially, so long as they don’t call me what they used to call me in scho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Brought up by an aunt: who owned a sweet sh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en-GB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n-GB" sz="2800" spc="-1" strike="noStrike">
                <a:solidFill>
                  <a:srgbClr val="ffff00"/>
                </a:solidFill>
                <a:latin typeface="Arial"/>
              </a:rPr>
              <a:t>She kept a sweetshop. I used to get ever so many sweets . As many as I like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Father dead … doesn’t know about his m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Piggy - thoughts about islan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Worried they won’t be rescu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Realizes that nobody knows where they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n-GB" sz="2800" spc="-1" strike="noStrike">
                <a:solidFill>
                  <a:srgbClr val="ffff00"/>
                </a:solidFill>
                <a:latin typeface="Arial"/>
              </a:rPr>
              <a:t>They’re all dead … Nobody don’t know we’re here. Your dad don’t know, nobody don’t know ----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Piggy  - action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Very friendly towards Ral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Shows Ralph how to blow the con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He can’t sw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He moved amongst the boys asking their names trying to behave like and ad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Piggy –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Not as well spoken as the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You told ‘em,” he says to Ral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Relationship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Not really accepted by Ralp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Made fun of by Jac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Is sympathetic towards the little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Tries to act like a responsible ad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Anything el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Already stands out as a “loner” and as an outsi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He has made sensible suggestions that Ralph has followed but he isn’t given any of the credit for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Seems strangely proud of the fact he wears glasses and has asthma (p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4:48:33Z</dcterms:created>
  <dc:creator>fyallt</dc:creator>
  <dc:description/>
  <dc:language>en-US</dc:language>
  <cp:lastModifiedBy>fyallt</cp:lastModifiedBy>
  <dcterms:modified xsi:type="dcterms:W3CDTF">2008-10-20T15:21:43Z</dcterms:modified>
  <cp:revision>2</cp:revision>
  <dc:subject/>
  <dc:title>Piggy</dc:title>
</cp:coreProperties>
</file>