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824-96E4-47B0-9710-3A1E6EAE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EDC-BD11-4B81-8781-376FCA00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7AE-C887-479B-8F38-9FE68391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091-46FC-4F08-AE18-0D2B3778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5AD-8F78-4B96-8EE9-23D5AFD5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0F5-DDD6-4417-94ED-72A9545B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417-B129-471D-A0E0-5C75A0A9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2FD-16E0-4F0A-A7A4-2E64A4FE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BFC-75D2-4FD8-9AF2-690D78A0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285-AD24-47A9-ADE4-8B671BD1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D41-919F-4CAD-B84E-9560D35F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887-CA94-49B0-A313-97A95127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1378-589C-491D-8F2C-AAEB8130A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Arial"/>
              </a:rPr>
              <a:t>Piggy - app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horter than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at: “The naked crooks of his knees were plump… He was … very f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ck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as asth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ggy – before arr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as called “Piggy” at school  and he did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I don’t care what they call me,” he said confidentially, so long as they don’t call me what they used to call me in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ought up by an aunt: who owned a sweet 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he kept a sweetshop. I used to get ever so many sweets . As many as I lik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ther dead … doesn’t know about his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iggy - thoughts about isla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orried they won’t be resc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alizes that nobody knows where they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They’re all dead … Nobody don’t know we’re here. Your dad don’t know, nobody don’t know ----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iggy  - 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ery friendly towards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hows Ralph how to blow the co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can’t 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moved amongst the boys asking their names trying to behave like and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ggy –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as well spoken as th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You told ‘em,” he says to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Relationshi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really accepted by Ral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ade fun of by J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s sympathetic towards the littl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ries to act like a responsible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ything e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lready stands out as a “loner” and as an out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has made sensible suggestions that Ralph has followed but he isn’t given any of the credit fo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eems strangely proud of the fact he wears glasses and has asthma (p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4:48:33Z</dcterms:created>
  <dc:creator>fyallt</dc:creator>
  <dc:description/>
  <dc:language>en-US</dc:language>
  <cp:lastModifiedBy>fyallt</cp:lastModifiedBy>
  <dcterms:modified xsi:type="dcterms:W3CDTF">2008-10-20T15:21:43Z</dcterms:modified>
  <cp:revision>2</cp:revision>
  <dc:subject/>
  <dc:title>Piggy</dc:title>
</cp:coreProperties>
</file>