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6C1-F2D8-46C9-9A6A-52AADF65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154-D9F7-4FF1-9A7A-137C90A3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258-6476-40DA-A338-28A48AED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82E-60BE-40D5-AAB3-498403C8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6CF-CA52-4C5D-8850-1F0E08D2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674-314E-48FF-A605-5AF4BFF8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638-08A8-47E9-9B97-1EEF6BE6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9A5-21D9-4778-B67F-571A53EC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763-41D7-4B6C-9821-008BED62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268-1C90-4131-9E7C-25851447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388-75DC-447D-B28B-F2B87F0E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736-4CE9-4C08-B742-5C0A0CA7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2914-10D5-4EC4-8BDE-B3F02BDB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Piggy -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rter than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at: “The naked crooks of his knees were plump… He was … very f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ck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s 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before arr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as called “Piggy” at school  and he did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I don’t care what they call me,” he said confidentially, so long as they don’t call me what they used to call me in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ought up by an aunt: who owned a sweet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he kept a sweetshop. I used to get ever so many sweets . As many as I lik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ther dead … doesn’t know about hi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- thoughts about isla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orried they won’t be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alizes that nobody knows where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They’re all dead … Nobody don’t know we’re here. Your dad don’t know, nobody don’t know ----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 - 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ery friendly towards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ws Ralph how to blow the co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can’t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moved amongst the boys asking their names trying to behave like and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as well spoken as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 told ‘em,” he says to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lationshi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really accepted by Ral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ade fun of by J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sympathetic towards the littl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ries to act like a responsible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ything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lready stands out as a “loner” and as an out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has made sensible suggestions that Ralph has followed but he isn’t given any of the credit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ems strangely proud of the fact he wears glasses and has asthma (p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4:48:33Z</dcterms:created>
  <dc:creator>fyallt</dc:creator>
  <dc:description/>
  <dc:language>en-US</dc:language>
  <cp:lastModifiedBy>fyallt</cp:lastModifiedBy>
  <dcterms:modified xsi:type="dcterms:W3CDTF">2008-10-20T15:21:43Z</dcterms:modified>
  <cp:revision>2</cp:revision>
  <dc:subject/>
  <dc:title>Piggy</dc:title>
</cp:coreProperties>
</file>