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461-03E5-435D-8273-1EA605FF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3F1-4C5F-4796-AB13-524C2D28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3A1-F49D-4E01-8E42-E093DD75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6C7-59C9-42DD-9E0C-7D445931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552-721B-4C5D-8EA3-70E5ED6F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CB2-4DAF-4302-AEFA-8D934BD8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7F8-EC46-4931-8421-51B12F3C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BF0-16F6-4B6E-A5B8-F44FE39B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666-EB8E-47F3-A531-9B08E6F0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595-26D8-4F20-8411-129D3435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4B4-AD54-4398-8BC6-1FBB71D8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809-3D88-4F40-A750-F8294DC2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FBEE-4068-4550-8965-87A6043CD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Arial"/>
              </a:rPr>
              <a:t>Piggy - app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rter than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at: “The naked crooks of his knees were plump… He was … very f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ck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as asth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ggy – before arr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as called “Piggy” at school  and he did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I don’t care what they call me,” he said confidentially, so long as they don’t call me what they used to call me in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ought up by an aunt: who owned a sweet 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he kept a sweetshop. I used to get ever so many sweets . As many as I lik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ther dead … doesn’t know about his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iggy - thoughts about isla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orried they won’t be resc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alizes that nobody knows where 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They’re all dead … Nobody don’t know we’re here. Your dad don’t know, nobody don’t know ----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iggy  - 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ery friendly towards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ws Ralph how to blow the co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can’t 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moved amongst the boys asking their names trying to behave like and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ggy –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as well spoken as th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You told ‘em,” he says to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Relationshi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really accepted by Ral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ade fun of by J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 sympathetic towards the littl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ries to act like a responsible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ything e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lready stands out as a “loner” and as an out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has made sensible suggestions that Ralph has followed but he isn’t given any of the credit fo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ems strangely proud of the fact he wears glasses and has asthma (p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4:48:33Z</dcterms:created>
  <dc:creator>fyallt</dc:creator>
  <dc:description/>
  <dc:language>en-US</dc:language>
  <cp:lastModifiedBy>fyallt</cp:lastModifiedBy>
  <dcterms:modified xsi:type="dcterms:W3CDTF">2008-10-20T15:21:43Z</dcterms:modified>
  <cp:revision>2</cp:revision>
  <dc:subject/>
  <dc:title>Piggy</dc:title>
</cp:coreProperties>
</file>