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7DE-F315-4F2A-B149-E8A8D7CB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3FC-C361-4CD5-978F-D060AD1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3A5-5197-44D2-AB17-77A92E76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54-23C2-4216-8218-BA268671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F1F-1F0F-4A46-BCA2-74EB643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C29-24A7-455A-AD07-35E6BA3E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9F7-AEF5-4056-8406-581B59A0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701-4D9C-4A12-BAA1-7DED57AF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818-2DCC-4E55-B279-B196A1B7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631-DE1E-4D08-89E4-D33CBF6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54C-0BCF-4A1F-A9EA-E28BFD1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6CE-C5AD-4F6B-AD6B-1B54CFF0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5FD2-12EE-4CBD-8FE3-F6DDAA36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Piggy -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rter than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at: “The naked crooks of his knees were plump… He was … very f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ck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s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before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called “Piggy” at school  and he did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 don’t care what they call me,” he said confidentially, so long as they don’t call me what they used to call me in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ught up by an aunt: who owned a swee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he kept a sweetshop. I used to get ever so many sweets . As many as I lik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ther dead … doesn’t know about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- thoughts about isla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orried they won’t be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lizes that nobody knows wher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They’re all dead … Nobody don’t know we’re here. Your dad don’t know, nobody don’t know ---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 - 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ery friendly towards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s Ralph how to blow the co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moved amongst the boys asking their names trying to behave like and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as well spoken as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told ‘em,” he says to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lationsh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really accepted by Ral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de fun of by J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sympathetic towards the littl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ies to act like a responsible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ready stands out as a “loner” and as an out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has made sensible suggestions that Ralph has followed but he isn’t given any of the credit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ems strangely proud of the fact he wears glasses and has asthma (p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4:48:33Z</dcterms:created>
  <dc:creator>fyallt</dc:creator>
  <dc:description/>
  <dc:language>en-US</dc:language>
  <cp:lastModifiedBy>fyallt</cp:lastModifiedBy>
  <dcterms:modified xsi:type="dcterms:W3CDTF">2008-10-20T15:21:43Z</dcterms:modified>
  <cp:revision>2</cp:revision>
  <dc:subject/>
  <dc:title>Piggy</dc:title>
</cp:coreProperties>
</file>