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528-3EC9-4F8A-BD00-CED73912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EC6-F9EB-4AC1-B978-9C63DD0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A7-7A4D-45BB-8F7D-93FB5BEF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ED0-BCDC-4053-8854-FE1B5903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316-8535-443D-91E4-5FF1725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894-3FF7-4216-A91D-4CDB97A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60F-7F93-426F-ABB8-F959B07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3DB-19CC-407B-B71C-3D53BAA0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0B6-20F5-4784-8676-82D73D3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E4C-03C0-4343-B479-2CD62B1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157-8B3D-415A-A4B0-93850F1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020-420F-4ED7-8EF1-C298C95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8E2-700E-4647-9371-55AE6AD2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Piggy - 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rter than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at: “The naked crooks of his knees were plump… He was … very f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ck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s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before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called “Piggy” at school  and he did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I don’t care what they call me,” he said confidentially, so long as they don’t call me what they used to call me in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ught up by an aunt: who owned a sweet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he kept a sweetshop. I used to get ever so many sweets . As many as I lik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ther dead … doesn’t know about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- thoughts about isla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orried they won’t be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lizes that nobody knows wher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They’re all dead … Nobody don’t know we’re here. Your dad don’t know, nobody don’t know ----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iggy  - 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ery friendly towards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hows Ralph how to blow the co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can’t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moved amongst the boys asking their names trying to behave like and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ggy –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as well spoken as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 told ‘em,” he says to Ra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lationsh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really accepted by Ral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ade fun of by J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sympathetic towards the littl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ries to act like a responsible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lready stands out as a “loner” and as an out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e has made sensible suggestions that Ralph has followed but he isn’t given any of the credit fo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ems strangely proud of the fact he wears glasses and has asthma (p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4:48:33Z</dcterms:created>
  <dc:creator>fyallt</dc:creator>
  <dc:description/>
  <dc:language>en-US</dc:language>
  <cp:lastModifiedBy>fyallt</cp:lastModifiedBy>
  <dcterms:modified xsi:type="dcterms:W3CDTF">2008-10-20T15:21:43Z</dcterms:modified>
  <cp:revision>2</cp:revision>
  <dc:subject/>
  <dc:title>Piggy</dc:title>
</cp:coreProperties>
</file>