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DE9-EBE6-41A1-8A90-7C1D80B9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AFE-6D1F-497C-A507-0551F0D6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E00-A150-4040-BBEF-6BAB322D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0BA-4AA2-4DD2-97A4-AA4C6239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CE3-DAA1-43A3-8B11-80A2EA0A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771-0AFB-4778-B37F-D9EA0240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924-2196-4B15-AA3E-F8F2B9E3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1EB-B594-4C3E-9B7C-26D9D598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2AB-01C2-4B59-96EC-A27B654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01D-5D2D-4FE1-9CAF-1B7D0D6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B43-6511-4D67-BCFE-3FF3C0F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57F-07BD-4E38-941F-84F885B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1E7-01E0-467D-B154-2C152AB348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WallaceS2</cp:lastModifiedBy>
  <dcterms:modified xsi:type="dcterms:W3CDTF">2010-03-23T15:53:35Z</dcterms:modified>
  <cp:revision>14</cp:revision>
  <dc:subject/>
  <dc:title>PowerPoint Presentation</dc:title>
</cp:coreProperties>
</file>