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9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6.jpeg" ContentType="image/jpeg"/>
  <Override PartName="/ppt/media/image28.wmf" ContentType="image/x-wmf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5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E8B-5B9A-4B0B-937C-E0F00139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B39-5C1F-49FF-8B1E-ACD5C291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DCC4-1265-4E6B-94BE-E63B7418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644-150E-442F-914A-AACB89D9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651-12E2-4456-9BFB-A514DCB1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EC1-FB09-4F5B-9649-CBCDE501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5B6-CCEA-477F-BBF6-4EE44D6E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5AEE-4377-4471-8F8C-3D671820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9B0-F812-4476-89DB-40592527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F71-68B0-46E0-ADD5-9B31568A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2B25-9F2B-4B6A-870C-2AFCD713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427-D9EA-48C8-A72A-47916AD4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66F9-1F36-405D-B5CA-66F7652ED1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2952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‘</a:t>
            </a: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Macbeth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Pictorial Re-c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990720"/>
            <a:ext cx="5410080" cy="4114800"/>
          </a:xfrm>
          <a:prstGeom prst="wedgeEllipseCallout">
            <a:avLst>
              <a:gd name="adj1" fmla="val -63291"/>
              <a:gd name="adj2" fmla="val 60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8360" y="2286000"/>
            <a:ext cx="386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76720" y="1758960"/>
            <a:ext cx="25891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1066680"/>
            <a:ext cx="5410080" cy="38102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6080" y="2286000"/>
            <a:ext cx="39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WARD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2531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6294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swords"/>
          <p:cNvPicPr/>
          <p:nvPr/>
        </p:nvPicPr>
        <p:blipFill>
          <a:blip r:embed="rId1"/>
          <a:stretch/>
        </p:blipFill>
        <p:spPr>
          <a:xfrm>
            <a:off x="2514600" y="13716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990720"/>
            <a:ext cx="76964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405320" cy="3468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30639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4084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178080" cy="358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39840" y="3825720"/>
            <a:ext cx="6853320" cy="2194200"/>
          </a:xfrm>
          <a:custGeom>
            <a:avLst/>
            <a:gdLst/>
            <a:ahLst/>
            <a:rect l="l" t="t" r="r" b="b"/>
            <a:pathLst>
              <a:path w="4317" h="1382">
                <a:moveTo>
                  <a:pt x="352" y="412"/>
                </a:moveTo>
                <a:cubicBezTo>
                  <a:pt x="381" y="369"/>
                  <a:pt x="496" y="277"/>
                  <a:pt x="553" y="259"/>
                </a:cubicBezTo>
                <a:cubicBezTo>
                  <a:pt x="636" y="180"/>
                  <a:pt x="859" y="171"/>
                  <a:pt x="966" y="163"/>
                </a:cubicBezTo>
                <a:cubicBezTo>
                  <a:pt x="1008" y="166"/>
                  <a:pt x="1050" y="164"/>
                  <a:pt x="1091" y="172"/>
                </a:cubicBezTo>
                <a:cubicBezTo>
                  <a:pt x="1107" y="175"/>
                  <a:pt x="1140" y="212"/>
                  <a:pt x="1149" y="220"/>
                </a:cubicBezTo>
                <a:cubicBezTo>
                  <a:pt x="1183" y="249"/>
                  <a:pt x="1219" y="280"/>
                  <a:pt x="1254" y="307"/>
                </a:cubicBezTo>
                <a:cubicBezTo>
                  <a:pt x="1331" y="367"/>
                  <a:pt x="1428" y="402"/>
                  <a:pt x="1523" y="422"/>
                </a:cubicBezTo>
                <a:cubicBezTo>
                  <a:pt x="1756" y="415"/>
                  <a:pt x="1982" y="402"/>
                  <a:pt x="2214" y="393"/>
                </a:cubicBezTo>
                <a:cubicBezTo>
                  <a:pt x="2292" y="381"/>
                  <a:pt x="2350" y="341"/>
                  <a:pt x="2425" y="326"/>
                </a:cubicBezTo>
                <a:cubicBezTo>
                  <a:pt x="2559" y="299"/>
                  <a:pt x="2681" y="285"/>
                  <a:pt x="2819" y="278"/>
                </a:cubicBezTo>
                <a:cubicBezTo>
                  <a:pt x="2841" y="275"/>
                  <a:pt x="2922" y="268"/>
                  <a:pt x="2953" y="259"/>
                </a:cubicBezTo>
                <a:cubicBezTo>
                  <a:pt x="3004" y="244"/>
                  <a:pt x="3007" y="233"/>
                  <a:pt x="3059" y="211"/>
                </a:cubicBezTo>
                <a:cubicBezTo>
                  <a:pt x="3117" y="187"/>
                  <a:pt x="3180" y="170"/>
                  <a:pt x="3241" y="153"/>
                </a:cubicBezTo>
                <a:cubicBezTo>
                  <a:pt x="3261" y="147"/>
                  <a:pt x="3279" y="136"/>
                  <a:pt x="3299" y="134"/>
                </a:cubicBezTo>
                <a:cubicBezTo>
                  <a:pt x="3359" y="128"/>
                  <a:pt x="3420" y="127"/>
                  <a:pt x="3481" y="124"/>
                </a:cubicBezTo>
                <a:cubicBezTo>
                  <a:pt x="3555" y="107"/>
                  <a:pt x="3565" y="75"/>
                  <a:pt x="3625" y="38"/>
                </a:cubicBezTo>
                <a:cubicBezTo>
                  <a:pt x="3637" y="30"/>
                  <a:pt x="3651" y="24"/>
                  <a:pt x="3664" y="19"/>
                </a:cubicBezTo>
                <a:cubicBezTo>
                  <a:pt x="3683" y="12"/>
                  <a:pt x="3721" y="0"/>
                  <a:pt x="3721" y="0"/>
                </a:cubicBezTo>
                <a:cubicBezTo>
                  <a:pt x="3808" y="6"/>
                  <a:pt x="3863" y="13"/>
                  <a:pt x="3942" y="28"/>
                </a:cubicBezTo>
                <a:cubicBezTo>
                  <a:pt x="3980" y="44"/>
                  <a:pt x="4017" y="63"/>
                  <a:pt x="4057" y="76"/>
                </a:cubicBezTo>
                <a:cubicBezTo>
                  <a:pt x="4070" y="95"/>
                  <a:pt x="4091" y="111"/>
                  <a:pt x="4096" y="134"/>
                </a:cubicBezTo>
                <a:cubicBezTo>
                  <a:pt x="4099" y="147"/>
                  <a:pt x="4098" y="161"/>
                  <a:pt x="4105" y="172"/>
                </a:cubicBezTo>
                <a:cubicBezTo>
                  <a:pt x="4121" y="200"/>
                  <a:pt x="4151" y="219"/>
                  <a:pt x="4163" y="249"/>
                </a:cubicBezTo>
                <a:cubicBezTo>
                  <a:pt x="4188" y="312"/>
                  <a:pt x="4172" y="283"/>
                  <a:pt x="4211" y="336"/>
                </a:cubicBezTo>
                <a:cubicBezTo>
                  <a:pt x="4230" y="389"/>
                  <a:pt x="4258" y="442"/>
                  <a:pt x="4288" y="489"/>
                </a:cubicBezTo>
                <a:cubicBezTo>
                  <a:pt x="4314" y="568"/>
                  <a:pt x="4304" y="527"/>
                  <a:pt x="4317" y="614"/>
                </a:cubicBezTo>
                <a:cubicBezTo>
                  <a:pt x="4314" y="678"/>
                  <a:pt x="4315" y="742"/>
                  <a:pt x="4307" y="806"/>
                </a:cubicBezTo>
                <a:cubicBezTo>
                  <a:pt x="4302" y="844"/>
                  <a:pt x="4260" y="894"/>
                  <a:pt x="4240" y="921"/>
                </a:cubicBezTo>
                <a:cubicBezTo>
                  <a:pt x="4172" y="1013"/>
                  <a:pt x="4108" y="1153"/>
                  <a:pt x="3990" y="1180"/>
                </a:cubicBezTo>
                <a:cubicBezTo>
                  <a:pt x="3944" y="1212"/>
                  <a:pt x="3890" y="1222"/>
                  <a:pt x="3837" y="1238"/>
                </a:cubicBezTo>
                <a:cubicBezTo>
                  <a:pt x="3690" y="1282"/>
                  <a:pt x="3549" y="1319"/>
                  <a:pt x="3395" y="1334"/>
                </a:cubicBezTo>
                <a:cubicBezTo>
                  <a:pt x="3246" y="1365"/>
                  <a:pt x="3095" y="1374"/>
                  <a:pt x="2944" y="1382"/>
                </a:cubicBezTo>
                <a:cubicBezTo>
                  <a:pt x="2674" y="1377"/>
                  <a:pt x="2422" y="1368"/>
                  <a:pt x="2157" y="1353"/>
                </a:cubicBezTo>
                <a:cubicBezTo>
                  <a:pt x="1978" y="1297"/>
                  <a:pt x="1717" y="1310"/>
                  <a:pt x="1523" y="1296"/>
                </a:cubicBezTo>
                <a:cubicBezTo>
                  <a:pt x="1421" y="1288"/>
                  <a:pt x="1318" y="1283"/>
                  <a:pt x="1216" y="1276"/>
                </a:cubicBezTo>
                <a:cubicBezTo>
                  <a:pt x="1168" y="1273"/>
                  <a:pt x="1072" y="1267"/>
                  <a:pt x="1072" y="1267"/>
                </a:cubicBezTo>
                <a:cubicBezTo>
                  <a:pt x="765" y="1273"/>
                  <a:pt x="469" y="1290"/>
                  <a:pt x="169" y="1238"/>
                </a:cubicBezTo>
                <a:cubicBezTo>
                  <a:pt x="132" y="1223"/>
                  <a:pt x="90" y="1213"/>
                  <a:pt x="64" y="1180"/>
                </a:cubicBezTo>
                <a:cubicBezTo>
                  <a:pt x="44" y="1155"/>
                  <a:pt x="25" y="1094"/>
                  <a:pt x="25" y="1094"/>
                </a:cubicBezTo>
                <a:cubicBezTo>
                  <a:pt x="0" y="935"/>
                  <a:pt x="10" y="1019"/>
                  <a:pt x="25" y="710"/>
                </a:cubicBezTo>
                <a:cubicBezTo>
                  <a:pt x="28" y="651"/>
                  <a:pt x="40" y="574"/>
                  <a:pt x="64" y="518"/>
                </a:cubicBezTo>
                <a:cubicBezTo>
                  <a:pt x="122" y="384"/>
                  <a:pt x="318" y="374"/>
                  <a:pt x="438" y="374"/>
                </a:cubicBezTo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391932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81480" y="1143000"/>
            <a:ext cx="342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d a line of……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946680" cy="3962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505320" y="1523880"/>
            <a:ext cx="438444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3849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909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790960" cy="3208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62520" y="838080"/>
            <a:ext cx="14508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572000" cy="3497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94720" y="606600"/>
            <a:ext cx="566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She should have die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5790960" cy="4241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1679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714400" cy="3824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747960" cy="3748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87640" y="2895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714400" cy="382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11840" y="518148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he Victo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3657600" cy="234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9920" y="2666880"/>
            <a:ext cx="10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35053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657600" cy="2529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26719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18288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rebuchet MS"/>
              </a:rPr>
              <a:t>The End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600120"/>
            <a:ext cx="5638680" cy="550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09680" y="198108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rebuchet MS"/>
              </a:rPr>
              <a:t>FA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150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067200" cy="33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6280" y="4495680"/>
            <a:ext cx="23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Dun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6160" y="838080"/>
            <a:ext cx="42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The 1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rebuchet MS"/>
              </a:rPr>
              <a:t>st</a:t>
            </a: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 Thane of Caw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38858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800240" y="144792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4095720" cy="525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86400" y="114300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303720" cy="434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05520" y="2209680"/>
            <a:ext cx="3200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1219320"/>
            <a:ext cx="5486400" cy="39621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9625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2:37:09Z</dcterms:created>
  <dc:creator>HoustonS</dc:creator>
  <dc:description/>
  <dc:language>en-US</dc:language>
  <cp:lastModifiedBy>WallaceS2</cp:lastModifiedBy>
  <dcterms:modified xsi:type="dcterms:W3CDTF">2010-03-23T15:53:35Z</dcterms:modified>
  <cp:revision>14</cp:revision>
  <dc:subject/>
  <dc:title>PowerPoint Presentation</dc:title>
</cp:coreProperties>
</file>