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9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11.jpeg" ContentType="image/jpeg"/>
  <Override PartName="/ppt/media/image23.wmf" ContentType="image/x-wmf"/>
  <Override PartName="/ppt/media/image8.png" ContentType="image/png"/>
  <Override PartName="/ppt/media/image6.jpeg" ContentType="image/jpeg"/>
  <Override PartName="/ppt/media/image28.wmf" ContentType="image/x-wmf"/>
  <Override PartName="/ppt/media/image27.wmf" ContentType="image/x-wmf"/>
  <Override PartName="/ppt/media/image21.jpeg" ContentType="image/jpeg"/>
  <Override PartName="/ppt/media/image16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5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6FD4-D11C-407E-AD13-9401D6C42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21C5-A1BB-40DE-84F0-DF2A21FF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4264-5513-4ED6-876F-2786D6D47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99CE-7894-46C4-AEFE-F787E4FC6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1BFC-B420-4385-8536-F3BC5C06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D480-8450-4B58-B15C-64C5FC32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9C9D-9DC1-4CC2-A33F-0FCB0254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0136-DE14-46AA-8A5B-23B9CFF2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8155-8EA7-442A-9A50-40329ED7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9FB5-B0FD-4495-9AD0-C88BAF22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0ED8-FE3E-470A-A902-159F7A9D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24B6-CAFF-484F-9740-6A690D1F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BB5D-9787-4FB8-BE96-4AF71D6D01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295280"/>
            <a:ext cx="6705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‘</a:t>
            </a: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Macbeth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Pictorial Re-c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7400" y="990720"/>
            <a:ext cx="5410080" cy="4114800"/>
          </a:xfrm>
          <a:prstGeom prst="wedgeEllipseCallout">
            <a:avLst>
              <a:gd name="adj1" fmla="val -63291"/>
              <a:gd name="adj2" fmla="val 6076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98360" y="2286000"/>
            <a:ext cx="3862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ARN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BD05631_" descr=""/>
          <p:cNvPicPr/>
          <p:nvPr/>
        </p:nvPicPr>
        <p:blipFill>
          <a:blip r:embed="rId1"/>
          <a:stretch/>
        </p:blipFill>
        <p:spPr>
          <a:xfrm>
            <a:off x="3276720" y="1758960"/>
            <a:ext cx="258912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05120" y="1066680"/>
            <a:ext cx="5410080" cy="38102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6080" y="2286000"/>
            <a:ext cx="390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WARD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big_make-face-angry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525312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ShiningMurder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6294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dagger" descr="swords"/>
          <p:cNvPicPr/>
          <p:nvPr/>
        </p:nvPicPr>
        <p:blipFill>
          <a:blip r:embed="rId1"/>
          <a:stretch/>
        </p:blipFill>
        <p:spPr>
          <a:xfrm>
            <a:off x="2514600" y="13716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38080" y="990720"/>
            <a:ext cx="769644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00"/>
                </a:solidFill>
                <a:latin typeface="Times New Roman"/>
              </a:rPr>
              <a:t>NO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00"/>
                </a:solidFill>
                <a:latin typeface="Times New Roman"/>
              </a:rPr>
              <a:t>Zzzzzzzzzzzz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N02329_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4405320" cy="3468600"/>
          </a:xfrm>
          <a:prstGeom prst="rect">
            <a:avLst/>
          </a:prstGeom>
          <a:ln w="0">
            <a:noFill/>
          </a:ln>
        </p:spPr>
      </p:pic>
      <p:pic>
        <p:nvPicPr>
          <p:cNvPr id="70" name="IN00585_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30639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Macbeth-Instructing-the-Murderers-Employed-to-Kill-Banquo-Pre-made-Frame-C12415037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SO02946_" descr=""/>
          <p:cNvPicPr/>
          <p:nvPr/>
        </p:nvPicPr>
        <p:blipFill>
          <a:blip r:embed="rId1"/>
          <a:stretch/>
        </p:blipFill>
        <p:spPr>
          <a:xfrm>
            <a:off x="2514600" y="1066680"/>
            <a:ext cx="4084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20060407122750_waxing-storm-ii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31520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HH00939_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3178080" cy="3584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39840" y="3825720"/>
            <a:ext cx="6853320" cy="2194200"/>
          </a:xfrm>
          <a:custGeom>
            <a:avLst/>
            <a:gdLst/>
            <a:ahLst/>
            <a:rect l="l" t="t" r="r" b="b"/>
            <a:pathLst>
              <a:path w="4317" h="1382">
                <a:moveTo>
                  <a:pt x="352" y="412"/>
                </a:moveTo>
                <a:cubicBezTo>
                  <a:pt x="381" y="369"/>
                  <a:pt x="496" y="277"/>
                  <a:pt x="553" y="259"/>
                </a:cubicBezTo>
                <a:cubicBezTo>
                  <a:pt x="636" y="180"/>
                  <a:pt x="859" y="171"/>
                  <a:pt x="966" y="163"/>
                </a:cubicBezTo>
                <a:cubicBezTo>
                  <a:pt x="1008" y="166"/>
                  <a:pt x="1050" y="164"/>
                  <a:pt x="1091" y="172"/>
                </a:cubicBezTo>
                <a:cubicBezTo>
                  <a:pt x="1107" y="175"/>
                  <a:pt x="1140" y="212"/>
                  <a:pt x="1149" y="220"/>
                </a:cubicBezTo>
                <a:cubicBezTo>
                  <a:pt x="1183" y="249"/>
                  <a:pt x="1219" y="280"/>
                  <a:pt x="1254" y="307"/>
                </a:cubicBezTo>
                <a:cubicBezTo>
                  <a:pt x="1331" y="367"/>
                  <a:pt x="1428" y="402"/>
                  <a:pt x="1523" y="422"/>
                </a:cubicBezTo>
                <a:cubicBezTo>
                  <a:pt x="1756" y="415"/>
                  <a:pt x="1982" y="402"/>
                  <a:pt x="2214" y="393"/>
                </a:cubicBezTo>
                <a:cubicBezTo>
                  <a:pt x="2292" y="381"/>
                  <a:pt x="2350" y="341"/>
                  <a:pt x="2425" y="326"/>
                </a:cubicBezTo>
                <a:cubicBezTo>
                  <a:pt x="2559" y="299"/>
                  <a:pt x="2681" y="285"/>
                  <a:pt x="2819" y="278"/>
                </a:cubicBezTo>
                <a:cubicBezTo>
                  <a:pt x="2841" y="275"/>
                  <a:pt x="2922" y="268"/>
                  <a:pt x="2953" y="259"/>
                </a:cubicBezTo>
                <a:cubicBezTo>
                  <a:pt x="3004" y="244"/>
                  <a:pt x="3007" y="233"/>
                  <a:pt x="3059" y="211"/>
                </a:cubicBezTo>
                <a:cubicBezTo>
                  <a:pt x="3117" y="187"/>
                  <a:pt x="3180" y="170"/>
                  <a:pt x="3241" y="153"/>
                </a:cubicBezTo>
                <a:cubicBezTo>
                  <a:pt x="3261" y="147"/>
                  <a:pt x="3279" y="136"/>
                  <a:pt x="3299" y="134"/>
                </a:cubicBezTo>
                <a:cubicBezTo>
                  <a:pt x="3359" y="128"/>
                  <a:pt x="3420" y="127"/>
                  <a:pt x="3481" y="124"/>
                </a:cubicBezTo>
                <a:cubicBezTo>
                  <a:pt x="3555" y="107"/>
                  <a:pt x="3565" y="75"/>
                  <a:pt x="3625" y="38"/>
                </a:cubicBezTo>
                <a:cubicBezTo>
                  <a:pt x="3637" y="30"/>
                  <a:pt x="3651" y="24"/>
                  <a:pt x="3664" y="19"/>
                </a:cubicBezTo>
                <a:cubicBezTo>
                  <a:pt x="3683" y="12"/>
                  <a:pt x="3721" y="0"/>
                  <a:pt x="3721" y="0"/>
                </a:cubicBezTo>
                <a:cubicBezTo>
                  <a:pt x="3808" y="6"/>
                  <a:pt x="3863" y="13"/>
                  <a:pt x="3942" y="28"/>
                </a:cubicBezTo>
                <a:cubicBezTo>
                  <a:pt x="3980" y="44"/>
                  <a:pt x="4017" y="63"/>
                  <a:pt x="4057" y="76"/>
                </a:cubicBezTo>
                <a:cubicBezTo>
                  <a:pt x="4070" y="95"/>
                  <a:pt x="4091" y="111"/>
                  <a:pt x="4096" y="134"/>
                </a:cubicBezTo>
                <a:cubicBezTo>
                  <a:pt x="4099" y="147"/>
                  <a:pt x="4098" y="161"/>
                  <a:pt x="4105" y="172"/>
                </a:cubicBezTo>
                <a:cubicBezTo>
                  <a:pt x="4121" y="200"/>
                  <a:pt x="4151" y="219"/>
                  <a:pt x="4163" y="249"/>
                </a:cubicBezTo>
                <a:cubicBezTo>
                  <a:pt x="4188" y="312"/>
                  <a:pt x="4172" y="283"/>
                  <a:pt x="4211" y="336"/>
                </a:cubicBezTo>
                <a:cubicBezTo>
                  <a:pt x="4230" y="389"/>
                  <a:pt x="4258" y="442"/>
                  <a:pt x="4288" y="489"/>
                </a:cubicBezTo>
                <a:cubicBezTo>
                  <a:pt x="4314" y="568"/>
                  <a:pt x="4304" y="527"/>
                  <a:pt x="4317" y="614"/>
                </a:cubicBezTo>
                <a:cubicBezTo>
                  <a:pt x="4314" y="678"/>
                  <a:pt x="4315" y="742"/>
                  <a:pt x="4307" y="806"/>
                </a:cubicBezTo>
                <a:cubicBezTo>
                  <a:pt x="4302" y="844"/>
                  <a:pt x="4260" y="894"/>
                  <a:pt x="4240" y="921"/>
                </a:cubicBezTo>
                <a:cubicBezTo>
                  <a:pt x="4172" y="1013"/>
                  <a:pt x="4108" y="1153"/>
                  <a:pt x="3990" y="1180"/>
                </a:cubicBezTo>
                <a:cubicBezTo>
                  <a:pt x="3944" y="1212"/>
                  <a:pt x="3890" y="1222"/>
                  <a:pt x="3837" y="1238"/>
                </a:cubicBezTo>
                <a:cubicBezTo>
                  <a:pt x="3690" y="1282"/>
                  <a:pt x="3549" y="1319"/>
                  <a:pt x="3395" y="1334"/>
                </a:cubicBezTo>
                <a:cubicBezTo>
                  <a:pt x="3246" y="1365"/>
                  <a:pt x="3095" y="1374"/>
                  <a:pt x="2944" y="1382"/>
                </a:cubicBezTo>
                <a:cubicBezTo>
                  <a:pt x="2674" y="1377"/>
                  <a:pt x="2422" y="1368"/>
                  <a:pt x="2157" y="1353"/>
                </a:cubicBezTo>
                <a:cubicBezTo>
                  <a:pt x="1978" y="1297"/>
                  <a:pt x="1717" y="1310"/>
                  <a:pt x="1523" y="1296"/>
                </a:cubicBezTo>
                <a:cubicBezTo>
                  <a:pt x="1421" y="1288"/>
                  <a:pt x="1318" y="1283"/>
                  <a:pt x="1216" y="1276"/>
                </a:cubicBezTo>
                <a:cubicBezTo>
                  <a:pt x="1168" y="1273"/>
                  <a:pt x="1072" y="1267"/>
                  <a:pt x="1072" y="1267"/>
                </a:cubicBezTo>
                <a:cubicBezTo>
                  <a:pt x="765" y="1273"/>
                  <a:pt x="469" y="1290"/>
                  <a:pt x="169" y="1238"/>
                </a:cubicBezTo>
                <a:cubicBezTo>
                  <a:pt x="132" y="1223"/>
                  <a:pt x="90" y="1213"/>
                  <a:pt x="64" y="1180"/>
                </a:cubicBezTo>
                <a:cubicBezTo>
                  <a:pt x="44" y="1155"/>
                  <a:pt x="25" y="1094"/>
                  <a:pt x="25" y="1094"/>
                </a:cubicBezTo>
                <a:cubicBezTo>
                  <a:pt x="0" y="935"/>
                  <a:pt x="10" y="1019"/>
                  <a:pt x="25" y="710"/>
                </a:cubicBezTo>
                <a:cubicBezTo>
                  <a:pt x="28" y="651"/>
                  <a:pt x="40" y="574"/>
                  <a:pt x="64" y="518"/>
                </a:cubicBezTo>
                <a:cubicBezTo>
                  <a:pt x="122" y="384"/>
                  <a:pt x="318" y="374"/>
                  <a:pt x="438" y="374"/>
                </a:cubicBezTo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witch-brew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3919320" cy="502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181480" y="1143000"/>
            <a:ext cx="3429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…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………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……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d a line of……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BD05619_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3946680" cy="3962520"/>
          </a:xfrm>
          <a:prstGeom prst="rect">
            <a:avLst/>
          </a:prstGeom>
          <a:ln w="0">
            <a:noFill/>
          </a:ln>
        </p:spPr>
      </p:pic>
      <p:pic>
        <p:nvPicPr>
          <p:cNvPr id="78" name="HH00869_" descr=""/>
          <p:cNvPicPr/>
          <p:nvPr/>
        </p:nvPicPr>
        <p:blipFill>
          <a:blip r:embed="rId2"/>
          <a:stretch/>
        </p:blipFill>
        <p:spPr>
          <a:xfrm>
            <a:off x="3505320" y="1523880"/>
            <a:ext cx="438444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angryman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3849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gwh0076l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57909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SY00600_" descr=""/>
          <p:cNvPicPr/>
          <p:nvPr/>
        </p:nvPicPr>
        <p:blipFill>
          <a:blip r:embed="rId1"/>
          <a:stretch/>
        </p:blipFill>
        <p:spPr>
          <a:xfrm>
            <a:off x="1676520" y="3048120"/>
            <a:ext cx="5790960" cy="3208320"/>
          </a:xfrm>
          <a:prstGeom prst="rect">
            <a:avLst/>
          </a:prstGeom>
          <a:ln w="0">
            <a:noFill/>
          </a:ln>
        </p:spPr>
      </p:pic>
      <p:pic>
        <p:nvPicPr>
          <p:cNvPr id="82" name="BD04871_" descr=""/>
          <p:cNvPicPr/>
          <p:nvPr/>
        </p:nvPicPr>
        <p:blipFill>
          <a:blip r:embed="rId2"/>
          <a:stretch/>
        </p:blipFill>
        <p:spPr>
          <a:xfrm>
            <a:off x="3962520" y="838080"/>
            <a:ext cx="145080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gwh0076l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4572000" cy="3497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94720" y="606600"/>
            <a:ext cx="566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rebuchet MS"/>
              </a:rPr>
              <a:t>She should have die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FoxTheatre" descr=""/>
          <p:cNvPicPr/>
          <p:nvPr/>
        </p:nvPicPr>
        <p:blipFill>
          <a:blip r:embed="rId1"/>
          <a:stretch/>
        </p:blipFill>
        <p:spPr>
          <a:xfrm>
            <a:off x="1676520" y="762120"/>
            <a:ext cx="5790960" cy="4241520"/>
          </a:xfrm>
          <a:prstGeom prst="rect">
            <a:avLst/>
          </a:prstGeom>
          <a:ln w="0">
            <a:noFill/>
          </a:ln>
        </p:spPr>
      </p:pic>
      <p:pic>
        <p:nvPicPr>
          <p:cNvPr id="86" name="j0295892" descr=""/>
          <p:cNvPicPr/>
          <p:nvPr/>
        </p:nvPicPr>
        <p:blipFill>
          <a:blip r:embed="rId2"/>
          <a:stretch/>
        </p:blipFill>
        <p:spPr>
          <a:xfrm>
            <a:off x="3886200" y="2514600"/>
            <a:ext cx="1679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angryman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2714400" cy="3824280"/>
          </a:xfrm>
          <a:prstGeom prst="rect">
            <a:avLst/>
          </a:prstGeom>
          <a:ln w="0">
            <a:noFill/>
          </a:ln>
        </p:spPr>
      </p:pic>
      <p:pic>
        <p:nvPicPr>
          <p:cNvPr id="88" name="brave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3747960" cy="3748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87640" y="2895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angryman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714400" cy="3824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111840" y="5181480"/>
            <a:ext cx="296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he Victo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tate%20Fair" descr=""/>
          <p:cNvPicPr/>
          <p:nvPr/>
        </p:nvPicPr>
        <p:blipFill>
          <a:blip r:embed="rId1"/>
          <a:stretch/>
        </p:blipFill>
        <p:spPr>
          <a:xfrm>
            <a:off x="2514600" y="304920"/>
            <a:ext cx="3657600" cy="234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039920" y="2666880"/>
            <a:ext cx="10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jungle.fowl1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35053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j0435941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3657600" cy="2529000"/>
          </a:xfrm>
          <a:prstGeom prst="rect">
            <a:avLst/>
          </a:prstGeom>
          <a:ln w="0">
            <a:noFill/>
          </a:ln>
        </p:spPr>
      </p:pic>
      <p:pic>
        <p:nvPicPr>
          <p:cNvPr id="93" name="j0198597" descr=""/>
          <p:cNvPicPr/>
          <p:nvPr/>
        </p:nvPicPr>
        <p:blipFill>
          <a:blip r:embed="rId2"/>
          <a:stretch/>
        </p:blipFill>
        <p:spPr>
          <a:xfrm>
            <a:off x="1371600" y="2133720"/>
            <a:ext cx="26719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1828800"/>
            <a:ext cx="723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Trebuchet MS"/>
              </a:rPr>
              <a:t>The End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eal" descr=""/>
          <p:cNvPicPr/>
          <p:nvPr/>
        </p:nvPicPr>
        <p:blipFill>
          <a:blip r:embed="rId1"/>
          <a:stretch/>
        </p:blipFill>
        <p:spPr>
          <a:xfrm>
            <a:off x="1828800" y="600120"/>
            <a:ext cx="5638680" cy="5508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09680" y="1981080"/>
            <a:ext cx="495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rebuchet MS"/>
              </a:rPr>
              <a:t>FA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rave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1500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vsh0184l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3067200" cy="3353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46280" y="4495680"/>
            <a:ext cx="23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Dunc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36160" y="838080"/>
            <a:ext cx="42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rebuchet MS"/>
              </a:rPr>
              <a:t>The 1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rebuchet MS"/>
              </a:rPr>
              <a:t>st</a:t>
            </a:r>
            <a:r>
              <a:rPr b="0" lang="en-GB" sz="2800" spc="-1" strike="noStrike">
                <a:solidFill>
                  <a:srgbClr val="ffff00"/>
                </a:solidFill>
                <a:latin typeface="Trebuchet MS"/>
              </a:rPr>
              <a:t> Thane of Caw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514600" y="38858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800240" y="1447920"/>
            <a:ext cx="2057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witch-brew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4095720" cy="5254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86400" y="114300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…………………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…………………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…………………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url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3303720" cy="434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05520" y="2209680"/>
            <a:ext cx="3200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N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Zzzzzzzzzzz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76520" y="1219320"/>
            <a:ext cx="5486400" cy="39621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HH01933_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39625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2:37:09Z</dcterms:created>
  <dc:creator>HoustonS</dc:creator>
  <dc:description/>
  <dc:language>en-US</dc:language>
  <cp:lastModifiedBy>HoustonS</cp:lastModifiedBy>
  <dcterms:modified xsi:type="dcterms:W3CDTF">2008-01-29T14:04:30Z</dcterms:modified>
  <cp:revision>14</cp:revision>
  <dc:subject/>
  <dc:title>PowerPoint Presentation</dc:title>
</cp:coreProperties>
</file>