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23B-0164-4474-9E6D-6E651421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D29-A91C-4B1D-855C-5B10E66C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4EA-B726-46C0-90EF-047B7F8E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9BF-521E-4B27-BAA8-8154AA6C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788-8BAD-4BE4-8832-E5E74962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3B5-F2E5-4333-B552-BF5803EC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935-A0A2-43AF-A3BA-3D04BC36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F21-D0F2-4C8F-9CFD-A68FC2A9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954-3EE2-4BB4-B413-9DCE66BA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992-6D7E-4977-8F2D-411CBC76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474-459A-4E5B-9806-020D1F5F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D14-135E-4C51-8863-00323527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5A88-0F4F-4342-9069-C9F312F715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D05631_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ig_make-face-angry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hiningMurder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agger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N02329_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IN00585_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acbeth-Instructing-the-Murderers-Employed-to-Kill-Banquo-Pre-made-Frame-C12415037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O02946_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0060407122750_waxing-storm-i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HH00939_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witch-brew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D05619_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HH00869_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ngryman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wh0076l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Y00600_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BD04871_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wh0076l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oxTheatre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j0295892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ngryman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brave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ngryman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e%20Fair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ungle.fowl1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435941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j0198597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eal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rave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sh0184l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itch-brew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url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HH01933_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HoustonS</cp:lastModifiedBy>
  <dcterms:modified xsi:type="dcterms:W3CDTF">2008-01-29T14:04:30Z</dcterms:modified>
  <cp:revision>14</cp:revision>
  <dc:subject/>
  <dc:title>PowerPoint Presentation</dc:title>
</cp:coreProperties>
</file>