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4B8-D92E-4D2E-AEDA-2DB8D0D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909-0F9B-4737-BD6A-93EB600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28C-E4FD-4436-BA17-BC8B3AC8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742-CA08-4A8A-932F-D8E5049F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69B-3101-49A8-B807-A8D4A843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F7E-99B7-49A4-8D4A-DC6F347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525-73D0-4BE3-95EB-BD4476FF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66B-94E8-4FF6-B8FF-65A5A98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067-8306-44FA-9DE8-A51F3CC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595-E64D-4BF4-A0EA-97D8CB8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670-4DC3-42F0-81E7-51F8924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F0A-4C7A-40C1-9710-CFE615A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47E-8468-47BA-B0C0-42882DEF04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WallaceS2</cp:lastModifiedBy>
  <dcterms:modified xsi:type="dcterms:W3CDTF">2010-03-23T15:53:35Z</dcterms:modified>
  <cp:revision>14</cp:revision>
  <dc:subject/>
  <dc:title>PowerPoint Presentation</dc:title>
</cp:coreProperties>
</file>