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0AF-F5D9-40E8-95CD-4F9B2BCE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1B0-E77E-4EA8-9983-EEA98769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934-3EDA-4861-8527-71744F0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149-B3F3-49F5-83EE-1DA06021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DD2-EAFD-4DF6-8C53-ACEE9914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43F-6D7E-43B1-83D4-A1A451FB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55D-4695-4EEA-8F40-A0AD3AB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C3D-F8D7-4B46-8E69-CEBEF8D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D89-C566-4D3C-A9B9-94A1F6AF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872-A209-432E-97FF-FABDBE5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DEE-EE6E-4F35-AE5E-51AB70F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8CE-47A2-4EDB-9817-4A5AF93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4B6-EA5C-4E65-9F70-8B666FAF3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WallaceS2</cp:lastModifiedBy>
  <dcterms:modified xsi:type="dcterms:W3CDTF">2010-03-23T15:53:35Z</dcterms:modified>
  <cp:revision>14</cp:revision>
  <dc:subject/>
  <dc:title>PowerPoint Presentation</dc:title>
</cp:coreProperties>
</file>