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C63-F5AA-4C0C-9D15-7F5A5D1F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F53-7635-4880-9F5D-DA5C71AB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41C-13C4-4A9D-A72C-DB945B7B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A3A-8111-4041-8CDE-57A2FC7B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8F8-D1EA-4DF6-B148-A6FBADF6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E4C-8C62-47ED-8ED6-66208EB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631-E456-48FE-AD32-556454D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624-4D5C-4E79-8029-AA05762D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ECA-2882-4EE6-9427-989BCD21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99D-59E8-49AC-9201-F118F4D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647-6298-4500-81E4-0BC6987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2E5-3D69-4952-9118-20C7AB5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95A6-A328-45C8-8C68-CAF98443D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D05631_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ig_make-face-angry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hiningMurder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agger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N02329_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IN00585_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acbeth-Instructing-the-Murderers-Employed-to-Kill-Banquo-Pre-made-Frame-C12415037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O02946_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0060407122750_waxing-storm-i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H00939_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itch-brew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D05619_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HH00869_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ngryman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wh0076l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Y00600_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BD04871_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wh0076l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xTheatre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j0295892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ngryman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brave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ngryman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e%20Fair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ungle.fowl1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43594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j0198597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eal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rav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sh0184l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itch-brew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url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H01933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HoustonS</cp:lastModifiedBy>
  <dcterms:modified xsi:type="dcterms:W3CDTF">2008-01-29T14:04:30Z</dcterms:modified>
  <cp:revision>14</cp:revision>
  <dc:subject/>
  <dc:title>PowerPoint Presentation</dc:title>
</cp:coreProperties>
</file>