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2.jpeg" ContentType="image/jpeg"/>
  <Override PartName="/ppt/media/image10.wmf" ContentType="image/x-wmf"/>
  <Override PartName="/ppt/media/image4.jpeg" ContentType="image/jpeg"/>
  <Override PartName="/ppt/media/image25.jpeg" ContentType="image/jpeg"/>
  <Override PartName="/ppt/media/image9.wmf" ContentType="image/x-wmf"/>
  <Override PartName="/ppt/media/image7.png" ContentType="image/png"/>
  <Override PartName="/ppt/media/image1.jpeg" ContentType="image/jpeg"/>
  <Override PartName="/ppt/media/image15.wmf" ContentType="image/x-wmf"/>
  <Override PartName="/ppt/media/image22.jpeg" ContentType="image/jpeg"/>
  <Override PartName="/ppt/media/image11.jpeg" ContentType="image/jpeg"/>
  <Override PartName="/ppt/media/image23.wmf" ContentType="image/x-wmf"/>
  <Override PartName="/ppt/media/image8.png" ContentType="image/png"/>
  <Override PartName="/ppt/media/image6.jpeg" ContentType="image/jpeg"/>
  <Override PartName="/ppt/media/image28.wmf" ContentType="image/x-wmf"/>
  <Override PartName="/ppt/media/image27.wmf" ContentType="image/x-wmf"/>
  <Override PartName="/ppt/media/image21.jpeg" ContentType="image/jpeg"/>
  <Override PartName="/ppt/media/image16.jpeg" ContentType="image/jpeg"/>
  <Override PartName="/ppt/media/image26.wmf" ContentType="image/x-wmf"/>
  <Override PartName="/ppt/media/image14.wmf" ContentType="image/x-wmf"/>
  <Override PartName="/ppt/media/image24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3.jpeg" ContentType="image/jpeg"/>
  <Override PartName="/ppt/media/image17.wmf" ContentType="image/x-wmf"/>
  <Override PartName="/ppt/media/image5.png" ContentType="image/pn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CD0BE-5916-427C-8587-3B76B5623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C1605-BC32-4306-8C8B-91B36872A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2B76C-A1D1-40B9-8E54-6ED98B4E6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DC045-83A1-4CDE-8B72-86E6E4164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41416-37FE-4524-AA14-04F5648C0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535BE-3041-4463-A135-1501041CF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5478E-7770-4EA6-B1FE-5BB94A69D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AAC08-4249-42E1-B08F-C43847AC2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83F72-F6A2-45EE-BAA3-DBA090509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5EBCA-175F-4C21-A9B2-B28C23413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51254-3AD1-49E1-B2E9-08721DD51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D16F7-DB6E-44C5-9FDC-82E57F655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70CF2-090C-4A54-9043-B136C54261E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3000" y="1295280"/>
            <a:ext cx="67057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rebuchet MS"/>
              </a:rPr>
              <a:t>‘</a:t>
            </a:r>
            <a:r>
              <a:rPr b="1" lang="en-US" sz="4000" spc="-1" strike="noStrike">
                <a:solidFill>
                  <a:srgbClr val="ffff00"/>
                </a:solidFill>
                <a:latin typeface="Trebuchet MS"/>
              </a:rPr>
              <a:t>Macbeth’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rebuchet MS"/>
              </a:rPr>
              <a:t>A Pictorial Re-ca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057400" y="990720"/>
            <a:ext cx="5410080" cy="4114800"/>
          </a:xfrm>
          <a:prstGeom prst="wedgeEllipseCallout">
            <a:avLst>
              <a:gd name="adj1" fmla="val -63291"/>
              <a:gd name="adj2" fmla="val 6076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898360" y="2286000"/>
            <a:ext cx="3862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WARNING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BD05631_" descr=""/>
          <p:cNvPicPr/>
          <p:nvPr/>
        </p:nvPicPr>
        <p:blipFill>
          <a:blip r:embed="rId1"/>
          <a:stretch/>
        </p:blipFill>
        <p:spPr>
          <a:xfrm>
            <a:off x="3276720" y="1758960"/>
            <a:ext cx="2589120" cy="33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905120" y="1066680"/>
            <a:ext cx="5410080" cy="381024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746080" y="2286000"/>
            <a:ext cx="3903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COWARD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big_make-face-angry" descr=""/>
          <p:cNvPicPr/>
          <p:nvPr/>
        </p:nvPicPr>
        <p:blipFill>
          <a:blip r:embed="rId1"/>
          <a:stretch/>
        </p:blipFill>
        <p:spPr>
          <a:xfrm>
            <a:off x="2057400" y="914400"/>
            <a:ext cx="5253120" cy="525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ShiningMurder" descr=""/>
          <p:cNvPicPr/>
          <p:nvPr/>
        </p:nvPicPr>
        <p:blipFill>
          <a:blip r:embed="rId1"/>
          <a:stretch/>
        </p:blipFill>
        <p:spPr>
          <a:xfrm>
            <a:off x="1143000" y="838080"/>
            <a:ext cx="6629400" cy="530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dagger" descr="swords"/>
          <p:cNvPicPr/>
          <p:nvPr/>
        </p:nvPicPr>
        <p:blipFill>
          <a:blip r:embed="rId1"/>
          <a:stretch/>
        </p:blipFill>
        <p:spPr>
          <a:xfrm>
            <a:off x="2514600" y="1371600"/>
            <a:ext cx="41148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838080" y="990720"/>
            <a:ext cx="7696440" cy="37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00"/>
                </a:solidFill>
                <a:latin typeface="Times New Roman"/>
              </a:rPr>
              <a:t>NO!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00"/>
                </a:solidFill>
                <a:latin typeface="Times New Roman"/>
              </a:rPr>
              <a:t>Zzzzzzzzzzzz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AN02329_" descr=""/>
          <p:cNvPicPr/>
          <p:nvPr/>
        </p:nvPicPr>
        <p:blipFill>
          <a:blip r:embed="rId1"/>
          <a:stretch/>
        </p:blipFill>
        <p:spPr>
          <a:xfrm>
            <a:off x="2438280" y="1143000"/>
            <a:ext cx="4405320" cy="3468600"/>
          </a:xfrm>
          <a:prstGeom prst="rect">
            <a:avLst/>
          </a:prstGeom>
          <a:ln w="0">
            <a:noFill/>
          </a:ln>
        </p:spPr>
      </p:pic>
      <p:pic>
        <p:nvPicPr>
          <p:cNvPr id="70" name="IN00585_" descr=""/>
          <p:cNvPicPr/>
          <p:nvPr/>
        </p:nvPicPr>
        <p:blipFill>
          <a:blip r:embed="rId2"/>
          <a:stretch/>
        </p:blipFill>
        <p:spPr>
          <a:xfrm>
            <a:off x="4495680" y="2590920"/>
            <a:ext cx="3063960" cy="34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Macbeth-Instructing-the-Murderers-Employed-to-Kill-Banquo-Pre-made-Frame-C12415037" descr=""/>
          <p:cNvPicPr/>
          <p:nvPr/>
        </p:nvPicPr>
        <p:blipFill>
          <a:blip r:embed="rId1"/>
          <a:stretch/>
        </p:blipFill>
        <p:spPr>
          <a:xfrm>
            <a:off x="914400" y="609480"/>
            <a:ext cx="7238880" cy="568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SO02946_" descr=""/>
          <p:cNvPicPr/>
          <p:nvPr/>
        </p:nvPicPr>
        <p:blipFill>
          <a:blip r:embed="rId1"/>
          <a:stretch/>
        </p:blipFill>
        <p:spPr>
          <a:xfrm>
            <a:off x="2514600" y="1066680"/>
            <a:ext cx="408456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20060407122750_waxing-storm-ii" descr=""/>
          <p:cNvPicPr/>
          <p:nvPr/>
        </p:nvPicPr>
        <p:blipFill>
          <a:blip r:embed="rId1"/>
          <a:stretch/>
        </p:blipFill>
        <p:spPr>
          <a:xfrm>
            <a:off x="838080" y="990720"/>
            <a:ext cx="7315200" cy="48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HH00939_" descr=""/>
          <p:cNvPicPr/>
          <p:nvPr/>
        </p:nvPicPr>
        <p:blipFill>
          <a:blip r:embed="rId1"/>
          <a:stretch/>
        </p:blipFill>
        <p:spPr>
          <a:xfrm>
            <a:off x="3048120" y="1219320"/>
            <a:ext cx="3178080" cy="358452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1239840" y="3825720"/>
            <a:ext cx="6853320" cy="2194200"/>
          </a:xfrm>
          <a:custGeom>
            <a:avLst/>
            <a:gdLst/>
            <a:ahLst/>
            <a:rect l="l" t="t" r="r" b="b"/>
            <a:pathLst>
              <a:path w="4317" h="1382">
                <a:moveTo>
                  <a:pt x="352" y="412"/>
                </a:moveTo>
                <a:cubicBezTo>
                  <a:pt x="381" y="369"/>
                  <a:pt x="496" y="277"/>
                  <a:pt x="553" y="259"/>
                </a:cubicBezTo>
                <a:cubicBezTo>
                  <a:pt x="636" y="180"/>
                  <a:pt x="859" y="171"/>
                  <a:pt x="966" y="163"/>
                </a:cubicBezTo>
                <a:cubicBezTo>
                  <a:pt x="1008" y="166"/>
                  <a:pt x="1050" y="164"/>
                  <a:pt x="1091" y="172"/>
                </a:cubicBezTo>
                <a:cubicBezTo>
                  <a:pt x="1107" y="175"/>
                  <a:pt x="1140" y="212"/>
                  <a:pt x="1149" y="220"/>
                </a:cubicBezTo>
                <a:cubicBezTo>
                  <a:pt x="1183" y="249"/>
                  <a:pt x="1219" y="280"/>
                  <a:pt x="1254" y="307"/>
                </a:cubicBezTo>
                <a:cubicBezTo>
                  <a:pt x="1331" y="367"/>
                  <a:pt x="1428" y="402"/>
                  <a:pt x="1523" y="422"/>
                </a:cubicBezTo>
                <a:cubicBezTo>
                  <a:pt x="1756" y="415"/>
                  <a:pt x="1982" y="402"/>
                  <a:pt x="2214" y="393"/>
                </a:cubicBezTo>
                <a:cubicBezTo>
                  <a:pt x="2292" y="381"/>
                  <a:pt x="2350" y="341"/>
                  <a:pt x="2425" y="326"/>
                </a:cubicBezTo>
                <a:cubicBezTo>
                  <a:pt x="2559" y="299"/>
                  <a:pt x="2681" y="285"/>
                  <a:pt x="2819" y="278"/>
                </a:cubicBezTo>
                <a:cubicBezTo>
                  <a:pt x="2841" y="275"/>
                  <a:pt x="2922" y="268"/>
                  <a:pt x="2953" y="259"/>
                </a:cubicBezTo>
                <a:cubicBezTo>
                  <a:pt x="3004" y="244"/>
                  <a:pt x="3007" y="233"/>
                  <a:pt x="3059" y="211"/>
                </a:cubicBezTo>
                <a:cubicBezTo>
                  <a:pt x="3117" y="187"/>
                  <a:pt x="3180" y="170"/>
                  <a:pt x="3241" y="153"/>
                </a:cubicBezTo>
                <a:cubicBezTo>
                  <a:pt x="3261" y="147"/>
                  <a:pt x="3279" y="136"/>
                  <a:pt x="3299" y="134"/>
                </a:cubicBezTo>
                <a:cubicBezTo>
                  <a:pt x="3359" y="128"/>
                  <a:pt x="3420" y="127"/>
                  <a:pt x="3481" y="124"/>
                </a:cubicBezTo>
                <a:cubicBezTo>
                  <a:pt x="3555" y="107"/>
                  <a:pt x="3565" y="75"/>
                  <a:pt x="3625" y="38"/>
                </a:cubicBezTo>
                <a:cubicBezTo>
                  <a:pt x="3637" y="30"/>
                  <a:pt x="3651" y="24"/>
                  <a:pt x="3664" y="19"/>
                </a:cubicBezTo>
                <a:cubicBezTo>
                  <a:pt x="3683" y="12"/>
                  <a:pt x="3721" y="0"/>
                  <a:pt x="3721" y="0"/>
                </a:cubicBezTo>
                <a:cubicBezTo>
                  <a:pt x="3808" y="6"/>
                  <a:pt x="3863" y="13"/>
                  <a:pt x="3942" y="28"/>
                </a:cubicBezTo>
                <a:cubicBezTo>
                  <a:pt x="3980" y="44"/>
                  <a:pt x="4017" y="63"/>
                  <a:pt x="4057" y="76"/>
                </a:cubicBezTo>
                <a:cubicBezTo>
                  <a:pt x="4070" y="95"/>
                  <a:pt x="4091" y="111"/>
                  <a:pt x="4096" y="134"/>
                </a:cubicBezTo>
                <a:cubicBezTo>
                  <a:pt x="4099" y="147"/>
                  <a:pt x="4098" y="161"/>
                  <a:pt x="4105" y="172"/>
                </a:cubicBezTo>
                <a:cubicBezTo>
                  <a:pt x="4121" y="200"/>
                  <a:pt x="4151" y="219"/>
                  <a:pt x="4163" y="249"/>
                </a:cubicBezTo>
                <a:cubicBezTo>
                  <a:pt x="4188" y="312"/>
                  <a:pt x="4172" y="283"/>
                  <a:pt x="4211" y="336"/>
                </a:cubicBezTo>
                <a:cubicBezTo>
                  <a:pt x="4230" y="389"/>
                  <a:pt x="4258" y="442"/>
                  <a:pt x="4288" y="489"/>
                </a:cubicBezTo>
                <a:cubicBezTo>
                  <a:pt x="4314" y="568"/>
                  <a:pt x="4304" y="527"/>
                  <a:pt x="4317" y="614"/>
                </a:cubicBezTo>
                <a:cubicBezTo>
                  <a:pt x="4314" y="678"/>
                  <a:pt x="4315" y="742"/>
                  <a:pt x="4307" y="806"/>
                </a:cubicBezTo>
                <a:cubicBezTo>
                  <a:pt x="4302" y="844"/>
                  <a:pt x="4260" y="894"/>
                  <a:pt x="4240" y="921"/>
                </a:cubicBezTo>
                <a:cubicBezTo>
                  <a:pt x="4172" y="1013"/>
                  <a:pt x="4108" y="1153"/>
                  <a:pt x="3990" y="1180"/>
                </a:cubicBezTo>
                <a:cubicBezTo>
                  <a:pt x="3944" y="1212"/>
                  <a:pt x="3890" y="1222"/>
                  <a:pt x="3837" y="1238"/>
                </a:cubicBezTo>
                <a:cubicBezTo>
                  <a:pt x="3690" y="1282"/>
                  <a:pt x="3549" y="1319"/>
                  <a:pt x="3395" y="1334"/>
                </a:cubicBezTo>
                <a:cubicBezTo>
                  <a:pt x="3246" y="1365"/>
                  <a:pt x="3095" y="1374"/>
                  <a:pt x="2944" y="1382"/>
                </a:cubicBezTo>
                <a:cubicBezTo>
                  <a:pt x="2674" y="1377"/>
                  <a:pt x="2422" y="1368"/>
                  <a:pt x="2157" y="1353"/>
                </a:cubicBezTo>
                <a:cubicBezTo>
                  <a:pt x="1978" y="1297"/>
                  <a:pt x="1717" y="1310"/>
                  <a:pt x="1523" y="1296"/>
                </a:cubicBezTo>
                <a:cubicBezTo>
                  <a:pt x="1421" y="1288"/>
                  <a:pt x="1318" y="1283"/>
                  <a:pt x="1216" y="1276"/>
                </a:cubicBezTo>
                <a:cubicBezTo>
                  <a:pt x="1168" y="1273"/>
                  <a:pt x="1072" y="1267"/>
                  <a:pt x="1072" y="1267"/>
                </a:cubicBezTo>
                <a:cubicBezTo>
                  <a:pt x="765" y="1273"/>
                  <a:pt x="469" y="1290"/>
                  <a:pt x="169" y="1238"/>
                </a:cubicBezTo>
                <a:cubicBezTo>
                  <a:pt x="132" y="1223"/>
                  <a:pt x="90" y="1213"/>
                  <a:pt x="64" y="1180"/>
                </a:cubicBezTo>
                <a:cubicBezTo>
                  <a:pt x="44" y="1155"/>
                  <a:pt x="25" y="1094"/>
                  <a:pt x="25" y="1094"/>
                </a:cubicBezTo>
                <a:cubicBezTo>
                  <a:pt x="0" y="935"/>
                  <a:pt x="10" y="1019"/>
                  <a:pt x="25" y="710"/>
                </a:cubicBezTo>
                <a:cubicBezTo>
                  <a:pt x="28" y="651"/>
                  <a:pt x="40" y="574"/>
                  <a:pt x="64" y="518"/>
                </a:cubicBezTo>
                <a:cubicBezTo>
                  <a:pt x="122" y="384"/>
                  <a:pt x="318" y="374"/>
                  <a:pt x="438" y="374"/>
                </a:cubicBezTo>
              </a:path>
            </a:pathLst>
          </a:custGeom>
          <a:solidFill>
            <a:srgbClr val="cc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witch-brew" descr=""/>
          <p:cNvPicPr/>
          <p:nvPr/>
        </p:nvPicPr>
        <p:blipFill>
          <a:blip r:embed="rId1"/>
          <a:stretch/>
        </p:blipFill>
        <p:spPr>
          <a:xfrm>
            <a:off x="990720" y="914400"/>
            <a:ext cx="3919320" cy="50292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5181480" y="1143000"/>
            <a:ext cx="34290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1……………………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2……………………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3……………………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nd a line of………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BD05619_" descr=""/>
          <p:cNvPicPr/>
          <p:nvPr/>
        </p:nvPicPr>
        <p:blipFill>
          <a:blip r:embed="rId1"/>
          <a:stretch/>
        </p:blipFill>
        <p:spPr>
          <a:xfrm>
            <a:off x="1066680" y="1828800"/>
            <a:ext cx="3946680" cy="3962520"/>
          </a:xfrm>
          <a:prstGeom prst="rect">
            <a:avLst/>
          </a:prstGeom>
          <a:ln w="0">
            <a:noFill/>
          </a:ln>
        </p:spPr>
      </p:pic>
      <p:pic>
        <p:nvPicPr>
          <p:cNvPr id="78" name="HH00869_" descr=""/>
          <p:cNvPicPr/>
          <p:nvPr/>
        </p:nvPicPr>
        <p:blipFill>
          <a:blip r:embed="rId2"/>
          <a:stretch/>
        </p:blipFill>
        <p:spPr>
          <a:xfrm>
            <a:off x="3505320" y="1523880"/>
            <a:ext cx="4384440" cy="242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angryman" descr=""/>
          <p:cNvPicPr/>
          <p:nvPr/>
        </p:nvPicPr>
        <p:blipFill>
          <a:blip r:embed="rId1"/>
          <a:stretch/>
        </p:blipFill>
        <p:spPr>
          <a:xfrm>
            <a:off x="2438280" y="685800"/>
            <a:ext cx="38498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gwh0076l" descr=""/>
          <p:cNvPicPr/>
          <p:nvPr/>
        </p:nvPicPr>
        <p:blipFill>
          <a:blip r:embed="rId1"/>
          <a:stretch/>
        </p:blipFill>
        <p:spPr>
          <a:xfrm>
            <a:off x="1905120" y="1066680"/>
            <a:ext cx="579096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SY00600_" descr=""/>
          <p:cNvPicPr/>
          <p:nvPr/>
        </p:nvPicPr>
        <p:blipFill>
          <a:blip r:embed="rId1"/>
          <a:stretch/>
        </p:blipFill>
        <p:spPr>
          <a:xfrm>
            <a:off x="1676520" y="3048120"/>
            <a:ext cx="5790960" cy="3208320"/>
          </a:xfrm>
          <a:prstGeom prst="rect">
            <a:avLst/>
          </a:prstGeom>
          <a:ln w="0">
            <a:noFill/>
          </a:ln>
        </p:spPr>
      </p:pic>
      <p:pic>
        <p:nvPicPr>
          <p:cNvPr id="82" name="BD04871_" descr=""/>
          <p:cNvPicPr/>
          <p:nvPr/>
        </p:nvPicPr>
        <p:blipFill>
          <a:blip r:embed="rId2"/>
          <a:stretch/>
        </p:blipFill>
        <p:spPr>
          <a:xfrm>
            <a:off x="3962520" y="838080"/>
            <a:ext cx="1450800" cy="262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gwh0076l" descr=""/>
          <p:cNvPicPr/>
          <p:nvPr/>
        </p:nvPicPr>
        <p:blipFill>
          <a:blip r:embed="rId1"/>
          <a:stretch/>
        </p:blipFill>
        <p:spPr>
          <a:xfrm>
            <a:off x="914400" y="1905120"/>
            <a:ext cx="4572000" cy="34970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594720" y="606600"/>
            <a:ext cx="5665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rebuchet MS"/>
              </a:rPr>
              <a:t>She should have died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FoxTheatre" descr=""/>
          <p:cNvPicPr/>
          <p:nvPr/>
        </p:nvPicPr>
        <p:blipFill>
          <a:blip r:embed="rId1"/>
          <a:stretch/>
        </p:blipFill>
        <p:spPr>
          <a:xfrm>
            <a:off x="1676520" y="762120"/>
            <a:ext cx="5790960" cy="4241520"/>
          </a:xfrm>
          <a:prstGeom prst="rect">
            <a:avLst/>
          </a:prstGeom>
          <a:ln w="0">
            <a:noFill/>
          </a:ln>
        </p:spPr>
      </p:pic>
      <p:pic>
        <p:nvPicPr>
          <p:cNvPr id="86" name="j0295892" descr=""/>
          <p:cNvPicPr/>
          <p:nvPr/>
        </p:nvPicPr>
        <p:blipFill>
          <a:blip r:embed="rId2"/>
          <a:stretch/>
        </p:blipFill>
        <p:spPr>
          <a:xfrm>
            <a:off x="3886200" y="2514600"/>
            <a:ext cx="167940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angryman" descr=""/>
          <p:cNvPicPr/>
          <p:nvPr/>
        </p:nvPicPr>
        <p:blipFill>
          <a:blip r:embed="rId1"/>
          <a:stretch/>
        </p:blipFill>
        <p:spPr>
          <a:xfrm>
            <a:off x="762120" y="1447920"/>
            <a:ext cx="2714400" cy="3824280"/>
          </a:xfrm>
          <a:prstGeom prst="rect">
            <a:avLst/>
          </a:prstGeom>
          <a:ln w="0">
            <a:noFill/>
          </a:ln>
        </p:spPr>
      </p:pic>
      <p:pic>
        <p:nvPicPr>
          <p:cNvPr id="88" name="brave" descr=""/>
          <p:cNvPicPr/>
          <p:nvPr/>
        </p:nvPicPr>
        <p:blipFill>
          <a:blip r:embed="rId2"/>
          <a:stretch/>
        </p:blipFill>
        <p:spPr>
          <a:xfrm>
            <a:off x="4800600" y="1523880"/>
            <a:ext cx="3747960" cy="37483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3887640" y="289548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angryman" descr=""/>
          <p:cNvPicPr/>
          <p:nvPr/>
        </p:nvPicPr>
        <p:blipFill>
          <a:blip r:embed="rId1"/>
          <a:stretch/>
        </p:blipFill>
        <p:spPr>
          <a:xfrm>
            <a:off x="3276720" y="914400"/>
            <a:ext cx="2714400" cy="38242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3111840" y="5181480"/>
            <a:ext cx="2968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rebuchet MS"/>
              </a:rPr>
              <a:t>The Victor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State%20Fair" descr=""/>
          <p:cNvPicPr/>
          <p:nvPr/>
        </p:nvPicPr>
        <p:blipFill>
          <a:blip r:embed="rId1"/>
          <a:stretch/>
        </p:blipFill>
        <p:spPr>
          <a:xfrm>
            <a:off x="2514600" y="304920"/>
            <a:ext cx="3657600" cy="23446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4039920" y="2666880"/>
            <a:ext cx="1008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=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jungle.fowl1" descr=""/>
          <p:cNvPicPr/>
          <p:nvPr/>
        </p:nvPicPr>
        <p:blipFill>
          <a:blip r:embed="rId2"/>
          <a:stretch/>
        </p:blipFill>
        <p:spPr>
          <a:xfrm>
            <a:off x="2666880" y="3886200"/>
            <a:ext cx="3505320" cy="26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j0435941" descr=""/>
          <p:cNvPicPr/>
          <p:nvPr/>
        </p:nvPicPr>
        <p:blipFill>
          <a:blip r:embed="rId1"/>
          <a:stretch/>
        </p:blipFill>
        <p:spPr>
          <a:xfrm>
            <a:off x="4648320" y="1828800"/>
            <a:ext cx="3657600" cy="2529000"/>
          </a:xfrm>
          <a:prstGeom prst="rect">
            <a:avLst/>
          </a:prstGeom>
          <a:ln w="0">
            <a:noFill/>
          </a:ln>
        </p:spPr>
      </p:pic>
      <p:pic>
        <p:nvPicPr>
          <p:cNvPr id="93" name="j0198597" descr=""/>
          <p:cNvPicPr/>
          <p:nvPr/>
        </p:nvPicPr>
        <p:blipFill>
          <a:blip r:embed="rId2"/>
          <a:stretch/>
        </p:blipFill>
        <p:spPr>
          <a:xfrm>
            <a:off x="1371600" y="2133720"/>
            <a:ext cx="2671920" cy="233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90720" y="1828800"/>
            <a:ext cx="7238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00"/>
                </a:solidFill>
                <a:latin typeface="Trebuchet MS"/>
              </a:rPr>
              <a:t>The End?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seal" descr=""/>
          <p:cNvPicPr/>
          <p:nvPr/>
        </p:nvPicPr>
        <p:blipFill>
          <a:blip r:embed="rId1"/>
          <a:stretch/>
        </p:blipFill>
        <p:spPr>
          <a:xfrm>
            <a:off x="1828800" y="600120"/>
            <a:ext cx="5638680" cy="5508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209680" y="1981080"/>
            <a:ext cx="4953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Trebuchet MS"/>
              </a:rPr>
              <a:t>FAT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brave" descr=""/>
          <p:cNvPicPr/>
          <p:nvPr/>
        </p:nvPicPr>
        <p:blipFill>
          <a:blip r:embed="rId1"/>
          <a:stretch/>
        </p:blipFill>
        <p:spPr>
          <a:xfrm>
            <a:off x="2057400" y="1066680"/>
            <a:ext cx="4815000" cy="48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vsh0184l" descr=""/>
          <p:cNvPicPr/>
          <p:nvPr/>
        </p:nvPicPr>
        <p:blipFill>
          <a:blip r:embed="rId1"/>
          <a:stretch/>
        </p:blipFill>
        <p:spPr>
          <a:xfrm>
            <a:off x="2971800" y="1752480"/>
            <a:ext cx="3067200" cy="33530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46280" y="4495680"/>
            <a:ext cx="237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rebuchet MS"/>
              </a:rPr>
              <a:t>Dunca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736160" y="838080"/>
            <a:ext cx="420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rebuchet MS"/>
              </a:rPr>
              <a:t>The 1</a:t>
            </a:r>
            <a:r>
              <a:rPr b="0" lang="en-GB" sz="2800" spc="-1" strike="noStrike" baseline="30000">
                <a:solidFill>
                  <a:srgbClr val="ffff00"/>
                </a:solidFill>
                <a:latin typeface="Trebuchet MS"/>
              </a:rPr>
              <a:t>st</a:t>
            </a:r>
            <a:r>
              <a:rPr b="0" lang="en-GB" sz="2800" spc="-1" strike="noStrike">
                <a:solidFill>
                  <a:srgbClr val="ffff00"/>
                </a:solidFill>
                <a:latin typeface="Trebuchet MS"/>
              </a:rPr>
              <a:t> Thane of Cawd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514600" y="38858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4800240" y="1447920"/>
            <a:ext cx="205740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witch-brew" descr=""/>
          <p:cNvPicPr/>
          <p:nvPr/>
        </p:nvPicPr>
        <p:blipFill>
          <a:blip r:embed="rId1"/>
          <a:stretch/>
        </p:blipFill>
        <p:spPr>
          <a:xfrm>
            <a:off x="914400" y="914400"/>
            <a:ext cx="4095720" cy="52545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5486400" y="1143000"/>
            <a:ext cx="31240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rebuchet MS"/>
              </a:rPr>
              <a:t>…………………</a:t>
            </a:r>
            <a:r>
              <a:rPr b="0" lang="en-US" sz="2400" spc="-1" strike="noStrike">
                <a:solidFill>
                  <a:srgbClr val="ffff00"/>
                </a:solidFill>
                <a:latin typeface="Trebuchet MS"/>
              </a:rPr>
              <a:t>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rebuchet MS"/>
              </a:rPr>
              <a:t>…………………</a:t>
            </a:r>
            <a:r>
              <a:rPr b="0" lang="en-US" sz="2400" spc="-1" strike="noStrike">
                <a:solidFill>
                  <a:srgbClr val="ffff00"/>
                </a:solidFill>
                <a:latin typeface="Trebuchet MS"/>
              </a:rPr>
              <a:t>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rebuchet MS"/>
              </a:rPr>
              <a:t>…………………</a:t>
            </a:r>
            <a:r>
              <a:rPr b="0" lang="en-US" sz="2400" spc="-1" strike="noStrike">
                <a:solidFill>
                  <a:srgbClr val="ffff00"/>
                </a:solidFill>
                <a:latin typeface="Trebuchet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url" descr=""/>
          <p:cNvPicPr/>
          <p:nvPr/>
        </p:nvPicPr>
        <p:blipFill>
          <a:blip r:embed="rId1"/>
          <a:stretch/>
        </p:blipFill>
        <p:spPr>
          <a:xfrm>
            <a:off x="1523880" y="1371600"/>
            <a:ext cx="3303720" cy="43401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105520" y="2209680"/>
            <a:ext cx="32004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Times New Roman"/>
              </a:rPr>
              <a:t>NO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Times New Roman"/>
              </a:rPr>
              <a:t>Zzzzzzzzzzzz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676520" y="1219320"/>
            <a:ext cx="5486400" cy="39621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HH01933_" descr=""/>
          <p:cNvPicPr/>
          <p:nvPr/>
        </p:nvPicPr>
        <p:blipFill>
          <a:blip r:embed="rId1"/>
          <a:stretch/>
        </p:blipFill>
        <p:spPr>
          <a:xfrm>
            <a:off x="2514600" y="1905120"/>
            <a:ext cx="3962520" cy="24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9T12:37:09Z</dcterms:created>
  <dc:creator>HoustonS</dc:creator>
  <dc:description/>
  <dc:language>en-US</dc:language>
  <cp:lastModifiedBy>HoustonS</cp:lastModifiedBy>
  <dcterms:modified xsi:type="dcterms:W3CDTF">2008-01-29T14:04:30Z</dcterms:modified>
  <cp:revision>14</cp:revision>
  <dc:subject/>
  <dc:title>PowerPoint Presentation</dc:title>
</cp:coreProperties>
</file>