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00D-6012-4C53-B62B-090B4A13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927-8746-40BD-9073-9C9BD4E1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257-3DEF-456C-A484-04C58D7E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03A-3338-4214-9BC4-286DA566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7B1-083E-4EF0-B8C2-CB9654D2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FFE-C322-4F6E-ACD9-9FCD516C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6D7-1F41-4832-A861-7985B087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95E-3919-402C-BF27-B9DF8FF8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1C7-FC02-465F-BA37-3186B695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920-3DE2-47DA-9507-61183AB4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822-4AB3-4F17-A9FC-6A135429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8F5-3852-4B4B-B20F-C18FA165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2C03-E9E5-48AA-8DD7-AE220FCDDA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‘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acbeth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 Pictorial Re-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990720"/>
            <a:ext cx="5410080" cy="4114800"/>
          </a:xfrm>
          <a:prstGeom prst="wedgeEllipseCallout">
            <a:avLst>
              <a:gd name="adj1" fmla="val -63291"/>
              <a:gd name="adj2" fmla="val 60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8360" y="2286000"/>
            <a:ext cx="386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D05631_" descr=""/>
          <p:cNvPicPr/>
          <p:nvPr/>
        </p:nvPicPr>
        <p:blipFill>
          <a:blip r:embed="rId1"/>
          <a:stretch/>
        </p:blipFill>
        <p:spPr>
          <a:xfrm>
            <a:off x="3276720" y="1758960"/>
            <a:ext cx="2589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1066680"/>
            <a:ext cx="5410080" cy="3810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6080" y="2286000"/>
            <a:ext cx="39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WAR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ig_make-face-angry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2531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hiningMurder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agger" descr="swords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990720"/>
            <a:ext cx="76964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N02329_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0532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IN00585_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3063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acbeth-Instructing-the-Murderers-Employed-to-Kill-Banquo-Pre-made-Frame-C12415037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O02946_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84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20060407122750_waxing-storm-i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HH00939_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78080" cy="358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39840" y="3825720"/>
            <a:ext cx="6853320" cy="2194200"/>
          </a:xfrm>
          <a:custGeom>
            <a:avLst/>
            <a:gdLst/>
            <a:ahLst/>
            <a:rect l="l" t="t" r="r" b="b"/>
            <a:pathLst>
              <a:path w="4317" h="1382">
                <a:moveTo>
                  <a:pt x="352" y="412"/>
                </a:moveTo>
                <a:cubicBezTo>
                  <a:pt x="381" y="369"/>
                  <a:pt x="496" y="277"/>
                  <a:pt x="553" y="259"/>
                </a:cubicBezTo>
                <a:cubicBezTo>
                  <a:pt x="636" y="180"/>
                  <a:pt x="859" y="171"/>
                  <a:pt x="966" y="163"/>
                </a:cubicBezTo>
                <a:cubicBezTo>
                  <a:pt x="1008" y="166"/>
                  <a:pt x="1050" y="164"/>
                  <a:pt x="1091" y="172"/>
                </a:cubicBezTo>
                <a:cubicBezTo>
                  <a:pt x="1107" y="175"/>
                  <a:pt x="1140" y="212"/>
                  <a:pt x="1149" y="220"/>
                </a:cubicBezTo>
                <a:cubicBezTo>
                  <a:pt x="1183" y="249"/>
                  <a:pt x="1219" y="280"/>
                  <a:pt x="1254" y="307"/>
                </a:cubicBezTo>
                <a:cubicBezTo>
                  <a:pt x="1331" y="367"/>
                  <a:pt x="1428" y="402"/>
                  <a:pt x="1523" y="422"/>
                </a:cubicBezTo>
                <a:cubicBezTo>
                  <a:pt x="1756" y="415"/>
                  <a:pt x="1982" y="402"/>
                  <a:pt x="2214" y="393"/>
                </a:cubicBezTo>
                <a:cubicBezTo>
                  <a:pt x="2292" y="381"/>
                  <a:pt x="2350" y="341"/>
                  <a:pt x="2425" y="326"/>
                </a:cubicBezTo>
                <a:cubicBezTo>
                  <a:pt x="2559" y="299"/>
                  <a:pt x="2681" y="285"/>
                  <a:pt x="2819" y="278"/>
                </a:cubicBezTo>
                <a:cubicBezTo>
                  <a:pt x="2841" y="275"/>
                  <a:pt x="2922" y="268"/>
                  <a:pt x="2953" y="259"/>
                </a:cubicBezTo>
                <a:cubicBezTo>
                  <a:pt x="3004" y="244"/>
                  <a:pt x="3007" y="233"/>
                  <a:pt x="3059" y="211"/>
                </a:cubicBezTo>
                <a:cubicBezTo>
                  <a:pt x="3117" y="187"/>
                  <a:pt x="3180" y="170"/>
                  <a:pt x="3241" y="153"/>
                </a:cubicBezTo>
                <a:cubicBezTo>
                  <a:pt x="3261" y="147"/>
                  <a:pt x="3279" y="136"/>
                  <a:pt x="3299" y="134"/>
                </a:cubicBezTo>
                <a:cubicBezTo>
                  <a:pt x="3359" y="128"/>
                  <a:pt x="3420" y="127"/>
                  <a:pt x="3481" y="124"/>
                </a:cubicBezTo>
                <a:cubicBezTo>
                  <a:pt x="3555" y="107"/>
                  <a:pt x="3565" y="75"/>
                  <a:pt x="3625" y="38"/>
                </a:cubicBezTo>
                <a:cubicBezTo>
                  <a:pt x="3637" y="30"/>
                  <a:pt x="3651" y="24"/>
                  <a:pt x="3664" y="19"/>
                </a:cubicBezTo>
                <a:cubicBezTo>
                  <a:pt x="3683" y="12"/>
                  <a:pt x="3721" y="0"/>
                  <a:pt x="3721" y="0"/>
                </a:cubicBezTo>
                <a:cubicBezTo>
                  <a:pt x="3808" y="6"/>
                  <a:pt x="3863" y="13"/>
                  <a:pt x="3942" y="28"/>
                </a:cubicBezTo>
                <a:cubicBezTo>
                  <a:pt x="3980" y="44"/>
                  <a:pt x="4017" y="63"/>
                  <a:pt x="4057" y="76"/>
                </a:cubicBezTo>
                <a:cubicBezTo>
                  <a:pt x="4070" y="95"/>
                  <a:pt x="4091" y="111"/>
                  <a:pt x="4096" y="134"/>
                </a:cubicBezTo>
                <a:cubicBezTo>
                  <a:pt x="4099" y="147"/>
                  <a:pt x="4098" y="161"/>
                  <a:pt x="4105" y="172"/>
                </a:cubicBezTo>
                <a:cubicBezTo>
                  <a:pt x="4121" y="200"/>
                  <a:pt x="4151" y="219"/>
                  <a:pt x="4163" y="249"/>
                </a:cubicBezTo>
                <a:cubicBezTo>
                  <a:pt x="4188" y="312"/>
                  <a:pt x="4172" y="283"/>
                  <a:pt x="4211" y="336"/>
                </a:cubicBezTo>
                <a:cubicBezTo>
                  <a:pt x="4230" y="389"/>
                  <a:pt x="4258" y="442"/>
                  <a:pt x="4288" y="489"/>
                </a:cubicBezTo>
                <a:cubicBezTo>
                  <a:pt x="4314" y="568"/>
                  <a:pt x="4304" y="527"/>
                  <a:pt x="4317" y="614"/>
                </a:cubicBezTo>
                <a:cubicBezTo>
                  <a:pt x="4314" y="678"/>
                  <a:pt x="4315" y="742"/>
                  <a:pt x="4307" y="806"/>
                </a:cubicBezTo>
                <a:cubicBezTo>
                  <a:pt x="4302" y="844"/>
                  <a:pt x="4260" y="894"/>
                  <a:pt x="4240" y="921"/>
                </a:cubicBezTo>
                <a:cubicBezTo>
                  <a:pt x="4172" y="1013"/>
                  <a:pt x="4108" y="1153"/>
                  <a:pt x="3990" y="1180"/>
                </a:cubicBezTo>
                <a:cubicBezTo>
                  <a:pt x="3944" y="1212"/>
                  <a:pt x="3890" y="1222"/>
                  <a:pt x="3837" y="1238"/>
                </a:cubicBezTo>
                <a:cubicBezTo>
                  <a:pt x="3690" y="1282"/>
                  <a:pt x="3549" y="1319"/>
                  <a:pt x="3395" y="1334"/>
                </a:cubicBezTo>
                <a:cubicBezTo>
                  <a:pt x="3246" y="1365"/>
                  <a:pt x="3095" y="1374"/>
                  <a:pt x="2944" y="1382"/>
                </a:cubicBezTo>
                <a:cubicBezTo>
                  <a:pt x="2674" y="1377"/>
                  <a:pt x="2422" y="1368"/>
                  <a:pt x="2157" y="1353"/>
                </a:cubicBezTo>
                <a:cubicBezTo>
                  <a:pt x="1978" y="1297"/>
                  <a:pt x="1717" y="1310"/>
                  <a:pt x="1523" y="1296"/>
                </a:cubicBezTo>
                <a:cubicBezTo>
                  <a:pt x="1421" y="1288"/>
                  <a:pt x="1318" y="1283"/>
                  <a:pt x="1216" y="1276"/>
                </a:cubicBezTo>
                <a:cubicBezTo>
                  <a:pt x="1168" y="1273"/>
                  <a:pt x="1072" y="1267"/>
                  <a:pt x="1072" y="1267"/>
                </a:cubicBezTo>
                <a:cubicBezTo>
                  <a:pt x="765" y="1273"/>
                  <a:pt x="469" y="1290"/>
                  <a:pt x="169" y="1238"/>
                </a:cubicBezTo>
                <a:cubicBezTo>
                  <a:pt x="132" y="1223"/>
                  <a:pt x="90" y="1213"/>
                  <a:pt x="64" y="1180"/>
                </a:cubicBezTo>
                <a:cubicBezTo>
                  <a:pt x="44" y="1155"/>
                  <a:pt x="25" y="1094"/>
                  <a:pt x="25" y="1094"/>
                </a:cubicBezTo>
                <a:cubicBezTo>
                  <a:pt x="0" y="935"/>
                  <a:pt x="10" y="1019"/>
                  <a:pt x="25" y="710"/>
                </a:cubicBezTo>
                <a:cubicBezTo>
                  <a:pt x="28" y="651"/>
                  <a:pt x="40" y="574"/>
                  <a:pt x="64" y="518"/>
                </a:cubicBezTo>
                <a:cubicBezTo>
                  <a:pt x="122" y="384"/>
                  <a:pt x="318" y="374"/>
                  <a:pt x="438" y="374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witch-brew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391932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1143000"/>
            <a:ext cx="342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a line of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D05619_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94668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HH00869_" descr=""/>
          <p:cNvPicPr/>
          <p:nvPr/>
        </p:nvPicPr>
        <p:blipFill>
          <a:blip r:embed="rId2"/>
          <a:stretch/>
        </p:blipFill>
        <p:spPr>
          <a:xfrm>
            <a:off x="3505320" y="1523880"/>
            <a:ext cx="438444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ngryman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3849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wh0076l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90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Y00600_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90960" cy="3208320"/>
          </a:xfrm>
          <a:prstGeom prst="rect">
            <a:avLst/>
          </a:prstGeom>
          <a:ln w="0">
            <a:noFill/>
          </a:ln>
        </p:spPr>
      </p:pic>
      <p:pic>
        <p:nvPicPr>
          <p:cNvPr id="82" name="BD04871_" descr=""/>
          <p:cNvPicPr/>
          <p:nvPr/>
        </p:nvPicPr>
        <p:blipFill>
          <a:blip r:embed="rId2"/>
          <a:stretch/>
        </p:blipFill>
        <p:spPr>
          <a:xfrm>
            <a:off x="3962520" y="838080"/>
            <a:ext cx="14508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wh0076l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720" y="60660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She should have di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oxTheatre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90960" cy="4241520"/>
          </a:xfrm>
          <a:prstGeom prst="rect">
            <a:avLst/>
          </a:prstGeom>
          <a:ln w="0">
            <a:noFill/>
          </a:ln>
        </p:spPr>
      </p:pic>
      <p:pic>
        <p:nvPicPr>
          <p:cNvPr id="86" name="j0295892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7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ngryman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14400" cy="3824280"/>
          </a:xfrm>
          <a:prstGeom prst="rect">
            <a:avLst/>
          </a:prstGeom>
          <a:ln w="0">
            <a:noFill/>
          </a:ln>
        </p:spPr>
      </p:pic>
      <p:pic>
        <p:nvPicPr>
          <p:cNvPr id="88" name="brave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747960" cy="374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764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ngryman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714400" cy="38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11840" y="51814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Victo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e%20Fair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365760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9920" y="266688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ungle.fowl1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435941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65760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j0198597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267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828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rebuchet MS"/>
              </a:rPr>
              <a:t>The E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eal" descr=""/>
          <p:cNvPicPr/>
          <p:nvPr/>
        </p:nvPicPr>
        <p:blipFill>
          <a:blip r:embed="rId1"/>
          <a:stretch/>
        </p:blipFill>
        <p:spPr>
          <a:xfrm>
            <a:off x="1828800" y="600120"/>
            <a:ext cx="5638680" cy="55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09680" y="1981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FA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rave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15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sh0184l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672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6280" y="449568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Dun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6160" y="8380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The 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rebuchet MS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Trebuchet MS"/>
              </a:rPr>
              <a:t> Thane of Caw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00240" y="14479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itch-brew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095720" cy="525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11430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…………………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url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303720" cy="434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05520" y="220968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N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Zzzzzzzzzz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1219320"/>
            <a:ext cx="5486400" cy="3962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HH01933_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9625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7:09Z</dcterms:created>
  <dc:creator>HoustonS</dc:creator>
  <dc:description/>
  <dc:language>en-US</dc:language>
  <cp:lastModifiedBy>HoustonS</cp:lastModifiedBy>
  <dcterms:modified xsi:type="dcterms:W3CDTF">2008-01-29T14:04:30Z</dcterms:modified>
  <cp:revision>14</cp:revision>
  <dc:subject/>
  <dc:title>PowerPoint Presentation</dc:title>
</cp:coreProperties>
</file>