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5.wmf" ContentType="image/x-wm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AA2CB-264C-4E25-B92C-F5C1C57B3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8F3BC-2D35-4C18-AE72-A3A50AC29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867F5-1015-44D1-8EE9-4D4A746C0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64583-2F30-435C-9513-2C51FEDE8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B6240-F98F-4BCC-87C5-E24BA49C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C0D1A-5582-4394-A97A-5C7073C0A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AA116-89C6-4C48-B12F-8530DFAC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9BBE-3B05-4643-9B94-2AB46D46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C4625-B78E-4C05-B316-5AF3F1F66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722F-877D-4769-985D-F30ECD56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A9F8-3B87-486B-8B78-FD10BE8D6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ADAA-BB3A-4E2B-8A9C-E24CA25FE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5E96-0D16-44D6-98CA-EF52370E2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say Question</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nswers to questions in this section should refer to the text and to such relevant features as: word choice, tone, imagery, structure, content, rhythm, theme, sound, id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a poem, which deals with a real </a:t>
            </a:r>
            <a:r>
              <a:rPr b="1" lang="en-GB" sz="2400" spc="-1" strike="noStrike">
                <a:solidFill>
                  <a:srgbClr val="000000"/>
                </a:solidFill>
                <a:latin typeface="Times New Roman"/>
              </a:rPr>
              <a:t>or </a:t>
            </a:r>
            <a:r>
              <a:rPr b="0" lang="en-GB" sz="2400" spc="-1" strike="noStrike">
                <a:solidFill>
                  <a:srgbClr val="000000"/>
                </a:solidFill>
                <a:latin typeface="Times New Roman"/>
              </a:rPr>
              <a:t>imaginary incident that highlights an important the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how how the poet makes the incident convincing and then explain how this conveys the them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flipV="1">
            <a:off x="5410080" y="28951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847840" y="2452680"/>
            <a:ext cx="232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ident is gas attack</a:t>
            </a:r>
            <a:endParaRPr b="0" lang="en-US" sz="2000" spc="-1" strike="noStrike">
              <a:solidFill>
                <a:srgbClr val="000000"/>
              </a:solidFill>
              <a:latin typeface="Times New Roman"/>
            </a:endParaRPr>
          </a:p>
        </p:txBody>
      </p:sp>
      <p:sp>
        <p:nvSpPr>
          <p:cNvPr id="45" name=""/>
          <p:cNvSpPr/>
          <p:nvPr/>
        </p:nvSpPr>
        <p:spPr>
          <a:xfrm flipH="1" flipV="1">
            <a:off x="2895120" y="297144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79680" y="2452680"/>
            <a:ext cx="200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orror of war</a:t>
            </a:r>
            <a:endParaRPr b="0" lang="en-US" sz="2000" spc="-1" strike="noStrike">
              <a:solidFill>
                <a:srgbClr val="000000"/>
              </a:solidFill>
              <a:latin typeface="Times New Roman"/>
            </a:endParaRPr>
          </a:p>
        </p:txBody>
      </p:sp>
      <p:sp>
        <p:nvSpPr>
          <p:cNvPr id="47" name=""/>
          <p:cNvSpPr/>
          <p:nvPr/>
        </p:nvSpPr>
        <p:spPr>
          <a:xfrm>
            <a:off x="579132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472428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91320" y="4495680"/>
            <a:ext cx="3200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vid description of soldiers and suffering of gas victim. Contrast between titl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lity of war</a:t>
            </a:r>
            <a:endParaRPr b="0" lang="en-US" sz="2000" spc="-1" strike="noStrike">
              <a:solidFill>
                <a:srgbClr val="000000"/>
              </a:solidFill>
              <a:latin typeface="Times New Roman"/>
            </a:endParaRPr>
          </a:p>
        </p:txBody>
      </p:sp>
      <p:pic>
        <p:nvPicPr>
          <p:cNvPr id="50" name="j0323763" descr=""/>
          <p:cNvPicPr/>
          <p:nvPr/>
        </p:nvPicPr>
        <p:blipFill>
          <a:blip r:embed="rId1"/>
          <a:stretch/>
        </p:blipFill>
        <p:spPr>
          <a:xfrm>
            <a:off x="838080" y="5105520"/>
            <a:ext cx="113184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06632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owerful protest poem, “Dulce Et Decorum Est” describes an incident from the First World War witnessed by the author, Wilfred Owen. Owen describes the terrible suffering of a group of soldiers retreating from war and the impact of a gas attack to explore the theme of the horror and inhumanity of war. I found this poem very moving as it gives a very vivid account of human suffering and the suffering caused by conflict, a topic that I feel is still very relevant today. </a:t>
            </a:r>
            <a:endParaRPr b="0" lang="en-US" sz="3200" spc="-1" strike="noStrike">
              <a:solidFill>
                <a:srgbClr val="000000"/>
              </a:solidFill>
              <a:latin typeface="Times New Roman"/>
            </a:endParaRPr>
          </a:p>
        </p:txBody>
      </p:sp>
      <p:pic>
        <p:nvPicPr>
          <p:cNvPr id="53" name="j0356587" descr=""/>
          <p:cNvPicPr/>
          <p:nvPr/>
        </p:nvPicPr>
        <p:blipFill>
          <a:blip r:embed="rId1"/>
          <a:stretch/>
        </p:blipFill>
        <p:spPr>
          <a:xfrm>
            <a:off x="7848720" y="304920"/>
            <a:ext cx="9079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Planning Your Essay</a:t>
            </a:r>
            <a:endParaRPr b="0" lang="en-US" sz="3600" spc="-1" strike="noStrike">
              <a:solidFill>
                <a:srgbClr val="000000"/>
              </a:solidFill>
              <a:latin typeface="Times New Roman"/>
            </a:endParaRPr>
          </a:p>
        </p:txBody>
      </p:sp>
      <p:sp>
        <p:nvSpPr>
          <p:cNvPr id="55" name="PlaceHolder 2"/>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plan you need to think about how you will divide the poem up, selecting which quotes you will analyse in each paragraph of P.C.Q.E.</a:t>
            </a: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your groups plan 5 paragraphs of P.C.Q.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You need to consider these factor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a point that clearly answers the ques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most clearly relate to the demands of the task</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reflect a good overall knowledge of the WHOLE text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of a length that allows you to provide some depth of analysis but does not exceed 3 lines (you may use ellipsi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a note of the techniques you will analyse</a:t>
            </a:r>
            <a:endParaRPr b="0" lang="en-US" sz="2400" spc="-1" strike="noStrike">
              <a:solidFill>
                <a:srgbClr val="000000"/>
              </a:solidFill>
              <a:latin typeface="Times New Roman"/>
            </a:endParaRPr>
          </a:p>
        </p:txBody>
      </p:sp>
      <p:pic>
        <p:nvPicPr>
          <p:cNvPr id="56" name="j0236304" descr=""/>
          <p:cNvPicPr/>
          <p:nvPr/>
        </p:nvPicPr>
        <p:blipFill>
          <a:blip r:embed="rId1"/>
          <a:stretch/>
        </p:blipFill>
        <p:spPr>
          <a:xfrm>
            <a:off x="7086600" y="182880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ample Paragraph Plan</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837720"/>
            <a:ext cx="8610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Paragraph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 Owen opens the poem with a powerful and vivid image to engage the reader at the start of ess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describes shocking state of soldiers as they retreat from w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OTE:” </a:t>
            </a:r>
            <a:r>
              <a:rPr b="0" lang="en-US" sz="2400" spc="-1" strike="noStrike">
                <a:solidFill>
                  <a:srgbClr val="0000cc"/>
                </a:solidFill>
                <a:latin typeface="Times New Roman"/>
                <a:ea typeface="Times New Roman"/>
              </a:rPr>
              <a:t>Bent double, like old beggars under sacks,/Knock-kneed, coughing like hags, we cursed through sludge……. All went lame, all blind;/Drunk with fatigu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Contrast with title/ use of similes/ onomatopoeia/ repetition/ metaphor</a:t>
            </a:r>
            <a:endParaRPr b="0" lang="en-US" sz="2400" spc="-1" strike="noStrike">
              <a:solidFill>
                <a:srgbClr val="000000"/>
              </a:solidFill>
              <a:latin typeface="Times New Roman"/>
            </a:endParaRPr>
          </a:p>
        </p:txBody>
      </p:sp>
      <p:pic>
        <p:nvPicPr>
          <p:cNvPr id="59" name="j0236240" descr=""/>
          <p:cNvPicPr/>
          <p:nvPr/>
        </p:nvPicPr>
        <p:blipFill>
          <a:blip r:embed="rId1"/>
          <a:stretch/>
        </p:blipFill>
        <p:spPr>
          <a:xfrm>
            <a:off x="7924680" y="22860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Exemplar P.C.Q.E</a:t>
            </a:r>
            <a:endParaRPr b="0" lang="en-US" sz="3600" spc="-1" strike="noStrike">
              <a:solidFill>
                <a:srgbClr val="000000"/>
              </a:solidFill>
              <a:latin typeface="Times New Roman"/>
            </a:endParaRPr>
          </a:p>
        </p:txBody>
      </p:sp>
      <p:sp>
        <p:nvSpPr>
          <p:cNvPr id="6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Courier New"/>
              </a:rPr>
              <a:t>The first way in which Owen portrays the character of the wounded soldier vividly is in the opening lines of the poem when the soldier is portrayed as a pathetic and isolated figure. Owen creates a gloomy mood suggesting the man’s isolation. </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3333cc"/>
                </a:solidFill>
                <a:latin typeface="Times New Roman"/>
                <a:ea typeface="Courier New"/>
              </a:rPr>
              <a:t>He sat in a wheeled chair, waiting for d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d shivered in his ghastly suit of gr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Legless, sewn short at elbow. Through the p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GB" sz="2000" spc="-1" strike="noStrike">
                <a:solidFill>
                  <a:srgbClr val="3333cc"/>
                </a:solidFill>
                <a:latin typeface="Times New Roman"/>
                <a:ea typeface="Times New Roman"/>
              </a:rPr>
              <a:t>Voices of boys rang saddening like a hym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	</a:t>
            </a:r>
            <a:r>
              <a:rPr b="0" lang="en-GB" sz="2000" spc="-1" strike="noStrike">
                <a:solidFill>
                  <a:srgbClr val="000000"/>
                </a:solidFill>
                <a:latin typeface="Times New Roman"/>
                <a:ea typeface="Arial"/>
              </a:rPr>
              <a:t>The word choice of ‘wheeled chair’ creates a vivid image of the character who is the focus of the poem. It skilfully conveys how the once active soldier is now helpless and dependant on others. Owen implies the man is very depressed in the phrase, ‘waiting for dark’. Darkness has connotations of misery and death suggesting this character is now simply waiting out the rest of his life and that he may be suicidal. Enjambment is used to emphasise the source of the man’s misery, he has lost his limbs. The reference to his clothes, ‘sewn short’ creates a clear picture of the man’s pathetic appearance. It may also symbolise how his youthful, care free existence before the war has also been cut short. The contrast between the boys playing outside and the soldier effectively highlights his infirmity and his lost youth. A simile, ‘saddening like a hymn’ helps us understand how the happy voices of the boys serve only to remind the soldier of his loneliness. It is as if they are a funeral song, mourning his suff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BD20089_" descr=""/>
          <p:cNvPicPr/>
          <p:nvPr/>
        </p:nvPicPr>
        <p:blipFill>
          <a:blip r:embed="rId1"/>
          <a:stretch/>
        </p:blipFill>
        <p:spPr>
          <a:xfrm>
            <a:off x="7086600" y="1447920"/>
            <a:ext cx="1071720" cy="114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rengths and target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linking to the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ong use of technical ter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od understanding of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fluent ex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detailed explanation an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k more clearly to the task in your point/ explanation and analys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 greater use of technical terms e.g. simile and metaph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 on your expression – you do not explain ideas clear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more detaile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a clear personal response to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accuracy spelling/ punctuation needs work-proof read careful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riting a conclusion</a:t>
            </a:r>
            <a:endParaRPr b="0" lang="en-US" sz="4000" spc="-1" strike="noStrike">
              <a:solidFill>
                <a:srgbClr val="000000"/>
              </a:solidFill>
              <a:latin typeface="Times New Roman"/>
            </a:endParaRPr>
          </a:p>
        </p:txBody>
      </p:sp>
      <p:sp>
        <p:nvSpPr>
          <p:cNvPr id="66"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o write a conclusion for a critical essay there is a simple formula you can follow.</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back to the task and evalu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n example to back up your evalua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 personal response to the text as a whol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Example</a:t>
            </a:r>
            <a:r>
              <a:rPr b="0" lang="en-GB" sz="2400" spc="-1" strike="noStrike">
                <a:solidFill>
                  <a:srgbClr val="000000"/>
                </a:solidFill>
                <a:latin typeface="Times New Roman"/>
              </a:rPr>
              <a:t>: Throughout ‘Disabled’ Wilfred Owen conveys the character of the wounded soldier very vividly using emotive language and imagery to great effect. The use of rhetorical questions at the end of the poem particularly apt as it highlights the sense of loss the soldier feels and expresses Owen’s anti war theme in a subtle but moving manner. This poem clearly conveys the horror of war by confronting the reader with the misery and suffering of one man in order to suggest the impact the Great War and other conflicts had on millions of oth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7" name="AG00029_" descr=""/>
          <p:cNvPicPr/>
          <p:nvPr/>
        </p:nvPicPr>
        <p:blipFill>
          <a:blip r:embed="rId1"/>
          <a:stretch/>
        </p:blipFill>
        <p:spPr>
          <a:xfrm>
            <a:off x="6629400" y="1371600"/>
            <a:ext cx="171468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tchieA1</cp:lastModifiedBy>
  <dcterms:modified xsi:type="dcterms:W3CDTF">2008-02-15T10:02:06Z</dcterms:modified>
  <cp:revision>15</cp:revision>
  <dc:subject/>
  <dc:title>PowerPoint Presentation</dc:title>
</cp:coreProperties>
</file>