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287-8596-49D8-A9C5-233FBBAA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FE0-6BEA-4AF6-88FD-9039AA6D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456-8B86-4EA5-A329-95F69F40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39E5-F675-4A22-B8A3-3063598D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456-8144-4362-BD5D-1CA95512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2603-75D5-4810-B8B2-5410E6C0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54A-F341-4C6A-BDBC-3F6235A7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F94E-F48C-44EF-962B-07665AE6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DBD-9992-462B-B375-E602DDC2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65D-22F5-4FE1-8398-DF984471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F4F-6FA1-4721-BCFB-DBD0C6DF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096-B43B-45EF-BA78-A176C0EA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8C82-61AE-4168-B35A-DAF4C7539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5e46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dy Macbeth persuades Macbeth to go ahead with the mu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51307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75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cbeth murders Dun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lcolm and Donalbain escape to England and Ire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i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ng of Scot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cbeth does not trust Banquo.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has him murde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74984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cbeth has a feast. Banquo’s ghost appears to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revisits the witches. He sees strange appari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75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acduff’s wife and children are killed by order of Macb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lcolm, Macduff and others plot to kill Macb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60872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dy Macbeth becomes mad. She dies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astle is attacked and Macbeth is kill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715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lcolm is proclaimed king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ng Duncan wins a great battl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is a h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5e46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acbeth and Banquo meet the witches. They tell Macbeth he will be Thane of Cawdor, then King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uncan makes Macbeth Thane of Caw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9180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31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and Lady Macbeth plot to kill King Dun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uncan comes to stay at Macbeth’s cas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50:37Z</dcterms:created>
  <dc:creator>The Heath School</dc:creator>
  <dc:description/>
  <dc:language>en-US</dc:language>
  <cp:lastModifiedBy>GettyJ</cp:lastModifiedBy>
  <dcterms:modified xsi:type="dcterms:W3CDTF">2008-10-29T14:55:07Z</dcterms:modified>
  <cp:revision>2</cp:revision>
  <dc:subject/>
  <dc:title>Three strange witches meet</dc:title>
</cp:coreProperties>
</file>