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388-FAC9-4E81-BCFA-929CABF1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2A7-F116-48C8-83C4-6DD2188E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A94-9616-4F8E-B992-AECEB861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C61-654B-41F6-9BDF-3FA31FEE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2A4-F758-4FE7-88FC-F4C1C9C8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8907-C189-451A-9827-6DA8A57E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3D0E-19A2-43C2-AC83-2710451F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DE4A-5BF3-421D-A47D-3694AC81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922-5E92-4072-B1BA-717C7DA0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E04-3360-415B-89D5-26E3B6E5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BFE-A15C-4791-B613-20B82721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772-9251-44F0-9BF2-EBC291C4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4EA4-5FA5-464B-9671-DDB776A22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005e46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dy Macbeth persuades Macbeth to go ahead with the mu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513072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75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acbeth murders Dun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lcolm and Donalbain escape to England and Ire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75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i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ng of Scot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75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cbeth does not trust Banquo.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has him murde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74984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cbeth has a feast. Banquo’s ghost appears to hi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revisits the witches. He sees strange appari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75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acduff’s wife and children are killed by order of Macbe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410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lcolm, Macduff and others plot to kill Macbe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60872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dy Macbeth becomes mad. She dies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7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castle is attacked and Macbeth is kill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715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lcolm is proclaimed king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ng Duncan wins a great battl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is a h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005e46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acbeth and Banquo meet the witches. They tell Macbeth he will be Thane of Cawdor, then King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uncan makes Macbeth Thane of Caw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9180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31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and Lady Macbeth plot to kill King Dun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75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uncan comes to stay at Macbeth’s cas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0:50:37Z</dcterms:created>
  <dc:creator>The Heath School</dc:creator>
  <dc:description/>
  <dc:language>en-US</dc:language>
  <cp:lastModifiedBy>GettyJ</cp:lastModifiedBy>
  <dcterms:modified xsi:type="dcterms:W3CDTF">2008-10-29T14:55:07Z</dcterms:modified>
  <cp:revision>2</cp:revision>
  <dc:subject/>
  <dc:title>Three strange witches meet</dc:title>
</cp:coreProperties>
</file>