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0C6-6866-4CBB-A8ED-5371247E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48D-E977-4920-9079-6B38F0E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086-B22D-4EB9-85AD-2AC3B2F0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02F-329A-4D71-AC38-CAE65AD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082-CA19-4178-8E0E-D45AA66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EC9-2ABB-41F7-94C2-11060567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841-B964-49CF-A91C-F7C15D46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5C4-6170-4492-98F3-6B64432C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A50-19A9-4D70-A69D-305EFA0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1B3-AB03-4DF2-99CB-C8A3BBC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98E-F8C4-486A-B7D9-4768B2D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7EE-5C43-4B1D-B9D6-AA14C5EC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F39-A10A-4F89-BFB1-C9874406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dy Macbeth persuades Macbeth to go ahead with the mu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30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beth murders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 and Donalbain escape to England and Ir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of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does not trust Banquo.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has him murde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498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has a feast. Banquo’s ghost appears to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revisits the witches. He sees strange appar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acduff’s wife and children are killed by order of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, Macduff and others plot to kill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608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dy Macbeth becomes mad. She di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astle is attacked and Macbeth is ki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lcolm is proclaimed k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Duncan wins a great batt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a 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cbeth and Banquo meet the witches. They tell Macbeth he will be Thane of Cawdor, then King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makes Macbeth Thane of Caw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1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and Lady Macbeth plot to kill King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comes to stay at Macbeth’s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50:37Z</dcterms:created>
  <dc:creator>The Heath School</dc:creator>
  <dc:description/>
  <dc:language>en-US</dc:language>
  <cp:lastModifiedBy>GettyJ</cp:lastModifiedBy>
  <dcterms:modified xsi:type="dcterms:W3CDTF">2008-10-29T14:55:07Z</dcterms:modified>
  <cp:revision>2</cp:revision>
  <dc:subject/>
  <dc:title>Three strange witches meet</dc:title>
</cp:coreProperties>
</file>