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5E4F-0B65-4D0C-8CDC-DD915FE2B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89C7-E7C6-4976-B30F-646E05D8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6149-F7D8-4462-8263-3148AE92C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75C7-A5BD-4D13-B896-08BC86D70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465F-86D7-48FB-9A76-27477488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F7B4-DD2E-43BC-953C-5ED983FB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22CC-3435-4ED5-A1DC-4EAAF5B1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9695-9C6F-4AB5-9412-9DA27534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E1C2-14B7-4372-A7EB-31E2534A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612E-13AF-403F-B349-C17BD977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36FB-DB0C-438C-963E-7DA11F24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40EF-603C-40DB-A697-6A06A61A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3C07-821E-4543-9470-FA2244015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005e46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09680" y="213372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dy Macbeth persuades Macbeth to go ahead with the mu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513072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752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acbeth murders Dun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465e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lcolm and Donalbain escape to England and Ire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0" y="243828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755e2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cbeth is crown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ing of Scot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755e2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cbeth does not trust Banquo.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 has him murder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474984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cbeth has a feast. Banquo’s ghost appears to hi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495288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cbeth revisits the witches. He sees strange appariti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752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Macduff’s wife and children are killed by order of Macbe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54104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465e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lcolm, Macduff and others plot to kill Macbe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4608720" cy="40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ady Macbeth becomes mad. She dies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55627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75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castle is attacked and Macbeth is kill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57150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75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lcolm is proclaimed king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133720" y="220968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75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ing Duncan wins a great battle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cbeth is a he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005e46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acbeth and Banquo meet the witches. They tell Macbeth he will be Thane of Cawdor, then King.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541008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uncan makes Macbeth Thane of Caw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591804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43200" y="2438280"/>
            <a:ext cx="3152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75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cbeth and Lady Macbeth plot to kill King Dun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09680" y="213372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755e2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uncan comes to stay at Macbeth’s cas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0:50:37Z</dcterms:created>
  <dc:creator>The Heath School</dc:creator>
  <dc:description/>
  <dc:language>en-US</dc:language>
  <cp:lastModifiedBy>GettyJ</cp:lastModifiedBy>
  <dcterms:modified xsi:type="dcterms:W3CDTF">2008-10-29T14:55:07Z</dcterms:modified>
  <cp:revision>2</cp:revision>
  <dc:subject/>
  <dc:title>Three strange witches meet</dc:title>
</cp:coreProperties>
</file>