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1C29-39C6-4017-A568-97D78C7A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1909-C5EF-450B-B4F8-A5CFC418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7024-016E-421F-903C-2CDCC759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F93E-B5FF-4998-AD72-EA934E11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E733-4C1D-48DD-B8D7-AD9228F1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BF5-C2B4-4858-817E-A5C5F193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30FE-8BA2-415C-A32B-2C77E8E7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C3AC-896F-49FB-9C1B-AEE5126F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9154-09BE-4F49-BF2E-4901B9C4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129C-A5D3-4D85-AF2C-7506A336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882A-0FBF-4CE7-BDAB-5DDE51E0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8170-A0F9-4B21-91A9-EC493AE8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CCE5-EE1D-4F34-8E15-911DD2EC8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005e46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9680" y="213372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dy Macbeth persuades Macbeth to go ahead with the mu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513072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75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acbeth murders Dun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465e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lcolm and Donalbain escape to England and Ire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755e2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cbeth is crown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ing of Scot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755e2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cbeth does not trust Banquo.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 has him murder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474984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cbeth has a feast. Banquo’s ghost appears to hi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495288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cbeth revisits the witches. He sees strange apparit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75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acduff’s wife and children are killed by order of Macbe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4104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465e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lcolm, Macduff and others plot to kill Macbe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4608720" cy="40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ady Macbeth becomes mad. She dies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55627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75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castle is attacked and Macbeth is kill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715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5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lcolm is proclaimed king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5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ing Duncan wins a great battle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cbeth is a h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005e46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acbeth and Banquo meet the witches. They tell Macbeth he will be Thane of Cawdor, then King.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uncan makes Macbeth Thane of Caw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591804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43200" y="2438280"/>
            <a:ext cx="3152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5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cbeth and Lady Macbeth plot to kill King Dun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09680" y="21337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755e2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uncan comes to stay at Macbeth’s cas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0:50:37Z</dcterms:created>
  <dc:creator>The Heath School</dc:creator>
  <dc:description/>
  <dc:language>en-US</dc:language>
  <cp:lastModifiedBy>GettyJ</cp:lastModifiedBy>
  <dcterms:modified xsi:type="dcterms:W3CDTF">2008-10-29T14:55:07Z</dcterms:modified>
  <cp:revision>2</cp:revision>
  <dc:subject/>
  <dc:title>Three strange witches meet</dc:title>
</cp:coreProperties>
</file>