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1A2-B423-49F7-9B46-CA18FE37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A7A-7420-42BE-B83D-64DA6666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21B-500C-4C3C-BB45-1E186234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AFF-45B8-41ED-B526-663BF39C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14E-C8A7-46C1-AFFA-01853494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21F-9E11-4C2C-9148-9887793E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B36-3402-4CFC-986F-2E4DC3E4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413-6AFE-433B-B3B1-972CBE68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C95-7749-4100-87C9-FDD31F54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9EE-6C6D-49C8-A214-2B078BAB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21E-56E5-421E-AA9B-8992E163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302-216A-4179-A76F-6B5416A0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2362-F6A7-41FA-961E-2DFFE187C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dy Macbeth persuades Macbeth to go ahead with the mu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1307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cbeth murders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 and Donalbain escape to England and Ire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of Scot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does not trust Banquo.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has him murde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74984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cbeth has a feast. Banquo’s ghost appears to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revisits the witches. He sees strange appari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Macduff’s wife and children are killed by order of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lcolm, Macduff and others plot to kill Macb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60872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dy Macbeth becomes mad. She di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castle is attacked and Macbeth is ki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lcolm is proclaimed king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g Duncan wins a great battl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is a h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005e46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acbeth and Banquo meet the witches. They tell Macbeth he will be Thane of Cawdor, then King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makes Macbeth Thane of Caw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9180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1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cbeth and Lady Macbeth plot to kill King Dun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755e2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ncan comes to stay at Macbeth’s cas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50:37Z</dcterms:created>
  <dc:creator>The Heath School</dc:creator>
  <dc:description/>
  <dc:language>en-US</dc:language>
  <cp:lastModifiedBy>GettyJ</cp:lastModifiedBy>
  <dcterms:modified xsi:type="dcterms:W3CDTF">2008-10-29T14:55:07Z</dcterms:modified>
  <cp:revision>2</cp:revision>
  <dc:subject/>
  <dc:title>Three strange witches meet</dc:title>
</cp:coreProperties>
</file>