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8C10-D931-4BE7-A25B-9D330682E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2751-6343-41A5-B7D7-DCDBB1A2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ABE6-FCDB-4B53-AF90-6DDB98F39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D6CE-A5F6-4A3C-870B-5056ED21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1711-FF8F-41CB-9A67-42BA88039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E6CF-E370-468F-A2D2-4D50270F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F6D0-9480-412A-9B3E-4E4B661A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5227-A610-4AFA-B0D0-67DBE2C2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4780-EB79-40E1-BDE3-7E2E7B97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634E-5AF8-4D63-9A13-2B73A536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E67C-5761-4A61-8DA0-123905BC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35DE-5335-497A-9F39-D72AA356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9AB1-BDFD-4665-BDE2-9048AD28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42B6-383F-4749-AAA8-65CB2412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2776-D7DE-4970-9DAB-C04616F8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A74D-F631-4B9C-99DF-A126806E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6D38-E97C-408B-8F45-E07518C7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87A9-5982-488B-A495-28889F3E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0F90-9951-457C-98E7-67F85251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625D-678A-421C-A533-8064EF53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9160-C428-49EE-9B95-776B6983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ADAF-ABAC-487D-8C8A-91D92E49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8234-931D-4668-B3A1-9F8F5C5E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78C8-4343-4743-8150-563EC5B0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8840-96BB-495B-AE55-171CE10777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C3B7-7B98-4B18-8CCF-8FF914C377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file:///tmp/home/.config/libreoffice/4/user/gallery/SN00227A.wav" TargetMode="External"/><Relationship Id="rId6" Type="http://schemas.microsoft.com/office/2007/relationships/media" Target="file:///tmp/home/.config/libreoffice/4/user/gallery/SN00227A.wav" TargetMode="Externa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file:///tmp/home/.config/libreoffice/4/user/gallery/SN00220A.wav" TargetMode="External"/><Relationship Id="rId3" Type="http://schemas.microsoft.com/office/2007/relationships/media" Target="file:///tmp/home/.config/libreoffice/4/user/gallery/SN00220A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1219320"/>
            <a:ext cx="77724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Kristen ITC"/>
              </a:rPr>
              <a:t>The Joy of 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Kristen ITC"/>
              </a:rPr>
              <a:t>Sentence Structure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Kristen ITC"/>
              <a:ea typeface="Kristen ITC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8080" y="5176800"/>
            <a:ext cx="1676520" cy="847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543800" y="609480"/>
            <a:ext cx="973080" cy="890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838080" y="990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6705720" y="51814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381880" y="5867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6169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38080" y="914400"/>
            <a:ext cx="746784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rial"/>
              </a:rPr>
              <a:t>But they also assumed that adversity - hardship, misfortune, disappointment, God's will, tough bananas, call it what you like - must be faced with fortitude. Stoically, courageously and in many cases triumphantly, they made the most of their childless liv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1. Explain how the author’s use of sentence structure helps the reader understand the meaning of ‘adversity’. 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2. How does the author’s use of sentence structure helps emphasise the moral fibre of these women. 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838080"/>
            <a:ext cx="7543800" cy="251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0880" y="304920"/>
            <a:ext cx="8534520" cy="56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rial"/>
              </a:rPr>
              <a:t>The war has made more openings for women than there were before. But there will still be a lot of prejudice. You will have to fight. You will have to struggle.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rial"/>
              </a:rPr>
              <a:t>So they did. They got on with it: a magnificent generation of women - some two million of them - who never married, never became mothers, but learned to live with their single status. For some it was a liberation, for others a tragedy; for many more an opportun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3. Explain how the sentence structure helps convey the determined attitude of these post-WW1 women. 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4. How does the author’s use of sentence structure help reveal how their lives were different from women of previous generations. 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228600"/>
            <a:ext cx="8458200" cy="419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533520"/>
            <a:ext cx="845820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rial"/>
              </a:rPr>
              <a:t>Jane is the most contented and carefree woman I know. She has not long retired from a distinguished career as a genetic scientist; she has no dependents; she has an elegant house, plenty of friends, a season ticket for Scottish Opera, membership of a golf club and she travels the world - often to visit friends made on the international circuit of scientific conferen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rial"/>
              </a:rPr>
              <a:t>5. Explain how the author’s use of sentence structure helps give the reader an accurate impression of Jane’s busy lifestyle. 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762120"/>
            <a:ext cx="8534160" cy="320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762120"/>
            <a:ext cx="7772400" cy="29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Remember, sentence structure questions are easy – you just need to learn what sentence structure mea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Three things should magically pop into your mind when you read the words ‘sentence structure’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62520" y="4952880"/>
            <a:ext cx="1565280" cy="1486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066680" y="3048120"/>
            <a:ext cx="1905120" cy="1447560"/>
          </a:xfrm>
          <a:prstGeom prst="cloudCallout">
            <a:avLst>
              <a:gd name="adj1" fmla="val 94750"/>
              <a:gd name="adj2" fmla="val 75546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77560" y="3505320"/>
            <a:ext cx="16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unctu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2971800"/>
            <a:ext cx="2362320" cy="1143000"/>
          </a:xfrm>
          <a:prstGeom prst="cloudCallout">
            <a:avLst>
              <a:gd name="adj1" fmla="val -1412"/>
              <a:gd name="adj2" fmla="val 113750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58480" y="3276720"/>
            <a:ext cx="127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nt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2971800"/>
            <a:ext cx="2133720" cy="1295280"/>
          </a:xfrm>
          <a:prstGeom prst="cloudCallout">
            <a:avLst>
              <a:gd name="adj1" fmla="val -59152"/>
              <a:gd name="adj2" fmla="val 81004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73560" y="3200400"/>
            <a:ext cx="134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nten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atter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48720" y="5562720"/>
            <a:ext cx="99036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27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1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b7"/>
                </a:solidFill>
                <a:latin typeface="Arial Black"/>
              </a:rPr>
              <a:t>Show how the author uses sentence structure to emphasise the narrator’s use of shame and panic at losing his horse. 2 marks</a:t>
            </a:r>
            <a:r>
              <a:rPr b="1" lang="en-GB" sz="32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ould take me years to live down the disgrace. In the meantime I must hurry home as fast as my dismounted legs could carry me. If only I could catch sight of that wretched Rob Roy eating some more grass by the roadside! If only I hadn’t let him go! If only I could begin my ride all over again! How careful I would b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09480" y="685800"/>
            <a:ext cx="7925040" cy="51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Punctuation (the easy one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To do well here, simply learn what the following punctuation marks 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Exclamation – conveys excitement, distress,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an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Question mark – may be rhetorical, may be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answered in the passage; involves the r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Inverted commas – signal a title; used to show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the author does not mean something literally;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can create humour/iro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38080" y="34290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" y="43434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5640" y="4419720"/>
            <a:ext cx="60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9900"/>
                </a:solidFill>
                <a:latin typeface="Trebuchet MS"/>
              </a:rPr>
              <a:t>‘’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9480" y="533520"/>
            <a:ext cx="80010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Comma (NEVER analyse on its own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creates a list, can be used for pare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Brackets – used for pare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Dashes – used for parenthesis (extra info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Single Dash – used to show an expansion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(explanation or exemplification) of an ide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-380880"/>
            <a:ext cx="121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9900"/>
                </a:solidFill>
                <a:latin typeface="Trebuchet MS"/>
              </a:rPr>
              <a:t>,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752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Trebuchet MS"/>
              </a:rPr>
              <a:t>()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28954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Trebuchet MS"/>
              </a:rPr>
              <a:t>--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41911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Trebuchet MS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8380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609480"/>
            <a:ext cx="815328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Colon – introduce a quote/list/defin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- 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Connect two ideas if the second is a 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restatement, further explanation or 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continuation of the fir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Semi-colon – separate a list of phr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- connects two closely related 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(often creates balance or contra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Ellipsis – conveys hesitation / interruption of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speech / builds ten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304920"/>
            <a:ext cx="259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9900"/>
                </a:solidFill>
                <a:latin typeface="Trebuchet MS"/>
              </a:rPr>
              <a:t>: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2743200"/>
            <a:ext cx="167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9900"/>
                </a:solidFill>
                <a:latin typeface="Trebuchet MS"/>
              </a:rPr>
              <a:t>;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50292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rebuchet MS"/>
              </a:rPr>
              <a:t>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533520"/>
            <a:ext cx="8153280" cy="53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Sentence Types (still fairly easy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nk about the type of sentence used and the effect this h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hort sentences – dramatic/creates ten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Long sentence – does the structure mimic the 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ontained withi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Questions – involve the reader / persuas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Exclamations – reveal surprise/anger/excit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One Sentence Paragraph - empha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480" y="685800"/>
            <a:ext cx="7925040" cy="62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Sentence Patterns </a:t>
            </a: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(easy, but you’d be surprised how many people forget about them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List – emphasises scale of somet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Repetition – draws our attention/emphatic/persuas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max –peak of argument / main  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ti-climax – often for humorous effect/relieves 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en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nversion – (word order) changes focus of sent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tithesis – placing together of 2 contrasting 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14400" y="106668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rebuchet MS"/>
              </a:rPr>
              <a:t>Now, put your knowledge to the test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657600" y="3124080"/>
            <a:ext cx="2184480" cy="21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19:39:34Z</dcterms:created>
  <dc:creator>East Renfrewshire Council</dc:creator>
  <dc:description/>
  <dc:language>en-US</dc:language>
  <cp:lastModifiedBy>macrobertl1</cp:lastModifiedBy>
  <dcterms:modified xsi:type="dcterms:W3CDTF">2010-01-08T11:08:30Z</dcterms:modified>
  <cp:revision>13</cp:revision>
  <dc:subject/>
  <dc:title>PowerPoint Presentation</dc:title>
</cp:coreProperties>
</file>