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D525-CDAF-48E4-9994-A1EAE801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DC42-13B7-40C2-AE64-238AE2F9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738-64E9-495C-AE6E-EE088D63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1B1-CD38-4A42-80F1-712E80C4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4C0E-8E75-490A-8FB7-87DA8BE5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A853-CB87-4DAC-8B39-3732A78F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2938-9E00-4112-9AA6-3D7E1A7D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DDD0-221A-4BE8-8228-30BF5076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C2BF-6113-40B9-B79C-223115BB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25F4-73FD-42E9-BE11-C07685AF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6AEF-1F1E-4064-A864-8404EF43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D1F4-1D20-4BC9-A4E6-01F97B3D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51A0-20F4-4F43-AC51-B95F20BB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B4FE-7E29-4D7E-A699-6AF8F2E1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A22C-56DB-4C2E-8711-9893F6B7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201D-C5C2-49BF-AB21-420435C1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782D-EC1F-43F8-A0C6-0FBDFCE8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E50-5552-41ED-BAA7-D18A6B0B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7DA-2266-429D-B389-6CB0A568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E395-195A-437B-8F48-457AB9B2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5B7-C1D0-42B5-B984-69DA9FFC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2051-EED7-438A-A74F-45C08FC7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59C-43FC-4500-965C-66299971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3E72-2181-40BC-893C-8DE500BA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73B5-B433-469C-A334-20231A99C6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CECA-6982-43EA-94DF-93B8DC0B22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file:///tmp/home/.config/libreoffice/4/user/gallery/SN00227A.wav" TargetMode="External"/><Relationship Id="rId6" Type="http://schemas.microsoft.com/office/2007/relationships/media" Target="file:///tmp/home/.config/libreoffice/4/user/gallery/SN00227A.wav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file:///tmp/home/.config/libreoffice/4/user/gallery/SN00220A.wav" TargetMode="External"/><Relationship Id="rId3" Type="http://schemas.microsoft.com/office/2007/relationships/media" Target="file:///tmp/home/.config/libreoffice/4/user/gallery/SN00220A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Kristen ITC"/>
              </a:rPr>
              <a:t>The Joy of 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Kristen ITC"/>
              </a:rPr>
              <a:t>Sentence Structure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5176800"/>
            <a:ext cx="1676520" cy="847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43800" y="609480"/>
            <a:ext cx="973080" cy="89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38080" y="990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705720" y="5181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381880" y="5867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616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914400"/>
            <a:ext cx="746784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But they also assumed that adversity - hardship, misfortune, disappointment, God's will, tough bananas, call it what you like - must be faced with fortitude. Stoically, courageously and in many cases triumphantly, they made the most of their childless liv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1. Explain how the author’s use of sentence structure helps the reader understand the meaning of ‘adversity’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2. How does the author’s use of sentence structure helps emphasise the moral fibre of these women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838080"/>
            <a:ext cx="754380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304920"/>
            <a:ext cx="8534520" cy="56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The war has made more openings for women than there were before. But there will still be a lot of prejudice. You will have to fight. You will have to struggle.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So they did. They got on with it: a magnificent generation of women - some two million of them - who never married, never became mothers, but learned to live with their single status. For some it was a liberation, for others a tragedy; for many more an opportun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3. Explain how the sentence structure helps convey the determined attitude of these post-WW1 women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4. How does the author’s use of sentence structure help reveal how their lives were different from women of previous generations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28600"/>
            <a:ext cx="8458200" cy="419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533520"/>
            <a:ext cx="84582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Jane is the most contented and carefree woman I know. She has not long retired from a distinguished career as a genetic scientist; she has no dependents; she has an elegant house, plenty of friends, a season ticket for Scottish Opera, membership of a golf club and she travels the world - often to visit friends made on the international circuit of scientific confer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5. Explain how the author’s use of sentence structure helps give the reader an accurate impression of Jane’s busy lifestyle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762120"/>
            <a:ext cx="853416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762120"/>
            <a:ext cx="7772400" cy="29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Remember, sentence structure questions are easy – you just need to learn what sentence structure mea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Three things should magically pop into your mind when you read the words ‘sentence structure’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62520" y="4952880"/>
            <a:ext cx="1565280" cy="1486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66680" y="3048120"/>
            <a:ext cx="1905120" cy="1447560"/>
          </a:xfrm>
          <a:prstGeom prst="cloudCallout">
            <a:avLst>
              <a:gd name="adj1" fmla="val 94750"/>
              <a:gd name="adj2" fmla="val 75546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77560" y="350532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unct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971800"/>
            <a:ext cx="2362320" cy="1143000"/>
          </a:xfrm>
          <a:prstGeom prst="cloudCallout">
            <a:avLst>
              <a:gd name="adj1" fmla="val -1412"/>
              <a:gd name="adj2" fmla="val 113750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58480" y="3276720"/>
            <a:ext cx="127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n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2971800"/>
            <a:ext cx="2133720" cy="1295280"/>
          </a:xfrm>
          <a:prstGeom prst="cloudCallout">
            <a:avLst>
              <a:gd name="adj1" fmla="val -59152"/>
              <a:gd name="adj2" fmla="val 81004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73560" y="3200400"/>
            <a:ext cx="134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nte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atte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48720" y="5562720"/>
            <a:ext cx="9903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27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b7"/>
                </a:solidFill>
                <a:latin typeface="Arial Black"/>
              </a:rPr>
              <a:t>Show how the author uses sentence structure to emphasise the narrator’s use of shame and panic at losing his horse. 2 marks</a:t>
            </a:r>
            <a:r>
              <a:rPr b="1" lang="en-GB" sz="3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take me years to live down the disgrace. In the meantime I must hurry home as fast as my dismounted legs could carry me. If only I could catch sight of that wretched Rob Roy eating some more grass by the roadside! If only I hadn’t let him go! If only I could begin my ride all over again! How careful I would b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09480" y="685800"/>
            <a:ext cx="7925040" cy="51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Punctuation (the easy one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To do well here, simply learn what the following punctuation marks 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Exclamation – conveys excitement, distress,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a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Question mark – may be rhetorical, may be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answered in the passage; involves the r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Inverted commas – signal a title; used to show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the author does not mean something literally;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an create humour/iro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43434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5640" y="4419720"/>
            <a:ext cx="60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00"/>
                </a:solidFill>
                <a:latin typeface="Trebuchet MS"/>
              </a:rPr>
              <a:t>‘’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533520"/>
            <a:ext cx="8001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omma (NEVER analyse on its own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reates a list, can be used for pare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Brackets – used for pare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Dashes – used for parenthesis (extra info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Single Dash – used to show an expansion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(explanation or exemplification) of an id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-38088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00"/>
                </a:solidFill>
                <a:latin typeface="Trebuchet MS"/>
              </a:rPr>
              <a:t>,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752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rebuchet MS"/>
              </a:rPr>
              <a:t>()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895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rebuchet MS"/>
              </a:rPr>
              <a:t>-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1911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rebuchet MS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09480"/>
            <a:ext cx="81532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olon – introduce a quote/list/defi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Connect two ideas if the second is a 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restatement, further explanation or 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continuation of the fir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Semi-colon – separate a list of phr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- connects two closely related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(often creates balance or contra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Ellipsis – conveys hesitation / interruption of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speech / builds 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30492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Trebuchet MS"/>
              </a:rPr>
              <a:t>: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743200"/>
            <a:ext cx="16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Trebuchet MS"/>
              </a:rPr>
              <a:t>;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50292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rebuchet MS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533520"/>
            <a:ext cx="815328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Sentence Types (still fairly easy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nk about the type of sentence used and the effect this h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hort sentences – dramatic/creates 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ong sentence – does the structure mimic the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ntained withi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Questions – involve the reader / persuas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xclamations – reveal surprise/anger/exci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ne Sentence Paragraph - empha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685800"/>
            <a:ext cx="7925040" cy="62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entence Patterns 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(easy, but you’d be surprised how many people forget about them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ist – emphasises scale of some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Repetition – draws our attention/emphatic/persuas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max –peak of argument / main 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ti-climax – often for humorous effect/relieves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version – (word order) changes focus of sent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tithesis – placing together of 2 contrasting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4400" y="106668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Now, put your knowledge to the test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218448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9:39:34Z</dcterms:created>
  <dc:creator>East Renfrewshire Council</dc:creator>
  <dc:description/>
  <dc:language>en-US</dc:language>
  <cp:lastModifiedBy>macrobertl1</cp:lastModifiedBy>
  <dcterms:modified xsi:type="dcterms:W3CDTF">2010-01-08T11:08:30Z</dcterms:modified>
  <cp:revision>13</cp:revision>
  <dc:subject/>
  <dc:title>PowerPoint Presentation</dc:title>
</cp:coreProperties>
</file>