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3FA-26F0-4F73-BACE-CA9ED6C4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892-CCE0-44B0-8C3B-B410BE91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6DB-BD65-4816-968F-45B4A13F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8CB-0F88-4B73-83DF-72A10EFB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C7FE-1B9A-4AB1-B4F9-07BC7F8F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7457-2ADD-49FE-B9AB-EB396103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C568-B2F7-4B53-8342-C185CCFB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ECF5-B373-41E8-A0E7-ECC28411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322A-AEFB-44BC-8FBA-7D68CB7B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DDB4-5E8A-4133-8FB3-45FE4A61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B59A-78D3-4068-BC3B-FE9D4119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8A2-8786-48D5-B1B6-BF384EDB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7691-4A40-4AF8-81B4-5880263A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772E-C2C4-4BBC-AB15-6A4B3381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5102-A553-45F8-87A1-955FB9D7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BEE3-1814-4F6D-838C-1D70779F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CE4A-DB0B-4100-A69E-7642FED0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A95-9762-4C10-960A-5EB1D0C4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FCD-B90D-4E0F-BDCA-D7AFDC48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951-C724-4E0E-B369-9EB8A306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829-1A2C-4543-8018-6200C607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B3B-4BF5-4570-A114-C3B9B08A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764-751E-4C08-B1B3-36ECDDE6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999-A91D-44DA-B650-C4E97125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5E81-8422-48D8-ABB7-64346061DD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0DD5-1874-49B2-91A3-59BB949760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file:///tmp/home/.config/libreoffice/4/user/gallery/SN00227A.wav" TargetMode="External"/><Relationship Id="rId6" Type="http://schemas.microsoft.com/office/2007/relationships/media" Target="file:///tmp/home/.config/libreoffice/4/user/gallery/SN00227A.wav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file:///tmp/home/.config/libreoffice/4/user/gallery/SN00220A.wav" TargetMode="External"/><Relationship Id="rId3" Type="http://schemas.microsoft.com/office/2007/relationships/media" Target="file:///tmp/home/.config/libreoffice/4/user/gallery/SN00220A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Kristen ITC"/>
              </a:rPr>
              <a:t>The Joy of 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Kristen ITC"/>
              </a:rPr>
              <a:t>Sentence Structure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5176800"/>
            <a:ext cx="1676520" cy="847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43800" y="609480"/>
            <a:ext cx="973080" cy="89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705720" y="5181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381880" y="5867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616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914400"/>
            <a:ext cx="746784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But they also assumed that adversity - hardship, misfortune, disappointment, God's will, tough bananas, call it what you like - must be faced with fortitude. Stoically, courageously and in many cases triumphantly, they made the most of their childless liv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1. Explain how the author’s use of sentence structure helps the reader understand the meaning of ‘adversity’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2. How does the author’s use of sentence structure helps emphasise the moral fibre of these women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838080"/>
            <a:ext cx="754380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04920"/>
            <a:ext cx="853452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The war has made more openings for women than there were before. But there will still be a lot of prejudice. You will have to fight. You will have to struggle.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So they did. They got on with it: a magnificent generation of women - some two million of them - who never married, never became mothers, but learned to live with their single status. For some it was a liberation, for others a tragedy; for many more an opportun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3. Explain how the sentence structure helps convey the determined attitude of these post-WW1 women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4. How does the author’s use of sentence structure help reveal how their lives were different from women of previous generations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28600"/>
            <a:ext cx="8458200" cy="419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533520"/>
            <a:ext cx="84582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Jane is the most contented and carefree woman I know. She has not long retired from a distinguished career as a genetic scientist; she has no dependents; she has an elegant house, plenty of friends, a season ticket for Scottish Opera, membership of a golf club and she travels the world - often to visit friends made on the international circuit of scientific confer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5. Explain how the author’s use of sentence structure helps give the reader an accurate impression of Jane’s busy lifestyle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762120"/>
            <a:ext cx="853416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762120"/>
            <a:ext cx="7772400" cy="29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Remember, sentence structure questions are easy – you just need to learn what sentence structure mea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hree things should magically pop into your mind when you read the words ‘sentence structure’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62520" y="4952880"/>
            <a:ext cx="1565280" cy="1486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66680" y="3048120"/>
            <a:ext cx="1905120" cy="1447560"/>
          </a:xfrm>
          <a:prstGeom prst="cloudCallout">
            <a:avLst>
              <a:gd name="adj1" fmla="val 94750"/>
              <a:gd name="adj2" fmla="val 75546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77560" y="350532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unct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971800"/>
            <a:ext cx="2362320" cy="1143000"/>
          </a:xfrm>
          <a:prstGeom prst="cloudCallout">
            <a:avLst>
              <a:gd name="adj1" fmla="val -1412"/>
              <a:gd name="adj2" fmla="val 113750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58480" y="3276720"/>
            <a:ext cx="127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n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2971800"/>
            <a:ext cx="2133720" cy="1295280"/>
          </a:xfrm>
          <a:prstGeom prst="cloudCallout">
            <a:avLst>
              <a:gd name="adj1" fmla="val -59152"/>
              <a:gd name="adj2" fmla="val 81004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73560" y="3200400"/>
            <a:ext cx="13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nte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atte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5562720"/>
            <a:ext cx="9903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27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b7"/>
                </a:solidFill>
                <a:latin typeface="Arial Black"/>
              </a:rPr>
              <a:t>Show how the author uses sentence structure to emphasise the narrator’s use of shame and panic at losing his horse. 2 marks</a:t>
            </a: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take me years to live down the disgrace. In the meantime I must hurry home as fast as my dismounted legs could carry me. If only I could catch sight of that wretched Rob Roy eating some more grass by the roadside! If only I hadn’t let him go! If only I could begin my ride all over again! How careful I would b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685800"/>
            <a:ext cx="7925040" cy="51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unctuation (the easy one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o do well here, simply learn what the following punctuation marks 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Exclamation – conveys excitement, distress,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a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Question mark – may be rhetorical, may be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answered in the passage; involves the r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Inverted commas – signal a title; used to show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he author does not mean something literally;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an create humour/ir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4343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5640" y="4419720"/>
            <a:ext cx="60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Trebuchet MS"/>
              </a:rPr>
              <a:t>‘’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533520"/>
            <a:ext cx="8001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omma (NEVER analyse on its own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reates a list, can be used for pare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Brackets – used for pare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Dashes – used for parenthesis (extra info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ingle Dash – used to show an expansion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(explanation or exemplification) of an id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-38088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Trebuchet MS"/>
              </a:rPr>
              <a:t>,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()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895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-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1911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09480"/>
            <a:ext cx="81532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olon – introduce a quote/list/de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Connect two ideas if the second is a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restatement, further explanation or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continuation of the fir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emi-colon – separate a list of phr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- connects two closely related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(often creates balance or contra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Ellipsis – conveys hesitation / interruption of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peech / builds 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0492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rebuchet MS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743200"/>
            <a:ext cx="16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rebuchet MS"/>
              </a:rPr>
              <a:t>;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50292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rebuchet MS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533520"/>
            <a:ext cx="815328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Sentence Types (still fairly easy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nk about the type of sentence used and the effect this h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hort sentences – dramatic/creates 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ong sentence – does the structure mimic the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tained withi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Questions – involve the reader / persua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xclamations – reveal surprise/anger/exci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ne Sentence Paragraph - empha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685800"/>
            <a:ext cx="7925040" cy="62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entence Patterns 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(easy, but you’d be surprised how many people forget about them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ist – emphasises scale of some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epetition – draws our attention/emphatic/persua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max –peak of argument / main 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ti-climax – often for humorous effect/relieves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version – (word order) changes focus of sent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tithesis – placing together of 2 contrasting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106668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Now, put your knowledge to the test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218448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9:39:34Z</dcterms:created>
  <dc:creator>East Renfrewshire Council</dc:creator>
  <dc:description/>
  <dc:language>en-US</dc:language>
  <cp:lastModifiedBy>macrobertl1</cp:lastModifiedBy>
  <dcterms:modified xsi:type="dcterms:W3CDTF">2010-01-08T11:08:30Z</dcterms:modified>
  <cp:revision>13</cp:revision>
  <dc:subject/>
  <dc:title>PowerPoint Presentation</dc:title>
</cp:coreProperties>
</file>