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581AF-D70C-40CF-8E80-3087713E4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10E6E-45BB-4F2B-9530-D57AB4B8B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FF797-93E9-4B9A-8F69-3E0B8C43F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D6564-A964-4DC9-9566-86A076BB4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5F983-3BAC-43FE-9814-0D03C2F8C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5EFDF-E088-46E4-905D-573D2164C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92E0F-0918-4309-8D3E-AD5A671F2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2FA10-1F52-4B62-AC61-553827322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EBC6D-E951-4383-ADF0-FDA5E2988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0A133-D1B2-486D-8512-020BDDB96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5A7DC-3A8D-40F0-B06D-1F726B55B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78D2-E0E0-4676-89F0-6253AFEAA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D270-5E95-40A4-97D5-C52946E97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EF0F8-6B82-4A78-899A-9208B921D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2AE12-3C41-4ED9-B04B-6B5839167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38BC3-EBDB-47C3-9E55-5AD05B74F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D9A68-A804-46C5-8882-11AF43BFB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2064F-E67D-434A-80CE-2383B91A0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8267-7B93-439A-9DFB-7FDBD7CC3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29E8-4392-4649-A7F8-DEDAD554D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0F4D-0D9C-4686-B04C-46E6860A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678E-BDAF-428F-9986-0077E170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F8DF-1554-4CF5-A9B3-A0F88D97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7B97-A52B-4EFA-9642-3F37DC538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4E92-07A7-44B1-BD06-AB5E40C7B21C}"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F4FC-9A2D-4DA7-A2FF-1F27BFB01FA1}"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a3d7a"/>
                </a:solidFill>
                <a:latin typeface="Times New Roman"/>
              </a:rPr>
              <a:t>Close Reading</a:t>
            </a:r>
            <a:endParaRPr b="0" lang="en-US" sz="3600" spc="-1" strike="noStrike">
              <a:solidFill>
                <a:srgbClr val="2a3d7a"/>
              </a:solidFill>
              <a:latin typeface="Times New Roman"/>
            </a:endParaRPr>
          </a:p>
        </p:txBody>
      </p:sp>
      <p:sp>
        <p:nvSpPr>
          <p:cNvPr id="91" name="PlaceHolder 2"/>
          <p:cNvSpPr>
            <a:spLocks noGrp="1"/>
          </p:cNvSpPr>
          <p:nvPr>
            <p:ph/>
          </p:nvPr>
        </p:nvSpPr>
        <p:spPr>
          <a:xfrm>
            <a:off x="457200" y="609480"/>
            <a:ext cx="8686800" cy="59436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Close Reading is the study of non fiction text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Is it assessed through NABs and in the final exams through answering a range of questions on an unseen passag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There are 3 types of Close Reading question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Understanding</a:t>
            </a:r>
            <a:r>
              <a:rPr b="0" lang="en-GB" sz="2400" spc="-1" strike="noStrike">
                <a:solidFill>
                  <a:srgbClr val="5b5249"/>
                </a:solidFill>
                <a:latin typeface="Times New Roman"/>
              </a:rPr>
              <a:t>-what is the writer say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Analysis</a:t>
            </a:r>
            <a:r>
              <a:rPr b="0" lang="en-GB" sz="2400" spc="-1" strike="noStrike">
                <a:solidFill>
                  <a:srgbClr val="5b5249"/>
                </a:solidFill>
                <a:latin typeface="Times New Roman"/>
              </a:rPr>
              <a:t>-How is the writer getting their message across to the reader.</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Evaluation</a:t>
            </a:r>
            <a:r>
              <a:rPr b="0" lang="en-GB" sz="2400" spc="-1" strike="noStrike">
                <a:solidFill>
                  <a:srgbClr val="5b5249"/>
                </a:solidFill>
                <a:latin typeface="Times New Roman"/>
              </a:rPr>
              <a:t>- How effectively is the writer expressing their idea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which type of question you are being asked to answer (U, A or 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will be told how many marks each question is worth e.g (2)</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You must make sure your answer is linked to the question type and marks availab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base">
                                        <p:cTn id="1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base">
                                        <p:cTn id="1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base">
                                        <p:cTn id="2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1">
                                            <p:txEl>
                                              <p:pRg st="8" end="8"/>
                                            </p:txEl>
                                          </p:spTgt>
                                        </p:tgtEl>
                                        <p:attrNameLst>
                                          <p:attrName>style.visibility</p:attrName>
                                        </p:attrNameLst>
                                      </p:cBhvr>
                                      <p:to>
                                        <p:strVal val="visible"/>
                                      </p:to>
                                    </p:set>
                                    <p:anim calcmode="lin" valueType="num">
                                      <p:cBhvr additive="base">
                                        <p:cTn id="49"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1">
                                            <p:txEl>
                                              <p:pRg st="9" end="9"/>
                                            </p:txEl>
                                          </p:spTgt>
                                        </p:tgtEl>
                                        <p:attrNameLst>
                                          <p:attrName>style.visibility</p:attrName>
                                        </p:attrNameLst>
                                      </p:cBhvr>
                                      <p:to>
                                        <p:strVal val="visible"/>
                                      </p:to>
                                    </p:set>
                                    <p:anim calcmode="lin" valueType="num">
                                      <p:cBhvr additive="base">
                                        <p:cTn id="55"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1">
                                            <p:txEl>
                                              <p:pRg st="10" end="10"/>
                                            </p:txEl>
                                          </p:spTgt>
                                        </p:tgtEl>
                                        <p:attrNameLst>
                                          <p:attrName>style.visibility</p:attrName>
                                        </p:attrNameLst>
                                      </p:cBhvr>
                                      <p:to>
                                        <p:strVal val="visible"/>
                                      </p:to>
                                    </p:set>
                                    <p:anim calcmode="lin" valueType="num">
                                      <p:cBhvr additive="base">
                                        <p:cTn id="61"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Understanding Questions</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There are 4 types of understanding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Own words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ontext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Quotation ques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Summary questions</a:t>
            </a:r>
            <a:endParaRPr b="0" lang="en-US" sz="3200" spc="-1" strike="noStrike">
              <a:solidFill>
                <a:srgbClr val="5b5249"/>
              </a:solidFill>
              <a:latin typeface="Times New Roman"/>
            </a:endParaRPr>
          </a:p>
        </p:txBody>
      </p:sp>
      <p:pic>
        <p:nvPicPr>
          <p:cNvPr id="94" name="" descr=""/>
          <p:cNvPicPr/>
          <p:nvPr/>
        </p:nvPicPr>
        <p:blipFill>
          <a:blip r:embed="rId1"/>
          <a:stretch/>
        </p:blipFill>
        <p:spPr>
          <a:xfrm>
            <a:off x="7238880" y="838080"/>
            <a:ext cx="1219320" cy="12654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gtEl>
                                        <p:attrNameLst>
                                          <p:attrName>style.visibility</p:attrName>
                                        </p:attrNameLst>
                                      </p:cBhvr>
                                      <p:to>
                                        <p:strVal val="visible"/>
                                      </p:to>
                                    </p:set>
                                    <p:anim calcmode="lin" valueType="num">
                                      <p:cBhvr additive="base">
                                        <p:cTn id="69" dur="500" fill="hold"/>
                                        <p:tgtEl>
                                          <p:spTgt spid="92"/>
                                        </p:tgtEl>
                                        <p:attrNameLst>
                                          <p:attrName>ppt_x</p:attrName>
                                        </p:attrNameLst>
                                      </p:cBhvr>
                                      <p:tavLst>
                                        <p:tav tm="0">
                                          <p:val>
                                            <p:strVal val="0-#ppt_w/2"/>
                                          </p:val>
                                        </p:tav>
                                        <p:tav tm="100000">
                                          <p:val>
                                            <p:strVal val="#ppt_x"/>
                                          </p:val>
                                        </p:tav>
                                      </p:tavLst>
                                    </p:anim>
                                    <p:anim calcmode="lin" valueType="num">
                                      <p:cBhvr additive="base">
                                        <p:cTn id="70" dur="500" fill="hold"/>
                                        <p:tgtEl>
                                          <p:spTgt spid="92"/>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3">
                                            <p:txEl>
                                              <p:pRg st="0" end="0"/>
                                            </p:txEl>
                                          </p:spTgt>
                                        </p:tgtEl>
                                        <p:attrNameLst>
                                          <p:attrName>style.visibility</p:attrName>
                                        </p:attrNameLst>
                                      </p:cBhvr>
                                      <p:to>
                                        <p:strVal val="visible"/>
                                      </p:to>
                                    </p:set>
                                    <p:anim calcmode="lin" valueType="num">
                                      <p:cBhvr additive="base">
                                        <p:cTn id="80"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3">
                                            <p:txEl>
                                              <p:pRg st="1" end="1"/>
                                            </p:txEl>
                                          </p:spTgt>
                                        </p:tgtEl>
                                        <p:attrNameLst>
                                          <p:attrName>style.visibility</p:attrName>
                                        </p:attrNameLst>
                                      </p:cBhvr>
                                      <p:to>
                                        <p:strVal val="visible"/>
                                      </p:to>
                                    </p:set>
                                    <p:anim calcmode="lin" valueType="num">
                                      <p:cBhvr additive="base">
                                        <p:cTn id="86"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 calcmode="lin" valueType="num">
                                      <p:cBhvr additive="base">
                                        <p:cTn id="92"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3">
                                            <p:txEl>
                                              <p:pRg st="3" end="3"/>
                                            </p:txEl>
                                          </p:spTgt>
                                        </p:tgtEl>
                                        <p:attrNameLst>
                                          <p:attrName>style.visibility</p:attrName>
                                        </p:attrNameLst>
                                      </p:cBhvr>
                                      <p:to>
                                        <p:strVal val="visible"/>
                                      </p:to>
                                    </p:set>
                                    <p:anim calcmode="lin" valueType="num">
                                      <p:cBhvr additive="base">
                                        <p:cTn id="98"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3">
                                            <p:txEl>
                                              <p:pRg st="4" end="4"/>
                                            </p:txEl>
                                          </p:spTgt>
                                        </p:tgtEl>
                                        <p:attrNameLst>
                                          <p:attrName>style.visibility</p:attrName>
                                        </p:attrNameLst>
                                      </p:cBhvr>
                                      <p:to>
                                        <p:strVal val="visible"/>
                                      </p:to>
                                    </p:set>
                                    <p:anim calcmode="lin" valueType="num">
                                      <p:cBhvr additive="base">
                                        <p:cTn id="10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s</a:t>
            </a:r>
            <a:endParaRPr b="0" lang="en-US" sz="4400" spc="-1" strike="noStrike">
              <a:solidFill>
                <a:srgbClr val="2a3d7a"/>
              </a:solidFill>
              <a:latin typeface="Times New Roman"/>
            </a:endParaRPr>
          </a:p>
        </p:txBody>
      </p:sp>
      <p:sp>
        <p:nvSpPr>
          <p:cNvPr id="96"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nswer these questions you need to select key ideas from the text and ‘translate them’ or express them in your OWN WORD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g. The quiet boy I had taught last term glared at me and clenched his fists. His face reddened with fury as he listened to his punishmen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Question:In your own words explain how the boy reacted to his teacher.</a:t>
            </a:r>
            <a:r>
              <a:rPr b="0" lang="en-GB" sz="2800" spc="-1" strike="noStrike">
                <a:solidFill>
                  <a:srgbClr val="5b5249"/>
                </a:solidFill>
                <a:latin typeface="Times New Roman"/>
              </a:rPr>
              <a:t>	</a:t>
            </a:r>
            <a:r>
              <a:rPr b="0" lang="en-GB" sz="2800" spc="-1" strike="noStrike">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Answ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boy stared angrily at his teacher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his face became flushed because he was so annoyed.</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97" name="" descr=""/>
          <p:cNvPicPr/>
          <p:nvPr/>
        </p:nvPicPr>
        <p:blipFill>
          <a:blip r:embed="rId1"/>
          <a:stretch/>
        </p:blipFill>
        <p:spPr>
          <a:xfrm>
            <a:off x="7315200" y="42670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5"/>
                                        </p:tgtEl>
                                        <p:attrNameLst>
                                          <p:attrName>style.visibility</p:attrName>
                                        </p:attrNameLst>
                                      </p:cBhvr>
                                      <p:to>
                                        <p:strVal val="visible"/>
                                      </p:to>
                                    </p:set>
                                    <p:anim calcmode="lin" valueType="num">
                                      <p:cBhvr additive="base">
                                        <p:cTn id="112" dur="500" fill="hold"/>
                                        <p:tgtEl>
                                          <p:spTgt spid="95"/>
                                        </p:tgtEl>
                                        <p:attrNameLst>
                                          <p:attrName>ppt_x</p:attrName>
                                        </p:attrNameLst>
                                      </p:cBhvr>
                                      <p:tavLst>
                                        <p:tav tm="0">
                                          <p:val>
                                            <p:strVal val="0-#ppt_w/2"/>
                                          </p:val>
                                        </p:tav>
                                        <p:tav tm="100000">
                                          <p:val>
                                            <p:strVal val="#ppt_x"/>
                                          </p:val>
                                        </p:tav>
                                      </p:tavLst>
                                    </p:anim>
                                    <p:anim calcmode="lin" valueType="num">
                                      <p:cBhvr additive="base">
                                        <p:cTn id="11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6">
                                            <p:txEl>
                                              <p:pRg st="0" end="0"/>
                                            </p:txEl>
                                          </p:spTgt>
                                        </p:tgtEl>
                                        <p:attrNameLst>
                                          <p:attrName>style.visibility</p:attrName>
                                        </p:attrNameLst>
                                      </p:cBhvr>
                                      <p:to>
                                        <p:strVal val="visible"/>
                                      </p:to>
                                    </p:set>
                                    <p:anim calcmode="lin" valueType="num">
                                      <p:cBhvr additive="base">
                                        <p:cTn id="118"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6">
                                            <p:txEl>
                                              <p:pRg st="2" end="2"/>
                                            </p:txEl>
                                          </p:spTgt>
                                        </p:tgtEl>
                                        <p:attrNameLst>
                                          <p:attrName>style.visibility</p:attrName>
                                        </p:attrNameLst>
                                      </p:cBhvr>
                                      <p:to>
                                        <p:strVal val="visible"/>
                                      </p:to>
                                    </p:set>
                                    <p:anim calcmode="lin" valueType="num">
                                      <p:cBhvr additive="base">
                                        <p:cTn id="124"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6">
                                            <p:txEl>
                                              <p:pRg st="3" end="3"/>
                                            </p:txEl>
                                          </p:spTgt>
                                        </p:tgtEl>
                                        <p:attrNameLst>
                                          <p:attrName>style.visibility</p:attrName>
                                        </p:attrNameLst>
                                      </p:cBhvr>
                                      <p:to>
                                        <p:strVal val="visible"/>
                                      </p:to>
                                    </p:set>
                                    <p:anim calcmode="lin" valueType="num">
                                      <p:cBhvr additive="base">
                                        <p:cTn id="130"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96">
                                            <p:txEl>
                                              <p:pRg st="4" end="4"/>
                                            </p:txEl>
                                          </p:spTgt>
                                        </p:tgtEl>
                                        <p:attrNameLst>
                                          <p:attrName>style.visibility</p:attrName>
                                        </p:attrNameLst>
                                      </p:cBhvr>
                                      <p:to>
                                        <p:strVal val="visible"/>
                                      </p:to>
                                    </p:set>
                                    <p:anim calcmode="lin" valueType="num">
                                      <p:cBhvr additive="base">
                                        <p:cTn id="136"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96">
                                            <p:txEl>
                                              <p:pRg st="5" end="5"/>
                                            </p:txEl>
                                          </p:spTgt>
                                        </p:tgtEl>
                                        <p:attrNameLst>
                                          <p:attrName>style.visibility</p:attrName>
                                        </p:attrNameLst>
                                      </p:cBhvr>
                                      <p:to>
                                        <p:strVal val="visible"/>
                                      </p:to>
                                    </p:set>
                                    <p:anim calcmode="lin" valueType="num">
                                      <p:cBhvr additive="base">
                                        <p:cTn id="142"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 calcmode="lin" valueType="num">
                                      <p:cBhvr additive="base">
                                        <p:cTn id="148"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8">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base">
                                        <p:cTn id="153" dur="500" fill="hold"/>
                                        <p:tgtEl>
                                          <p:spTgt spid="97"/>
                                        </p:tgtEl>
                                        <p:attrNameLst>
                                          <p:attrName>ppt_x</p:attrName>
                                        </p:attrNameLst>
                                      </p:cBhvr>
                                      <p:tavLst>
                                        <p:tav tm="0">
                                          <p:val>
                                            <p:strVal val="0-#ppt_w/2"/>
                                          </p:val>
                                        </p:tav>
                                        <p:tav tm="100000">
                                          <p:val>
                                            <p:strVal val="#ppt_x"/>
                                          </p:val>
                                        </p:tav>
                                      </p:tavLst>
                                    </p:anim>
                                    <p:anim calcmode="lin" valueType="num">
                                      <p:cBhvr additive="base">
                                        <p:cTn id="15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wn words question</a:t>
            </a:r>
            <a:endParaRPr b="0" lang="en-US" sz="4400" spc="-1" strike="noStrike">
              <a:solidFill>
                <a:srgbClr val="2a3d7a"/>
              </a:solidFill>
              <a:latin typeface="Times New Roman"/>
            </a:endParaRPr>
          </a:p>
        </p:txBody>
      </p:sp>
      <p:sp>
        <p:nvSpPr>
          <p:cNvPr id="99" name="PlaceHolder 2"/>
          <p:cNvSpPr>
            <a:spLocks noGrp="1"/>
          </p:cNvSpPr>
          <p:nvPr>
            <p:ph/>
          </p:nvPr>
        </p:nvSpPr>
        <p:spPr>
          <a:xfrm>
            <a:off x="533160" y="761760"/>
            <a:ext cx="8305560" cy="5454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he great white shark is a skilled hunter. It can sniff out tiny particles of blood and other fluids in the midst of the ocean. It has row upon row of razor-like teeth and a bite so powerful it can cut through metal. Perhaps more terrifying it attacks its victims with great speed after watching them from beneath the waves allowing little time to escap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Using your own words explain why the great white is such an effective hunter. </a:t>
            </a:r>
            <a:r>
              <a:rPr b="0" lang="en-GB" sz="2800" spc="-1" strike="noStrike">
                <a:solidFill>
                  <a:srgbClr val="5b5249"/>
                </a:solidFill>
                <a:latin typeface="Times New Roman"/>
              </a:rPr>
              <a:t>	</a:t>
            </a:r>
            <a:r>
              <a:rPr b="0" lang="en-GB" sz="2800" spc="-1" strike="noStrike">
                <a:solidFill>
                  <a:srgbClr val="5b5249"/>
                </a:solidFill>
                <a:latin typeface="Times New Roman"/>
              </a:rPr>
              <a:t>(3)</a:t>
            </a:r>
            <a:endParaRPr b="0" lang="en-US" sz="2800" spc="-1" strike="noStrike">
              <a:solidFill>
                <a:srgbClr val="5b5249"/>
              </a:solidFill>
              <a:latin typeface="Times New Roman"/>
            </a:endParaRPr>
          </a:p>
        </p:txBody>
      </p:sp>
      <p:pic>
        <p:nvPicPr>
          <p:cNvPr id="100" name="" descr=""/>
          <p:cNvPicPr/>
          <p:nvPr/>
        </p:nvPicPr>
        <p:blipFill>
          <a:blip r:embed="rId1"/>
          <a:stretch/>
        </p:blipFill>
        <p:spPr>
          <a:xfrm>
            <a:off x="6019920" y="5145120"/>
            <a:ext cx="2819160" cy="14382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8"/>
                                        </p:tgtEl>
                                        <p:attrNameLst>
                                          <p:attrName>style.visibility</p:attrName>
                                        </p:attrNameLst>
                                      </p:cBhvr>
                                      <p:to>
                                        <p:strVal val="visible"/>
                                      </p:to>
                                    </p:set>
                                    <p:anim calcmode="lin" valueType="num">
                                      <p:cBhvr additive="base">
                                        <p:cTn id="161" dur="500" fill="hold"/>
                                        <p:tgtEl>
                                          <p:spTgt spid="98"/>
                                        </p:tgtEl>
                                        <p:attrNameLst>
                                          <p:attrName>ppt_x</p:attrName>
                                        </p:attrNameLst>
                                      </p:cBhvr>
                                      <p:tavLst>
                                        <p:tav tm="0">
                                          <p:val>
                                            <p:strVal val="0-#ppt_w/2"/>
                                          </p:val>
                                        </p:tav>
                                        <p:tav tm="100000">
                                          <p:val>
                                            <p:strVal val="#ppt_x"/>
                                          </p:val>
                                        </p:tav>
                                      </p:tavLst>
                                    </p:anim>
                                    <p:anim calcmode="lin" valueType="num">
                                      <p:cBhvr additive="base">
                                        <p:cTn id="16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99">
                                            <p:txEl>
                                              <p:pRg st="0" end="0"/>
                                            </p:txEl>
                                          </p:spTgt>
                                        </p:tgtEl>
                                        <p:attrNameLst>
                                          <p:attrName>style.visibility</p:attrName>
                                        </p:attrNameLst>
                                      </p:cBhvr>
                                      <p:to>
                                        <p:strVal val="visible"/>
                                      </p:to>
                                    </p:set>
                                    <p:anim calcmode="lin" valueType="num">
                                      <p:cBhvr additive="base">
                                        <p:cTn id="16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99">
                                            <p:txEl>
                                              <p:pRg st="2" end="2"/>
                                            </p:txEl>
                                          </p:spTgt>
                                        </p:tgtEl>
                                        <p:attrNameLst>
                                          <p:attrName>style.visibility</p:attrName>
                                        </p:attrNameLst>
                                      </p:cBhvr>
                                      <p:to>
                                        <p:strVal val="visible"/>
                                      </p:to>
                                    </p:set>
                                    <p:anim calcmode="lin" valueType="num">
                                      <p:cBhvr additive="base">
                                        <p:cTn id="17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175"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100"/>
                                        </p:tgtEl>
                                        <p:attrNameLst>
                                          <p:attrName>style.visibility</p:attrName>
                                        </p:attrNameLst>
                                      </p:cBhvr>
                                      <p:to>
                                        <p:strVal val="visible"/>
                                      </p:to>
                                    </p:set>
                                    <p:anim calcmode="lin" valueType="num">
                                      <p:cBhvr additive="base">
                                        <p:cTn id="178" dur="500" fill="hold"/>
                                        <p:tgtEl>
                                          <p:spTgt spid="100"/>
                                        </p:tgtEl>
                                        <p:attrNameLst>
                                          <p:attrName>ppt_x</p:attrName>
                                        </p:attrNameLst>
                                      </p:cBhvr>
                                      <p:tavLst>
                                        <p:tav tm="0">
                                          <p:val>
                                            <p:strVal val="0-#ppt_w/2"/>
                                          </p:val>
                                        </p:tav>
                                        <p:tav tm="100000">
                                          <p:val>
                                            <p:strVal val="#ppt_x"/>
                                          </p:val>
                                        </p:tav>
                                      </p:tavLst>
                                    </p:anim>
                                    <p:anim calcmode="lin" valueType="num">
                                      <p:cBhvr additive="base">
                                        <p:cTn id="17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a:t>
            </a:r>
            <a:endParaRPr b="0" lang="en-US" sz="4400" spc="-1" strike="noStrike">
              <a:solidFill>
                <a:srgbClr val="2a3d7a"/>
              </a:solidFill>
              <a:latin typeface="Times New Roman"/>
            </a:endParaRPr>
          </a:p>
        </p:txBody>
      </p:sp>
      <p:sp>
        <p:nvSpPr>
          <p:cNvPr id="102" name="PlaceHolder 2"/>
          <p:cNvSpPr>
            <a:spLocks noGrp="1"/>
          </p:cNvSpPr>
          <p:nvPr>
            <p:ph/>
          </p:nvPr>
        </p:nvSpPr>
        <p:spPr>
          <a:xfrm>
            <a:off x="304920" y="838080"/>
            <a:ext cx="8534160" cy="60199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sider the number of marks availabl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relevant pieces of the tex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sing bullet points express these ideas briefly but clearly in your OWN WORDS</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great white shark is a skilled hunter. It can </a:t>
            </a:r>
            <a:r>
              <a:rPr b="0" lang="en-GB" sz="2000" spc="-1" strike="noStrike">
                <a:solidFill>
                  <a:srgbClr val="fd1df8"/>
                </a:solidFill>
                <a:latin typeface="Times New Roman"/>
              </a:rPr>
              <a:t>sniff out tiny particles of blood</a:t>
            </a:r>
            <a:r>
              <a:rPr b="0" lang="en-GB" sz="2000" spc="-1" strike="noStrike">
                <a:solidFill>
                  <a:srgbClr val="5b5249"/>
                </a:solidFill>
                <a:latin typeface="Times New Roman"/>
              </a:rPr>
              <a:t> and other fluids in the midst of the ocean. It has </a:t>
            </a:r>
            <a:r>
              <a:rPr b="0" lang="en-GB" sz="2000" spc="-1" strike="noStrike">
                <a:solidFill>
                  <a:srgbClr val="fd1df8"/>
                </a:solidFill>
                <a:latin typeface="Times New Roman"/>
              </a:rPr>
              <a:t>row upon row of razor-like teeth</a:t>
            </a:r>
            <a:r>
              <a:rPr b="0" lang="en-GB" sz="2000" spc="-1" strike="noStrike">
                <a:solidFill>
                  <a:srgbClr val="5b5249"/>
                </a:solidFill>
                <a:latin typeface="Times New Roman"/>
              </a:rPr>
              <a:t> and a bite so powerful it can cut through metal. Perhaps more terrifying it attacks its victims with </a:t>
            </a:r>
            <a:r>
              <a:rPr b="0" lang="en-GB" sz="2000" spc="-1" strike="noStrike">
                <a:solidFill>
                  <a:srgbClr val="fd1df8"/>
                </a:solidFill>
                <a:latin typeface="Times New Roman"/>
              </a:rPr>
              <a:t>great speed</a:t>
            </a:r>
            <a:r>
              <a:rPr b="0" lang="en-GB" sz="2000" spc="-1" strike="noStrike">
                <a:solidFill>
                  <a:srgbClr val="5b5249"/>
                </a:solidFill>
                <a:latin typeface="Times New Roman"/>
              </a:rPr>
              <a:t> after </a:t>
            </a:r>
            <a:r>
              <a:rPr b="0" lang="en-GB" sz="2000" spc="-1" strike="noStrike">
                <a:solidFill>
                  <a:srgbClr val="fd1df8"/>
                </a:solidFill>
                <a:latin typeface="Times New Roman"/>
              </a:rPr>
              <a:t>watching them from beneath the waves allowing little time to escape</a:t>
            </a:r>
            <a:r>
              <a:rPr b="0" lang="en-GB" sz="2000" spc="-1" strike="noStrike">
                <a:solidFill>
                  <a:srgbClr val="5b5249"/>
                </a:solidFill>
                <a:latin typeface="Times New Roman"/>
              </a:rPr>
              <a:t>.</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a very sensitive sense of smell to detect prey</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has lots of very sharp teeth</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t moves very quickly and takes victims by surprise.</a:t>
            </a:r>
            <a:endParaRPr b="0" lang="en-US" sz="2000" spc="-1" strike="noStrike">
              <a:solidFill>
                <a:srgbClr val="5b5249"/>
              </a:solidFill>
              <a:latin typeface="Times New Roman"/>
            </a:endParaRPr>
          </a:p>
        </p:txBody>
      </p:sp>
      <p:pic>
        <p:nvPicPr>
          <p:cNvPr id="103" name="" descr=""/>
          <p:cNvPicPr/>
          <p:nvPr/>
        </p:nvPicPr>
        <p:blipFill>
          <a:blip r:embed="rId1"/>
          <a:stretch/>
        </p:blipFill>
        <p:spPr>
          <a:xfrm>
            <a:off x="6858000" y="4648320"/>
            <a:ext cx="2286000" cy="1452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0-#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2">
                                            <p:txEl>
                                              <p:pRg st="0" end="0"/>
                                            </p:txEl>
                                          </p:spTgt>
                                        </p:tgtEl>
                                        <p:attrNameLst>
                                          <p:attrName>style.visibility</p:attrName>
                                        </p:attrNameLst>
                                      </p:cBhvr>
                                      <p:to>
                                        <p:strVal val="visible"/>
                                      </p:to>
                                    </p:set>
                                    <p:anim calcmode="lin" valueType="num">
                                      <p:cBhvr additive="base">
                                        <p:cTn id="19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2">
                                            <p:txEl>
                                              <p:pRg st="1" end="1"/>
                                            </p:txEl>
                                          </p:spTgt>
                                        </p:tgtEl>
                                        <p:attrNameLst>
                                          <p:attrName>style.visibility</p:attrName>
                                        </p:attrNameLst>
                                      </p:cBhvr>
                                      <p:to>
                                        <p:strVal val="visible"/>
                                      </p:to>
                                    </p:set>
                                    <p:anim calcmode="lin" valueType="num">
                                      <p:cBhvr additive="base">
                                        <p:cTn id="19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2">
                                            <p:txEl>
                                              <p:pRg st="2" end="2"/>
                                            </p:txEl>
                                          </p:spTgt>
                                        </p:tgtEl>
                                        <p:attrNameLst>
                                          <p:attrName>style.visibility</p:attrName>
                                        </p:attrNameLst>
                                      </p:cBhvr>
                                      <p:to>
                                        <p:strVal val="visible"/>
                                      </p:to>
                                    </p:set>
                                    <p:anim calcmode="lin" valueType="num">
                                      <p:cBhvr additive="base">
                                        <p:cTn id="20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2">
                                            <p:txEl>
                                              <p:pRg st="4" end="4"/>
                                            </p:txEl>
                                          </p:spTgt>
                                        </p:tgtEl>
                                        <p:attrNameLst>
                                          <p:attrName>style.visibility</p:attrName>
                                        </p:attrNameLst>
                                      </p:cBhvr>
                                      <p:to>
                                        <p:strVal val="visible"/>
                                      </p:to>
                                    </p:set>
                                    <p:anim calcmode="lin" valueType="num">
                                      <p:cBhvr additive="base">
                                        <p:cTn id="210"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02">
                                            <p:txEl>
                                              <p:pRg st="6" end="6"/>
                                            </p:txEl>
                                          </p:spTgt>
                                        </p:tgtEl>
                                        <p:attrNameLst>
                                          <p:attrName>style.visibility</p:attrName>
                                        </p:attrNameLst>
                                      </p:cBhvr>
                                      <p:to>
                                        <p:strVal val="visible"/>
                                      </p:to>
                                    </p:set>
                                    <p:anim calcmode="lin" valueType="num">
                                      <p:cBhvr additive="base">
                                        <p:cTn id="216"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02">
                                            <p:txEl>
                                              <p:pRg st="7" end="7"/>
                                            </p:txEl>
                                          </p:spTgt>
                                        </p:tgtEl>
                                        <p:attrNameLst>
                                          <p:attrName>style.visibility</p:attrName>
                                        </p:attrNameLst>
                                      </p:cBhvr>
                                      <p:to>
                                        <p:strVal val="visible"/>
                                      </p:to>
                                    </p:set>
                                    <p:anim calcmode="lin" valueType="num">
                                      <p:cBhvr additive="base">
                                        <p:cTn id="222"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02">
                                            <p:txEl>
                                              <p:pRg st="8" end="8"/>
                                            </p:txEl>
                                          </p:spTgt>
                                        </p:tgtEl>
                                        <p:attrNameLst>
                                          <p:attrName>style.visibility</p:attrName>
                                        </p:attrNameLst>
                                      </p:cBhvr>
                                      <p:to>
                                        <p:strVal val="visible"/>
                                      </p:to>
                                    </p:set>
                                    <p:anim calcmode="lin" valueType="num">
                                      <p:cBhvr additive="base">
                                        <p:cTn id="228"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02">
                                            <p:txEl>
                                              <p:pRg st="9" end="9"/>
                                            </p:txEl>
                                          </p:spTgt>
                                        </p:tgtEl>
                                        <p:attrNameLst>
                                          <p:attrName>style.visibility</p:attrName>
                                        </p:attrNameLst>
                                      </p:cBhvr>
                                      <p:to>
                                        <p:strVal val="visible"/>
                                      </p:to>
                                    </p:set>
                                    <p:anim calcmode="lin" valueType="num">
                                      <p:cBhvr additive="base">
                                        <p:cTn id="234"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0-#ppt_w/2"/>
                                          </p:val>
                                        </p:tav>
                                        <p:tav tm="100000">
                                          <p:val>
                                            <p:strVal val="#ppt_x"/>
                                          </p:val>
                                        </p:tav>
                                      </p:tavLst>
                                    </p:anim>
                                    <p:anim calcmode="lin" valueType="num">
                                      <p:cBhvr additive="base">
                                        <p:cTn id="2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05"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For context questions you need to show you understand the meaning of a key word and explain how the words and phrases around it (the context) make this meaning clear.</a:t>
            </a:r>
            <a:endParaRPr b="0" lang="en-US" sz="2000" spc="-1" strike="noStrike">
              <a:solidFill>
                <a:srgbClr val="5b5249"/>
              </a:solidFill>
              <a:latin typeface="Times New Roman"/>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ample: Even the most hardened detectives considered this a heinous crime.Every police force was involved in following every lead and checking the file of every violent criminal on record. Never in the history of Scotland had a murder trial attracted so much hysterical publicity. Headlines declared Black ‘a heartless beast’.</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what the word ‘heinous’ means and how the context of this word makes this clear.</a:t>
            </a:r>
            <a:r>
              <a:rPr b="0" lang="en-GB" sz="2000" spc="-1" strike="noStrike">
                <a:solidFill>
                  <a:srgbClr val="5b5249"/>
                </a:solidFill>
                <a:latin typeface="Times New Roman"/>
              </a:rPr>
              <a:t>	</a:t>
            </a:r>
            <a:r>
              <a:rPr b="0" lang="en-GB" sz="2000" spc="-1" strike="noStrike">
                <a:solidFill>
                  <a:srgbClr val="5b5249"/>
                </a:solidFill>
                <a:latin typeface="Times New Roman"/>
              </a:rPr>
              <a:t>(3)</a:t>
            </a:r>
            <a:endParaRPr b="0" lang="en-US" sz="2000" spc="-1" strike="noStrike">
              <a:solidFill>
                <a:srgbClr val="5b5249"/>
              </a:solidFill>
              <a:latin typeface="Times New Roman"/>
            </a:endParaRPr>
          </a:p>
          <a:p>
            <a:pPr marL="45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nswer: Heinous means extremely wicked or terribl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rime appalled experienced detectives showing how shocking it was</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it was important enough to involve ‘every police force’</a:t>
            </a:r>
            <a:endParaRPr b="0" lang="en-US" sz="2000" spc="-1" strike="noStrike">
              <a:solidFill>
                <a:srgbClr val="5b5249"/>
              </a:solidFill>
              <a:latin typeface="Times New Roman"/>
            </a:endParaRPr>
          </a:p>
          <a:p>
            <a:pPr lvl="2" marL="1356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	</a:t>
            </a:r>
            <a:r>
              <a:rPr b="0" lang="en-GB" sz="2000" spc="-1" strike="noStrike">
                <a:solidFill>
                  <a:srgbClr val="5b5249"/>
                </a:solidFill>
                <a:latin typeface="Times New Roman"/>
              </a:rPr>
              <a:t>- the case appeared in many papers and the killer was compared to an      animal suggesting his actions were particularly horrible</a:t>
            </a:r>
            <a:endParaRPr b="0" lang="en-US" sz="2000" spc="-1" strike="noStrike">
              <a:solidFill>
                <a:srgbClr val="5b5249"/>
              </a:solidFill>
              <a:latin typeface="Times New Roman"/>
            </a:endParaRPr>
          </a:p>
        </p:txBody>
      </p:sp>
      <p:pic>
        <p:nvPicPr>
          <p:cNvPr id="106" name="" descr=""/>
          <p:cNvPicPr/>
          <p:nvPr/>
        </p:nvPicPr>
        <p:blipFill>
          <a:blip r:embed="rId1"/>
          <a:stretch/>
        </p:blipFill>
        <p:spPr>
          <a:xfrm>
            <a:off x="7010280" y="4191120"/>
            <a:ext cx="1486080" cy="914400"/>
          </a:xfrm>
          <a:prstGeom prst="rect">
            <a:avLst/>
          </a:prstGeom>
          <a:ln w="0">
            <a:noFill/>
          </a:ln>
        </p:spPr>
      </p:pic>
      <p:sp>
        <p:nvSpPr>
          <p:cNvPr id="107" name=""/>
          <p:cNvSpPr/>
          <p:nvPr/>
        </p:nvSpPr>
        <p:spPr>
          <a:xfrm>
            <a:off x="5135400" y="846000"/>
            <a:ext cx="3822840" cy="60480"/>
          </a:xfrm>
          <a:custGeom>
            <a:avLst/>
            <a:gdLst/>
            <a:ahLst/>
            <a:rect l="l" t="t" r="r" b="b"/>
            <a:pathLst>
              <a:path w="2408" h="38">
                <a:moveTo>
                  <a:pt x="0" y="37"/>
                </a:moveTo>
                <a:lnTo>
                  <a:pt x="8" y="37"/>
                </a:lnTo>
                <a:lnTo>
                  <a:pt x="15" y="37"/>
                </a:lnTo>
                <a:lnTo>
                  <a:pt x="23" y="37"/>
                </a:lnTo>
                <a:lnTo>
                  <a:pt x="30" y="37"/>
                </a:lnTo>
                <a:lnTo>
                  <a:pt x="37" y="37"/>
                </a:lnTo>
                <a:lnTo>
                  <a:pt x="45" y="37"/>
                </a:lnTo>
                <a:lnTo>
                  <a:pt x="52" y="37"/>
                </a:lnTo>
                <a:lnTo>
                  <a:pt x="60" y="37"/>
                </a:lnTo>
                <a:lnTo>
                  <a:pt x="67" y="37"/>
                </a:lnTo>
                <a:lnTo>
                  <a:pt x="74" y="37"/>
                </a:lnTo>
                <a:lnTo>
                  <a:pt x="82" y="37"/>
                </a:lnTo>
                <a:lnTo>
                  <a:pt x="89" y="37"/>
                </a:lnTo>
                <a:lnTo>
                  <a:pt x="97" y="37"/>
                </a:lnTo>
                <a:lnTo>
                  <a:pt x="104" y="37"/>
                </a:lnTo>
                <a:lnTo>
                  <a:pt x="111" y="37"/>
                </a:lnTo>
                <a:lnTo>
                  <a:pt x="119" y="37"/>
                </a:lnTo>
                <a:lnTo>
                  <a:pt x="126" y="37"/>
                </a:lnTo>
                <a:lnTo>
                  <a:pt x="134" y="37"/>
                </a:lnTo>
                <a:lnTo>
                  <a:pt x="141" y="37"/>
                </a:lnTo>
                <a:lnTo>
                  <a:pt x="141" y="29"/>
                </a:lnTo>
                <a:lnTo>
                  <a:pt x="148" y="29"/>
                </a:lnTo>
                <a:lnTo>
                  <a:pt x="156" y="29"/>
                </a:lnTo>
                <a:lnTo>
                  <a:pt x="163" y="29"/>
                </a:lnTo>
                <a:lnTo>
                  <a:pt x="171" y="29"/>
                </a:lnTo>
                <a:lnTo>
                  <a:pt x="178" y="29"/>
                </a:lnTo>
                <a:lnTo>
                  <a:pt x="185" y="29"/>
                </a:lnTo>
                <a:lnTo>
                  <a:pt x="193" y="29"/>
                </a:lnTo>
                <a:lnTo>
                  <a:pt x="200" y="29"/>
                </a:lnTo>
                <a:lnTo>
                  <a:pt x="208" y="29"/>
                </a:lnTo>
                <a:lnTo>
                  <a:pt x="215" y="29"/>
                </a:lnTo>
                <a:lnTo>
                  <a:pt x="222" y="29"/>
                </a:lnTo>
                <a:lnTo>
                  <a:pt x="230" y="29"/>
                </a:lnTo>
                <a:lnTo>
                  <a:pt x="237" y="29"/>
                </a:lnTo>
                <a:lnTo>
                  <a:pt x="245" y="29"/>
                </a:lnTo>
                <a:lnTo>
                  <a:pt x="252" y="29"/>
                </a:lnTo>
                <a:lnTo>
                  <a:pt x="259" y="29"/>
                </a:lnTo>
                <a:lnTo>
                  <a:pt x="267" y="29"/>
                </a:lnTo>
                <a:lnTo>
                  <a:pt x="274" y="29"/>
                </a:lnTo>
                <a:lnTo>
                  <a:pt x="282" y="29"/>
                </a:lnTo>
                <a:lnTo>
                  <a:pt x="289" y="29"/>
                </a:lnTo>
                <a:lnTo>
                  <a:pt x="297" y="29"/>
                </a:lnTo>
                <a:lnTo>
                  <a:pt x="304" y="29"/>
                </a:lnTo>
                <a:lnTo>
                  <a:pt x="311" y="29"/>
                </a:lnTo>
                <a:lnTo>
                  <a:pt x="319" y="29"/>
                </a:lnTo>
                <a:lnTo>
                  <a:pt x="326" y="29"/>
                </a:lnTo>
                <a:lnTo>
                  <a:pt x="334" y="29"/>
                </a:lnTo>
                <a:lnTo>
                  <a:pt x="341" y="29"/>
                </a:lnTo>
                <a:lnTo>
                  <a:pt x="348" y="29"/>
                </a:lnTo>
                <a:lnTo>
                  <a:pt x="356" y="29"/>
                </a:lnTo>
                <a:lnTo>
                  <a:pt x="363" y="29"/>
                </a:lnTo>
                <a:lnTo>
                  <a:pt x="371" y="29"/>
                </a:lnTo>
                <a:lnTo>
                  <a:pt x="378" y="29"/>
                </a:lnTo>
                <a:lnTo>
                  <a:pt x="385" y="29"/>
                </a:lnTo>
                <a:lnTo>
                  <a:pt x="393" y="29"/>
                </a:lnTo>
                <a:lnTo>
                  <a:pt x="400" y="29"/>
                </a:lnTo>
                <a:lnTo>
                  <a:pt x="408" y="29"/>
                </a:lnTo>
                <a:lnTo>
                  <a:pt x="415" y="29"/>
                </a:lnTo>
                <a:lnTo>
                  <a:pt x="422" y="29"/>
                </a:lnTo>
                <a:lnTo>
                  <a:pt x="430" y="29"/>
                </a:lnTo>
                <a:lnTo>
                  <a:pt x="437" y="29"/>
                </a:lnTo>
                <a:lnTo>
                  <a:pt x="445" y="29"/>
                </a:lnTo>
                <a:lnTo>
                  <a:pt x="452" y="29"/>
                </a:lnTo>
                <a:lnTo>
                  <a:pt x="459" y="29"/>
                </a:lnTo>
                <a:lnTo>
                  <a:pt x="467" y="29"/>
                </a:lnTo>
                <a:lnTo>
                  <a:pt x="474" y="29"/>
                </a:lnTo>
                <a:lnTo>
                  <a:pt x="482" y="29"/>
                </a:lnTo>
                <a:lnTo>
                  <a:pt x="489" y="29"/>
                </a:lnTo>
                <a:lnTo>
                  <a:pt x="496" y="29"/>
                </a:lnTo>
                <a:lnTo>
                  <a:pt x="504" y="29"/>
                </a:lnTo>
                <a:lnTo>
                  <a:pt x="511" y="29"/>
                </a:lnTo>
                <a:lnTo>
                  <a:pt x="519" y="29"/>
                </a:lnTo>
                <a:lnTo>
                  <a:pt x="526" y="29"/>
                </a:lnTo>
                <a:lnTo>
                  <a:pt x="533" y="29"/>
                </a:lnTo>
                <a:lnTo>
                  <a:pt x="541" y="29"/>
                </a:lnTo>
                <a:lnTo>
                  <a:pt x="548" y="29"/>
                </a:lnTo>
                <a:lnTo>
                  <a:pt x="556" y="29"/>
                </a:lnTo>
                <a:lnTo>
                  <a:pt x="563" y="29"/>
                </a:lnTo>
                <a:lnTo>
                  <a:pt x="570" y="29"/>
                </a:lnTo>
                <a:lnTo>
                  <a:pt x="578" y="29"/>
                </a:lnTo>
                <a:lnTo>
                  <a:pt x="585" y="29"/>
                </a:lnTo>
                <a:lnTo>
                  <a:pt x="593" y="29"/>
                </a:lnTo>
                <a:lnTo>
                  <a:pt x="600" y="29"/>
                </a:lnTo>
                <a:lnTo>
                  <a:pt x="607" y="29"/>
                </a:lnTo>
                <a:lnTo>
                  <a:pt x="615" y="29"/>
                </a:lnTo>
                <a:lnTo>
                  <a:pt x="622" y="29"/>
                </a:lnTo>
                <a:lnTo>
                  <a:pt x="630" y="29"/>
                </a:lnTo>
                <a:lnTo>
                  <a:pt x="637" y="29"/>
                </a:lnTo>
                <a:lnTo>
                  <a:pt x="644" y="29"/>
                </a:lnTo>
                <a:lnTo>
                  <a:pt x="652" y="29"/>
                </a:lnTo>
                <a:lnTo>
                  <a:pt x="659" y="29"/>
                </a:lnTo>
                <a:lnTo>
                  <a:pt x="667" y="29"/>
                </a:lnTo>
                <a:lnTo>
                  <a:pt x="674" y="29"/>
                </a:lnTo>
                <a:lnTo>
                  <a:pt x="682" y="29"/>
                </a:lnTo>
                <a:lnTo>
                  <a:pt x="689" y="29"/>
                </a:lnTo>
                <a:lnTo>
                  <a:pt x="696" y="29"/>
                </a:lnTo>
                <a:lnTo>
                  <a:pt x="704" y="29"/>
                </a:lnTo>
                <a:lnTo>
                  <a:pt x="711" y="29"/>
                </a:lnTo>
                <a:lnTo>
                  <a:pt x="719" y="29"/>
                </a:lnTo>
                <a:lnTo>
                  <a:pt x="726" y="29"/>
                </a:lnTo>
                <a:lnTo>
                  <a:pt x="741" y="29"/>
                </a:lnTo>
                <a:lnTo>
                  <a:pt x="748" y="29"/>
                </a:lnTo>
                <a:lnTo>
                  <a:pt x="756" y="29"/>
                </a:lnTo>
                <a:lnTo>
                  <a:pt x="763" y="29"/>
                </a:lnTo>
                <a:lnTo>
                  <a:pt x="770" y="29"/>
                </a:lnTo>
                <a:lnTo>
                  <a:pt x="778" y="29"/>
                </a:lnTo>
                <a:lnTo>
                  <a:pt x="785" y="29"/>
                </a:lnTo>
                <a:lnTo>
                  <a:pt x="793" y="29"/>
                </a:lnTo>
                <a:lnTo>
                  <a:pt x="800" y="29"/>
                </a:lnTo>
                <a:lnTo>
                  <a:pt x="807" y="29"/>
                </a:lnTo>
                <a:lnTo>
                  <a:pt x="822" y="29"/>
                </a:lnTo>
                <a:lnTo>
                  <a:pt x="830" y="29"/>
                </a:lnTo>
                <a:lnTo>
                  <a:pt x="844" y="29"/>
                </a:lnTo>
                <a:lnTo>
                  <a:pt x="852" y="29"/>
                </a:lnTo>
                <a:lnTo>
                  <a:pt x="859" y="29"/>
                </a:lnTo>
                <a:lnTo>
                  <a:pt x="867" y="29"/>
                </a:lnTo>
                <a:lnTo>
                  <a:pt x="874" y="29"/>
                </a:lnTo>
                <a:lnTo>
                  <a:pt x="881" y="29"/>
                </a:lnTo>
                <a:lnTo>
                  <a:pt x="896" y="29"/>
                </a:lnTo>
                <a:lnTo>
                  <a:pt x="904" y="29"/>
                </a:lnTo>
                <a:lnTo>
                  <a:pt x="911" y="29"/>
                </a:lnTo>
                <a:lnTo>
                  <a:pt x="918" y="29"/>
                </a:lnTo>
                <a:lnTo>
                  <a:pt x="926" y="29"/>
                </a:lnTo>
                <a:lnTo>
                  <a:pt x="933" y="29"/>
                </a:lnTo>
                <a:lnTo>
                  <a:pt x="941" y="29"/>
                </a:lnTo>
                <a:lnTo>
                  <a:pt x="955" y="37"/>
                </a:lnTo>
                <a:lnTo>
                  <a:pt x="963" y="29"/>
                </a:lnTo>
                <a:lnTo>
                  <a:pt x="978" y="29"/>
                </a:lnTo>
                <a:lnTo>
                  <a:pt x="985" y="37"/>
                </a:lnTo>
                <a:lnTo>
                  <a:pt x="992" y="37"/>
                </a:lnTo>
                <a:lnTo>
                  <a:pt x="1007" y="37"/>
                </a:lnTo>
                <a:lnTo>
                  <a:pt x="1015" y="37"/>
                </a:lnTo>
                <a:lnTo>
                  <a:pt x="1022" y="37"/>
                </a:lnTo>
                <a:lnTo>
                  <a:pt x="1029" y="37"/>
                </a:lnTo>
                <a:lnTo>
                  <a:pt x="1037" y="37"/>
                </a:lnTo>
                <a:lnTo>
                  <a:pt x="1052" y="37"/>
                </a:lnTo>
                <a:lnTo>
                  <a:pt x="1059" y="37"/>
                </a:lnTo>
                <a:lnTo>
                  <a:pt x="1066" y="37"/>
                </a:lnTo>
                <a:lnTo>
                  <a:pt x="1074" y="37"/>
                </a:lnTo>
                <a:lnTo>
                  <a:pt x="1081" y="37"/>
                </a:lnTo>
                <a:lnTo>
                  <a:pt x="1096" y="37"/>
                </a:lnTo>
                <a:lnTo>
                  <a:pt x="1104" y="37"/>
                </a:lnTo>
                <a:lnTo>
                  <a:pt x="1111" y="37"/>
                </a:lnTo>
                <a:lnTo>
                  <a:pt x="1118" y="37"/>
                </a:lnTo>
                <a:lnTo>
                  <a:pt x="1126" y="37"/>
                </a:lnTo>
                <a:lnTo>
                  <a:pt x="1133" y="37"/>
                </a:lnTo>
                <a:lnTo>
                  <a:pt x="1141" y="37"/>
                </a:lnTo>
                <a:lnTo>
                  <a:pt x="1148" y="29"/>
                </a:lnTo>
                <a:lnTo>
                  <a:pt x="1155" y="29"/>
                </a:lnTo>
                <a:lnTo>
                  <a:pt x="1163" y="29"/>
                </a:lnTo>
                <a:lnTo>
                  <a:pt x="1170" y="29"/>
                </a:lnTo>
                <a:lnTo>
                  <a:pt x="1178" y="29"/>
                </a:lnTo>
                <a:lnTo>
                  <a:pt x="1185" y="29"/>
                </a:lnTo>
                <a:lnTo>
                  <a:pt x="1192" y="29"/>
                </a:lnTo>
                <a:lnTo>
                  <a:pt x="1200" y="29"/>
                </a:lnTo>
                <a:lnTo>
                  <a:pt x="1207" y="29"/>
                </a:lnTo>
                <a:lnTo>
                  <a:pt x="1215" y="29"/>
                </a:lnTo>
                <a:lnTo>
                  <a:pt x="1222" y="29"/>
                </a:lnTo>
                <a:lnTo>
                  <a:pt x="1229" y="29"/>
                </a:lnTo>
                <a:lnTo>
                  <a:pt x="1237" y="22"/>
                </a:lnTo>
                <a:lnTo>
                  <a:pt x="1244" y="22"/>
                </a:lnTo>
                <a:lnTo>
                  <a:pt x="1252" y="22"/>
                </a:lnTo>
                <a:lnTo>
                  <a:pt x="1259" y="22"/>
                </a:lnTo>
                <a:lnTo>
                  <a:pt x="1266" y="22"/>
                </a:lnTo>
                <a:lnTo>
                  <a:pt x="1274" y="22"/>
                </a:lnTo>
                <a:lnTo>
                  <a:pt x="1281" y="22"/>
                </a:lnTo>
                <a:lnTo>
                  <a:pt x="1289" y="22"/>
                </a:lnTo>
                <a:lnTo>
                  <a:pt x="1296" y="22"/>
                </a:lnTo>
                <a:lnTo>
                  <a:pt x="1303" y="22"/>
                </a:lnTo>
                <a:lnTo>
                  <a:pt x="1311" y="29"/>
                </a:lnTo>
                <a:lnTo>
                  <a:pt x="1318" y="29"/>
                </a:lnTo>
                <a:lnTo>
                  <a:pt x="1326" y="29"/>
                </a:lnTo>
                <a:lnTo>
                  <a:pt x="1333" y="29"/>
                </a:lnTo>
                <a:lnTo>
                  <a:pt x="1340" y="29"/>
                </a:lnTo>
                <a:lnTo>
                  <a:pt x="1348" y="29"/>
                </a:lnTo>
                <a:lnTo>
                  <a:pt x="1355" y="29"/>
                </a:lnTo>
                <a:lnTo>
                  <a:pt x="1363" y="29"/>
                </a:lnTo>
                <a:lnTo>
                  <a:pt x="1370" y="29"/>
                </a:lnTo>
                <a:lnTo>
                  <a:pt x="1377" y="29"/>
                </a:lnTo>
                <a:lnTo>
                  <a:pt x="1385" y="29"/>
                </a:lnTo>
                <a:lnTo>
                  <a:pt x="1392" y="29"/>
                </a:lnTo>
                <a:lnTo>
                  <a:pt x="1400" y="29"/>
                </a:lnTo>
                <a:lnTo>
                  <a:pt x="1407" y="29"/>
                </a:lnTo>
                <a:lnTo>
                  <a:pt x="1414" y="29"/>
                </a:lnTo>
                <a:lnTo>
                  <a:pt x="1422" y="29"/>
                </a:lnTo>
                <a:lnTo>
                  <a:pt x="1422" y="37"/>
                </a:lnTo>
                <a:lnTo>
                  <a:pt x="1429" y="37"/>
                </a:lnTo>
                <a:lnTo>
                  <a:pt x="1437" y="37"/>
                </a:lnTo>
                <a:lnTo>
                  <a:pt x="1444" y="37"/>
                </a:lnTo>
                <a:lnTo>
                  <a:pt x="1451" y="37"/>
                </a:lnTo>
                <a:lnTo>
                  <a:pt x="1459" y="37"/>
                </a:lnTo>
                <a:lnTo>
                  <a:pt x="1466" y="37"/>
                </a:lnTo>
                <a:lnTo>
                  <a:pt x="1466" y="29"/>
                </a:lnTo>
                <a:lnTo>
                  <a:pt x="1474" y="29"/>
                </a:lnTo>
                <a:lnTo>
                  <a:pt x="1481" y="29"/>
                </a:lnTo>
                <a:lnTo>
                  <a:pt x="1488" y="29"/>
                </a:lnTo>
                <a:lnTo>
                  <a:pt x="1496" y="29"/>
                </a:lnTo>
                <a:lnTo>
                  <a:pt x="1503" y="29"/>
                </a:lnTo>
                <a:lnTo>
                  <a:pt x="1511" y="29"/>
                </a:lnTo>
                <a:lnTo>
                  <a:pt x="1518" y="29"/>
                </a:lnTo>
                <a:lnTo>
                  <a:pt x="1526" y="29"/>
                </a:lnTo>
                <a:lnTo>
                  <a:pt x="1533" y="29"/>
                </a:lnTo>
                <a:lnTo>
                  <a:pt x="1540" y="29"/>
                </a:lnTo>
                <a:lnTo>
                  <a:pt x="1548" y="29"/>
                </a:lnTo>
                <a:lnTo>
                  <a:pt x="1563" y="29"/>
                </a:lnTo>
                <a:lnTo>
                  <a:pt x="1570" y="29"/>
                </a:lnTo>
                <a:lnTo>
                  <a:pt x="1577" y="29"/>
                </a:lnTo>
                <a:lnTo>
                  <a:pt x="1585" y="29"/>
                </a:lnTo>
                <a:lnTo>
                  <a:pt x="1592" y="29"/>
                </a:lnTo>
                <a:lnTo>
                  <a:pt x="1600" y="29"/>
                </a:lnTo>
                <a:lnTo>
                  <a:pt x="1607" y="29"/>
                </a:lnTo>
                <a:lnTo>
                  <a:pt x="1614" y="29"/>
                </a:lnTo>
                <a:lnTo>
                  <a:pt x="1622" y="29"/>
                </a:lnTo>
                <a:lnTo>
                  <a:pt x="1629" y="29"/>
                </a:lnTo>
                <a:lnTo>
                  <a:pt x="1637" y="29"/>
                </a:lnTo>
                <a:lnTo>
                  <a:pt x="1644" y="29"/>
                </a:lnTo>
                <a:lnTo>
                  <a:pt x="1651" y="22"/>
                </a:lnTo>
                <a:lnTo>
                  <a:pt x="1666" y="22"/>
                </a:lnTo>
                <a:lnTo>
                  <a:pt x="1674" y="22"/>
                </a:lnTo>
                <a:lnTo>
                  <a:pt x="1681" y="22"/>
                </a:lnTo>
                <a:lnTo>
                  <a:pt x="1688" y="22"/>
                </a:lnTo>
                <a:lnTo>
                  <a:pt x="1696" y="22"/>
                </a:lnTo>
                <a:lnTo>
                  <a:pt x="1703" y="14"/>
                </a:lnTo>
                <a:lnTo>
                  <a:pt x="1711" y="14"/>
                </a:lnTo>
                <a:lnTo>
                  <a:pt x="1718" y="14"/>
                </a:lnTo>
                <a:lnTo>
                  <a:pt x="1733" y="14"/>
                </a:lnTo>
                <a:lnTo>
                  <a:pt x="1740" y="14"/>
                </a:lnTo>
                <a:lnTo>
                  <a:pt x="1748" y="14"/>
                </a:lnTo>
                <a:lnTo>
                  <a:pt x="1755" y="14"/>
                </a:lnTo>
                <a:lnTo>
                  <a:pt x="1762" y="14"/>
                </a:lnTo>
                <a:lnTo>
                  <a:pt x="1770" y="14"/>
                </a:lnTo>
                <a:lnTo>
                  <a:pt x="1777" y="14"/>
                </a:lnTo>
                <a:lnTo>
                  <a:pt x="1785" y="14"/>
                </a:lnTo>
                <a:lnTo>
                  <a:pt x="1792" y="14"/>
                </a:lnTo>
                <a:lnTo>
                  <a:pt x="1799" y="7"/>
                </a:lnTo>
                <a:lnTo>
                  <a:pt x="1807" y="7"/>
                </a:lnTo>
                <a:lnTo>
                  <a:pt x="1822" y="7"/>
                </a:lnTo>
                <a:lnTo>
                  <a:pt x="1829" y="7"/>
                </a:lnTo>
                <a:lnTo>
                  <a:pt x="1836" y="7"/>
                </a:lnTo>
                <a:lnTo>
                  <a:pt x="1844" y="7"/>
                </a:lnTo>
                <a:lnTo>
                  <a:pt x="1851" y="7"/>
                </a:lnTo>
                <a:lnTo>
                  <a:pt x="1859" y="7"/>
                </a:lnTo>
                <a:lnTo>
                  <a:pt x="1866" y="7"/>
                </a:lnTo>
                <a:lnTo>
                  <a:pt x="1873" y="7"/>
                </a:lnTo>
                <a:lnTo>
                  <a:pt x="1881" y="0"/>
                </a:lnTo>
                <a:lnTo>
                  <a:pt x="1888" y="0"/>
                </a:lnTo>
                <a:lnTo>
                  <a:pt x="1896" y="0"/>
                </a:lnTo>
                <a:lnTo>
                  <a:pt x="1903" y="0"/>
                </a:lnTo>
                <a:lnTo>
                  <a:pt x="1911" y="0"/>
                </a:lnTo>
                <a:lnTo>
                  <a:pt x="1918" y="0"/>
                </a:lnTo>
                <a:lnTo>
                  <a:pt x="1925" y="0"/>
                </a:lnTo>
                <a:lnTo>
                  <a:pt x="1933" y="0"/>
                </a:lnTo>
                <a:lnTo>
                  <a:pt x="1940" y="0"/>
                </a:lnTo>
                <a:lnTo>
                  <a:pt x="1948" y="0"/>
                </a:lnTo>
                <a:lnTo>
                  <a:pt x="1955" y="0"/>
                </a:lnTo>
                <a:lnTo>
                  <a:pt x="1962" y="7"/>
                </a:lnTo>
                <a:lnTo>
                  <a:pt x="1970" y="7"/>
                </a:lnTo>
                <a:lnTo>
                  <a:pt x="1977" y="7"/>
                </a:lnTo>
                <a:lnTo>
                  <a:pt x="1985" y="7"/>
                </a:lnTo>
                <a:lnTo>
                  <a:pt x="1999" y="7"/>
                </a:lnTo>
                <a:lnTo>
                  <a:pt x="2007" y="7"/>
                </a:lnTo>
                <a:lnTo>
                  <a:pt x="2014" y="7"/>
                </a:lnTo>
                <a:lnTo>
                  <a:pt x="2022" y="7"/>
                </a:lnTo>
                <a:lnTo>
                  <a:pt x="2029" y="7"/>
                </a:lnTo>
                <a:lnTo>
                  <a:pt x="2036" y="7"/>
                </a:lnTo>
                <a:lnTo>
                  <a:pt x="2044" y="7"/>
                </a:lnTo>
                <a:lnTo>
                  <a:pt x="2051" y="7"/>
                </a:lnTo>
                <a:lnTo>
                  <a:pt x="2059" y="7"/>
                </a:lnTo>
                <a:lnTo>
                  <a:pt x="2066" y="7"/>
                </a:lnTo>
                <a:lnTo>
                  <a:pt x="2073" y="7"/>
                </a:lnTo>
                <a:lnTo>
                  <a:pt x="2081" y="7"/>
                </a:lnTo>
                <a:lnTo>
                  <a:pt x="2088" y="7"/>
                </a:lnTo>
                <a:lnTo>
                  <a:pt x="2096" y="7"/>
                </a:lnTo>
                <a:lnTo>
                  <a:pt x="2103" y="14"/>
                </a:lnTo>
                <a:lnTo>
                  <a:pt x="2110" y="7"/>
                </a:lnTo>
                <a:lnTo>
                  <a:pt x="2118" y="14"/>
                </a:lnTo>
                <a:lnTo>
                  <a:pt x="2125" y="14"/>
                </a:lnTo>
                <a:lnTo>
                  <a:pt x="2133" y="14"/>
                </a:lnTo>
                <a:lnTo>
                  <a:pt x="2140" y="14"/>
                </a:lnTo>
                <a:lnTo>
                  <a:pt x="2147" y="14"/>
                </a:lnTo>
                <a:lnTo>
                  <a:pt x="2155" y="14"/>
                </a:lnTo>
                <a:lnTo>
                  <a:pt x="2162" y="14"/>
                </a:lnTo>
                <a:lnTo>
                  <a:pt x="2170" y="14"/>
                </a:lnTo>
                <a:lnTo>
                  <a:pt x="2177" y="14"/>
                </a:lnTo>
                <a:lnTo>
                  <a:pt x="2184" y="14"/>
                </a:lnTo>
                <a:lnTo>
                  <a:pt x="2192" y="14"/>
                </a:lnTo>
                <a:lnTo>
                  <a:pt x="2199" y="14"/>
                </a:lnTo>
                <a:lnTo>
                  <a:pt x="2207" y="14"/>
                </a:lnTo>
                <a:lnTo>
                  <a:pt x="2214" y="14"/>
                </a:lnTo>
                <a:lnTo>
                  <a:pt x="2221" y="14"/>
                </a:lnTo>
                <a:lnTo>
                  <a:pt x="2229" y="22"/>
                </a:lnTo>
                <a:lnTo>
                  <a:pt x="2229" y="14"/>
                </a:lnTo>
                <a:lnTo>
                  <a:pt x="2236" y="22"/>
                </a:lnTo>
                <a:lnTo>
                  <a:pt x="2244" y="22"/>
                </a:lnTo>
                <a:lnTo>
                  <a:pt x="2251" y="22"/>
                </a:lnTo>
                <a:lnTo>
                  <a:pt x="2258" y="14"/>
                </a:lnTo>
                <a:lnTo>
                  <a:pt x="2266" y="22"/>
                </a:lnTo>
                <a:lnTo>
                  <a:pt x="2266" y="14"/>
                </a:lnTo>
                <a:lnTo>
                  <a:pt x="2273" y="14"/>
                </a:lnTo>
                <a:lnTo>
                  <a:pt x="2281" y="14"/>
                </a:lnTo>
                <a:lnTo>
                  <a:pt x="2288" y="14"/>
                </a:lnTo>
                <a:lnTo>
                  <a:pt x="2295" y="14"/>
                </a:lnTo>
                <a:lnTo>
                  <a:pt x="2303" y="14"/>
                </a:lnTo>
                <a:lnTo>
                  <a:pt x="2310" y="14"/>
                </a:lnTo>
                <a:lnTo>
                  <a:pt x="2318" y="14"/>
                </a:lnTo>
                <a:lnTo>
                  <a:pt x="2325" y="14"/>
                </a:lnTo>
                <a:lnTo>
                  <a:pt x="2333" y="22"/>
                </a:lnTo>
                <a:lnTo>
                  <a:pt x="2340" y="22"/>
                </a:lnTo>
                <a:lnTo>
                  <a:pt x="2347" y="22"/>
                </a:lnTo>
                <a:lnTo>
                  <a:pt x="2355" y="22"/>
                </a:lnTo>
                <a:lnTo>
                  <a:pt x="2370" y="22"/>
                </a:lnTo>
                <a:lnTo>
                  <a:pt x="2377" y="22"/>
                </a:lnTo>
                <a:lnTo>
                  <a:pt x="2384" y="22"/>
                </a:lnTo>
                <a:lnTo>
                  <a:pt x="2392" y="22"/>
                </a:lnTo>
                <a:lnTo>
                  <a:pt x="2399" y="22"/>
                </a:lnTo>
                <a:lnTo>
                  <a:pt x="2399" y="29"/>
                </a:lnTo>
                <a:lnTo>
                  <a:pt x="2407" y="29"/>
                </a:lnTo>
                <a:lnTo>
                  <a:pt x="2407" y="29"/>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8" name=""/>
          <p:cNvSpPr/>
          <p:nvPr/>
        </p:nvSpPr>
        <p:spPr>
          <a:xfrm>
            <a:off x="928800" y="1220760"/>
            <a:ext cx="6078600" cy="60480"/>
          </a:xfrm>
          <a:custGeom>
            <a:avLst/>
            <a:gdLst/>
            <a:ahLst/>
            <a:rect l="l" t="t" r="r" b="b"/>
            <a:pathLst>
              <a:path w="3829" h="38">
                <a:moveTo>
                  <a:pt x="0" y="30"/>
                </a:moveTo>
                <a:lnTo>
                  <a:pt x="7" y="30"/>
                </a:lnTo>
                <a:lnTo>
                  <a:pt x="15" y="30"/>
                </a:lnTo>
                <a:lnTo>
                  <a:pt x="22" y="30"/>
                </a:lnTo>
                <a:lnTo>
                  <a:pt x="29" y="30"/>
                </a:lnTo>
                <a:lnTo>
                  <a:pt x="37" y="30"/>
                </a:lnTo>
                <a:lnTo>
                  <a:pt x="44" y="30"/>
                </a:lnTo>
                <a:lnTo>
                  <a:pt x="52" y="30"/>
                </a:lnTo>
                <a:lnTo>
                  <a:pt x="59" y="30"/>
                </a:lnTo>
                <a:lnTo>
                  <a:pt x="67" y="30"/>
                </a:lnTo>
                <a:lnTo>
                  <a:pt x="74" y="30"/>
                </a:lnTo>
                <a:lnTo>
                  <a:pt x="81" y="30"/>
                </a:lnTo>
                <a:lnTo>
                  <a:pt x="89" y="23"/>
                </a:lnTo>
                <a:lnTo>
                  <a:pt x="96" y="23"/>
                </a:lnTo>
                <a:lnTo>
                  <a:pt x="104" y="23"/>
                </a:lnTo>
                <a:lnTo>
                  <a:pt x="111" y="23"/>
                </a:lnTo>
                <a:lnTo>
                  <a:pt x="118" y="23"/>
                </a:lnTo>
                <a:lnTo>
                  <a:pt x="126" y="23"/>
                </a:lnTo>
                <a:lnTo>
                  <a:pt x="133" y="23"/>
                </a:lnTo>
                <a:lnTo>
                  <a:pt x="141" y="23"/>
                </a:lnTo>
                <a:lnTo>
                  <a:pt x="148" y="23"/>
                </a:lnTo>
                <a:lnTo>
                  <a:pt x="155" y="23"/>
                </a:lnTo>
                <a:lnTo>
                  <a:pt x="163" y="23"/>
                </a:lnTo>
                <a:lnTo>
                  <a:pt x="170" y="23"/>
                </a:lnTo>
                <a:lnTo>
                  <a:pt x="178" y="23"/>
                </a:lnTo>
                <a:lnTo>
                  <a:pt x="185" y="23"/>
                </a:lnTo>
                <a:lnTo>
                  <a:pt x="192" y="23"/>
                </a:lnTo>
                <a:lnTo>
                  <a:pt x="200" y="23"/>
                </a:lnTo>
                <a:lnTo>
                  <a:pt x="207" y="23"/>
                </a:lnTo>
                <a:lnTo>
                  <a:pt x="215" y="23"/>
                </a:lnTo>
                <a:lnTo>
                  <a:pt x="222" y="23"/>
                </a:lnTo>
                <a:lnTo>
                  <a:pt x="229" y="23"/>
                </a:lnTo>
                <a:lnTo>
                  <a:pt x="237" y="23"/>
                </a:lnTo>
                <a:lnTo>
                  <a:pt x="244" y="23"/>
                </a:lnTo>
                <a:lnTo>
                  <a:pt x="252" y="23"/>
                </a:lnTo>
                <a:lnTo>
                  <a:pt x="259" y="23"/>
                </a:lnTo>
                <a:lnTo>
                  <a:pt x="266" y="23"/>
                </a:lnTo>
                <a:lnTo>
                  <a:pt x="274" y="23"/>
                </a:lnTo>
                <a:lnTo>
                  <a:pt x="281" y="23"/>
                </a:lnTo>
                <a:lnTo>
                  <a:pt x="289" y="23"/>
                </a:lnTo>
                <a:lnTo>
                  <a:pt x="296" y="23"/>
                </a:lnTo>
                <a:lnTo>
                  <a:pt x="303" y="23"/>
                </a:lnTo>
                <a:lnTo>
                  <a:pt x="311" y="23"/>
                </a:lnTo>
                <a:lnTo>
                  <a:pt x="318" y="15"/>
                </a:lnTo>
                <a:lnTo>
                  <a:pt x="326" y="15"/>
                </a:lnTo>
                <a:lnTo>
                  <a:pt x="333" y="15"/>
                </a:lnTo>
                <a:lnTo>
                  <a:pt x="348" y="15"/>
                </a:lnTo>
                <a:lnTo>
                  <a:pt x="355" y="15"/>
                </a:lnTo>
                <a:lnTo>
                  <a:pt x="363" y="15"/>
                </a:lnTo>
                <a:lnTo>
                  <a:pt x="370" y="15"/>
                </a:lnTo>
                <a:lnTo>
                  <a:pt x="377" y="15"/>
                </a:lnTo>
                <a:lnTo>
                  <a:pt x="385" y="15"/>
                </a:lnTo>
                <a:lnTo>
                  <a:pt x="392" y="15"/>
                </a:lnTo>
                <a:lnTo>
                  <a:pt x="400" y="15"/>
                </a:lnTo>
                <a:lnTo>
                  <a:pt x="414" y="15"/>
                </a:lnTo>
                <a:lnTo>
                  <a:pt x="422" y="15"/>
                </a:lnTo>
                <a:lnTo>
                  <a:pt x="429" y="15"/>
                </a:lnTo>
                <a:lnTo>
                  <a:pt x="437" y="15"/>
                </a:lnTo>
                <a:lnTo>
                  <a:pt x="444" y="15"/>
                </a:lnTo>
                <a:lnTo>
                  <a:pt x="452" y="15"/>
                </a:lnTo>
                <a:lnTo>
                  <a:pt x="466" y="15"/>
                </a:lnTo>
                <a:lnTo>
                  <a:pt x="474" y="15"/>
                </a:lnTo>
                <a:lnTo>
                  <a:pt x="481" y="15"/>
                </a:lnTo>
                <a:lnTo>
                  <a:pt x="496" y="15"/>
                </a:lnTo>
                <a:lnTo>
                  <a:pt x="503" y="15"/>
                </a:lnTo>
                <a:lnTo>
                  <a:pt x="511" y="15"/>
                </a:lnTo>
                <a:lnTo>
                  <a:pt x="526" y="15"/>
                </a:lnTo>
                <a:lnTo>
                  <a:pt x="533" y="15"/>
                </a:lnTo>
                <a:lnTo>
                  <a:pt x="540" y="15"/>
                </a:lnTo>
                <a:lnTo>
                  <a:pt x="548" y="15"/>
                </a:lnTo>
                <a:lnTo>
                  <a:pt x="563" y="15"/>
                </a:lnTo>
                <a:lnTo>
                  <a:pt x="570" y="15"/>
                </a:lnTo>
                <a:lnTo>
                  <a:pt x="577" y="15"/>
                </a:lnTo>
                <a:lnTo>
                  <a:pt x="592" y="15"/>
                </a:lnTo>
                <a:lnTo>
                  <a:pt x="600" y="15"/>
                </a:lnTo>
                <a:lnTo>
                  <a:pt x="607" y="15"/>
                </a:lnTo>
                <a:lnTo>
                  <a:pt x="622" y="15"/>
                </a:lnTo>
                <a:lnTo>
                  <a:pt x="629" y="15"/>
                </a:lnTo>
                <a:lnTo>
                  <a:pt x="637" y="15"/>
                </a:lnTo>
                <a:lnTo>
                  <a:pt x="651" y="15"/>
                </a:lnTo>
                <a:lnTo>
                  <a:pt x="659" y="15"/>
                </a:lnTo>
                <a:lnTo>
                  <a:pt x="666" y="15"/>
                </a:lnTo>
                <a:lnTo>
                  <a:pt x="681" y="15"/>
                </a:lnTo>
                <a:lnTo>
                  <a:pt x="688" y="15"/>
                </a:lnTo>
                <a:lnTo>
                  <a:pt x="696" y="15"/>
                </a:lnTo>
                <a:lnTo>
                  <a:pt x="718" y="15"/>
                </a:lnTo>
                <a:lnTo>
                  <a:pt x="725" y="15"/>
                </a:lnTo>
                <a:lnTo>
                  <a:pt x="740" y="15"/>
                </a:lnTo>
                <a:lnTo>
                  <a:pt x="748" y="15"/>
                </a:lnTo>
                <a:lnTo>
                  <a:pt x="755" y="15"/>
                </a:lnTo>
                <a:lnTo>
                  <a:pt x="770" y="15"/>
                </a:lnTo>
                <a:lnTo>
                  <a:pt x="777" y="15"/>
                </a:lnTo>
                <a:lnTo>
                  <a:pt x="785" y="15"/>
                </a:lnTo>
                <a:lnTo>
                  <a:pt x="792" y="15"/>
                </a:lnTo>
                <a:lnTo>
                  <a:pt x="807" y="15"/>
                </a:lnTo>
                <a:lnTo>
                  <a:pt x="814" y="15"/>
                </a:lnTo>
                <a:lnTo>
                  <a:pt x="829" y="15"/>
                </a:lnTo>
                <a:lnTo>
                  <a:pt x="836" y="15"/>
                </a:lnTo>
                <a:lnTo>
                  <a:pt x="844" y="8"/>
                </a:lnTo>
                <a:lnTo>
                  <a:pt x="859" y="8"/>
                </a:lnTo>
                <a:lnTo>
                  <a:pt x="866" y="8"/>
                </a:lnTo>
                <a:lnTo>
                  <a:pt x="874" y="8"/>
                </a:lnTo>
                <a:lnTo>
                  <a:pt x="888" y="8"/>
                </a:lnTo>
                <a:lnTo>
                  <a:pt x="896" y="8"/>
                </a:lnTo>
                <a:lnTo>
                  <a:pt x="903" y="8"/>
                </a:lnTo>
                <a:lnTo>
                  <a:pt x="911" y="8"/>
                </a:lnTo>
                <a:lnTo>
                  <a:pt x="925" y="8"/>
                </a:lnTo>
                <a:lnTo>
                  <a:pt x="933" y="8"/>
                </a:lnTo>
                <a:lnTo>
                  <a:pt x="940" y="8"/>
                </a:lnTo>
                <a:lnTo>
                  <a:pt x="955" y="8"/>
                </a:lnTo>
                <a:lnTo>
                  <a:pt x="962" y="8"/>
                </a:lnTo>
                <a:lnTo>
                  <a:pt x="977" y="8"/>
                </a:lnTo>
                <a:lnTo>
                  <a:pt x="985" y="8"/>
                </a:lnTo>
                <a:lnTo>
                  <a:pt x="992" y="8"/>
                </a:lnTo>
                <a:lnTo>
                  <a:pt x="1007" y="8"/>
                </a:lnTo>
                <a:lnTo>
                  <a:pt x="1014" y="8"/>
                </a:lnTo>
                <a:lnTo>
                  <a:pt x="1022" y="8"/>
                </a:lnTo>
                <a:lnTo>
                  <a:pt x="1029" y="8"/>
                </a:lnTo>
                <a:lnTo>
                  <a:pt x="1044" y="8"/>
                </a:lnTo>
                <a:lnTo>
                  <a:pt x="1051" y="8"/>
                </a:lnTo>
                <a:lnTo>
                  <a:pt x="1059" y="8"/>
                </a:lnTo>
                <a:lnTo>
                  <a:pt x="1066" y="8"/>
                </a:lnTo>
                <a:lnTo>
                  <a:pt x="1081" y="8"/>
                </a:lnTo>
                <a:lnTo>
                  <a:pt x="1088" y="8"/>
                </a:lnTo>
                <a:lnTo>
                  <a:pt x="1103" y="8"/>
                </a:lnTo>
                <a:lnTo>
                  <a:pt x="1110" y="8"/>
                </a:lnTo>
                <a:lnTo>
                  <a:pt x="1118" y="8"/>
                </a:lnTo>
                <a:lnTo>
                  <a:pt x="1133" y="8"/>
                </a:lnTo>
                <a:lnTo>
                  <a:pt x="1140" y="8"/>
                </a:lnTo>
                <a:lnTo>
                  <a:pt x="1147" y="8"/>
                </a:lnTo>
                <a:lnTo>
                  <a:pt x="1155" y="8"/>
                </a:lnTo>
                <a:lnTo>
                  <a:pt x="1170" y="8"/>
                </a:lnTo>
                <a:lnTo>
                  <a:pt x="1177" y="8"/>
                </a:lnTo>
                <a:lnTo>
                  <a:pt x="1184" y="8"/>
                </a:lnTo>
                <a:lnTo>
                  <a:pt x="1199" y="8"/>
                </a:lnTo>
                <a:lnTo>
                  <a:pt x="1207" y="8"/>
                </a:lnTo>
                <a:lnTo>
                  <a:pt x="1221" y="8"/>
                </a:lnTo>
                <a:lnTo>
                  <a:pt x="1229" y="8"/>
                </a:lnTo>
                <a:lnTo>
                  <a:pt x="1244" y="8"/>
                </a:lnTo>
                <a:lnTo>
                  <a:pt x="1251" y="8"/>
                </a:lnTo>
                <a:lnTo>
                  <a:pt x="1266" y="8"/>
                </a:lnTo>
                <a:lnTo>
                  <a:pt x="1273" y="8"/>
                </a:lnTo>
                <a:lnTo>
                  <a:pt x="1281" y="8"/>
                </a:lnTo>
                <a:lnTo>
                  <a:pt x="1296" y="8"/>
                </a:lnTo>
                <a:lnTo>
                  <a:pt x="1303" y="8"/>
                </a:lnTo>
                <a:lnTo>
                  <a:pt x="1310" y="8"/>
                </a:lnTo>
                <a:lnTo>
                  <a:pt x="1325" y="8"/>
                </a:lnTo>
                <a:lnTo>
                  <a:pt x="1347" y="8"/>
                </a:lnTo>
                <a:lnTo>
                  <a:pt x="1362" y="8"/>
                </a:lnTo>
                <a:lnTo>
                  <a:pt x="1370" y="8"/>
                </a:lnTo>
                <a:lnTo>
                  <a:pt x="1384" y="8"/>
                </a:lnTo>
                <a:lnTo>
                  <a:pt x="1399" y="8"/>
                </a:lnTo>
                <a:lnTo>
                  <a:pt x="1407" y="8"/>
                </a:lnTo>
                <a:lnTo>
                  <a:pt x="1421" y="8"/>
                </a:lnTo>
                <a:lnTo>
                  <a:pt x="1429" y="8"/>
                </a:lnTo>
                <a:lnTo>
                  <a:pt x="1444" y="8"/>
                </a:lnTo>
                <a:lnTo>
                  <a:pt x="1451" y="8"/>
                </a:lnTo>
                <a:lnTo>
                  <a:pt x="1466" y="8"/>
                </a:lnTo>
                <a:lnTo>
                  <a:pt x="1473" y="8"/>
                </a:lnTo>
                <a:lnTo>
                  <a:pt x="1488" y="8"/>
                </a:lnTo>
                <a:lnTo>
                  <a:pt x="1503" y="8"/>
                </a:lnTo>
                <a:lnTo>
                  <a:pt x="1510" y="8"/>
                </a:lnTo>
                <a:lnTo>
                  <a:pt x="1525" y="8"/>
                </a:lnTo>
                <a:lnTo>
                  <a:pt x="1540" y="8"/>
                </a:lnTo>
                <a:lnTo>
                  <a:pt x="1547" y="8"/>
                </a:lnTo>
                <a:lnTo>
                  <a:pt x="1562" y="8"/>
                </a:lnTo>
                <a:lnTo>
                  <a:pt x="1569" y="8"/>
                </a:lnTo>
                <a:lnTo>
                  <a:pt x="1584" y="8"/>
                </a:lnTo>
                <a:lnTo>
                  <a:pt x="1592" y="8"/>
                </a:lnTo>
                <a:lnTo>
                  <a:pt x="1606" y="8"/>
                </a:lnTo>
                <a:lnTo>
                  <a:pt x="1614" y="8"/>
                </a:lnTo>
                <a:lnTo>
                  <a:pt x="1629" y="8"/>
                </a:lnTo>
                <a:lnTo>
                  <a:pt x="1643" y="8"/>
                </a:lnTo>
                <a:lnTo>
                  <a:pt x="1651" y="8"/>
                </a:lnTo>
                <a:lnTo>
                  <a:pt x="1666" y="8"/>
                </a:lnTo>
                <a:lnTo>
                  <a:pt x="1681" y="8"/>
                </a:lnTo>
                <a:lnTo>
                  <a:pt x="1688" y="0"/>
                </a:lnTo>
                <a:lnTo>
                  <a:pt x="1703" y="0"/>
                </a:lnTo>
                <a:lnTo>
                  <a:pt x="1710" y="0"/>
                </a:lnTo>
                <a:lnTo>
                  <a:pt x="1718" y="0"/>
                </a:lnTo>
                <a:lnTo>
                  <a:pt x="1732" y="0"/>
                </a:lnTo>
                <a:lnTo>
                  <a:pt x="1740" y="0"/>
                </a:lnTo>
                <a:lnTo>
                  <a:pt x="1755" y="0"/>
                </a:lnTo>
                <a:lnTo>
                  <a:pt x="1762" y="0"/>
                </a:lnTo>
                <a:lnTo>
                  <a:pt x="1777" y="0"/>
                </a:lnTo>
                <a:lnTo>
                  <a:pt x="1784" y="0"/>
                </a:lnTo>
                <a:lnTo>
                  <a:pt x="1799" y="0"/>
                </a:lnTo>
                <a:lnTo>
                  <a:pt x="1806" y="0"/>
                </a:lnTo>
                <a:lnTo>
                  <a:pt x="1814" y="0"/>
                </a:lnTo>
                <a:lnTo>
                  <a:pt x="1829" y="0"/>
                </a:lnTo>
                <a:lnTo>
                  <a:pt x="1836" y="0"/>
                </a:lnTo>
                <a:lnTo>
                  <a:pt x="1843" y="0"/>
                </a:lnTo>
                <a:lnTo>
                  <a:pt x="1858" y="0"/>
                </a:lnTo>
                <a:lnTo>
                  <a:pt x="1866" y="0"/>
                </a:lnTo>
                <a:lnTo>
                  <a:pt x="1873" y="0"/>
                </a:lnTo>
                <a:lnTo>
                  <a:pt x="1880" y="0"/>
                </a:lnTo>
                <a:lnTo>
                  <a:pt x="1895" y="8"/>
                </a:lnTo>
                <a:lnTo>
                  <a:pt x="1903" y="8"/>
                </a:lnTo>
                <a:lnTo>
                  <a:pt x="1917" y="8"/>
                </a:lnTo>
                <a:lnTo>
                  <a:pt x="1925" y="8"/>
                </a:lnTo>
                <a:lnTo>
                  <a:pt x="1940" y="8"/>
                </a:lnTo>
                <a:lnTo>
                  <a:pt x="1947" y="8"/>
                </a:lnTo>
                <a:lnTo>
                  <a:pt x="1954" y="8"/>
                </a:lnTo>
                <a:lnTo>
                  <a:pt x="1969" y="8"/>
                </a:lnTo>
                <a:lnTo>
                  <a:pt x="1977" y="8"/>
                </a:lnTo>
                <a:lnTo>
                  <a:pt x="1984" y="8"/>
                </a:lnTo>
                <a:lnTo>
                  <a:pt x="1999" y="8"/>
                </a:lnTo>
                <a:lnTo>
                  <a:pt x="2006" y="8"/>
                </a:lnTo>
                <a:lnTo>
                  <a:pt x="2021" y="8"/>
                </a:lnTo>
                <a:lnTo>
                  <a:pt x="2036" y="15"/>
                </a:lnTo>
                <a:lnTo>
                  <a:pt x="2043" y="15"/>
                </a:lnTo>
                <a:lnTo>
                  <a:pt x="2051" y="15"/>
                </a:lnTo>
                <a:lnTo>
                  <a:pt x="2065" y="15"/>
                </a:lnTo>
                <a:lnTo>
                  <a:pt x="2073" y="15"/>
                </a:lnTo>
                <a:lnTo>
                  <a:pt x="2080" y="15"/>
                </a:lnTo>
                <a:lnTo>
                  <a:pt x="2095" y="15"/>
                </a:lnTo>
                <a:lnTo>
                  <a:pt x="2103" y="15"/>
                </a:lnTo>
                <a:lnTo>
                  <a:pt x="2117" y="23"/>
                </a:lnTo>
                <a:lnTo>
                  <a:pt x="2125" y="23"/>
                </a:lnTo>
                <a:lnTo>
                  <a:pt x="2132" y="23"/>
                </a:lnTo>
                <a:lnTo>
                  <a:pt x="2140" y="23"/>
                </a:lnTo>
                <a:lnTo>
                  <a:pt x="2147" y="23"/>
                </a:lnTo>
                <a:lnTo>
                  <a:pt x="2154" y="23"/>
                </a:lnTo>
                <a:lnTo>
                  <a:pt x="2169" y="23"/>
                </a:lnTo>
                <a:lnTo>
                  <a:pt x="2177" y="23"/>
                </a:lnTo>
                <a:lnTo>
                  <a:pt x="2184" y="23"/>
                </a:lnTo>
                <a:lnTo>
                  <a:pt x="2191" y="23"/>
                </a:lnTo>
                <a:lnTo>
                  <a:pt x="2206" y="23"/>
                </a:lnTo>
                <a:lnTo>
                  <a:pt x="2214" y="23"/>
                </a:lnTo>
                <a:lnTo>
                  <a:pt x="2221" y="23"/>
                </a:lnTo>
                <a:lnTo>
                  <a:pt x="2236" y="23"/>
                </a:lnTo>
                <a:lnTo>
                  <a:pt x="2243" y="23"/>
                </a:lnTo>
                <a:lnTo>
                  <a:pt x="2251" y="23"/>
                </a:lnTo>
                <a:lnTo>
                  <a:pt x="2258" y="30"/>
                </a:lnTo>
                <a:lnTo>
                  <a:pt x="2265" y="30"/>
                </a:lnTo>
                <a:lnTo>
                  <a:pt x="2273" y="30"/>
                </a:lnTo>
                <a:lnTo>
                  <a:pt x="2288" y="30"/>
                </a:lnTo>
                <a:lnTo>
                  <a:pt x="2295" y="30"/>
                </a:lnTo>
                <a:lnTo>
                  <a:pt x="2302" y="30"/>
                </a:lnTo>
                <a:lnTo>
                  <a:pt x="2317" y="30"/>
                </a:lnTo>
                <a:lnTo>
                  <a:pt x="2325" y="30"/>
                </a:lnTo>
                <a:lnTo>
                  <a:pt x="2339" y="30"/>
                </a:lnTo>
                <a:lnTo>
                  <a:pt x="2347" y="30"/>
                </a:lnTo>
                <a:lnTo>
                  <a:pt x="2354" y="30"/>
                </a:lnTo>
                <a:lnTo>
                  <a:pt x="2362" y="30"/>
                </a:lnTo>
                <a:lnTo>
                  <a:pt x="2369" y="30"/>
                </a:lnTo>
                <a:lnTo>
                  <a:pt x="2384" y="30"/>
                </a:lnTo>
                <a:lnTo>
                  <a:pt x="2391" y="30"/>
                </a:lnTo>
                <a:lnTo>
                  <a:pt x="2399" y="30"/>
                </a:lnTo>
                <a:lnTo>
                  <a:pt x="2406" y="30"/>
                </a:lnTo>
                <a:lnTo>
                  <a:pt x="2413" y="30"/>
                </a:lnTo>
                <a:lnTo>
                  <a:pt x="2421" y="30"/>
                </a:lnTo>
                <a:lnTo>
                  <a:pt x="2428" y="30"/>
                </a:lnTo>
                <a:lnTo>
                  <a:pt x="2436" y="30"/>
                </a:lnTo>
                <a:lnTo>
                  <a:pt x="2443" y="30"/>
                </a:lnTo>
                <a:lnTo>
                  <a:pt x="2458" y="30"/>
                </a:lnTo>
                <a:lnTo>
                  <a:pt x="2465" y="30"/>
                </a:lnTo>
                <a:lnTo>
                  <a:pt x="2473" y="30"/>
                </a:lnTo>
                <a:lnTo>
                  <a:pt x="2480" y="30"/>
                </a:lnTo>
                <a:lnTo>
                  <a:pt x="2487" y="30"/>
                </a:lnTo>
                <a:lnTo>
                  <a:pt x="2495" y="30"/>
                </a:lnTo>
                <a:lnTo>
                  <a:pt x="2502" y="23"/>
                </a:lnTo>
                <a:lnTo>
                  <a:pt x="2517" y="23"/>
                </a:lnTo>
                <a:lnTo>
                  <a:pt x="2525" y="23"/>
                </a:lnTo>
                <a:lnTo>
                  <a:pt x="2532" y="23"/>
                </a:lnTo>
                <a:lnTo>
                  <a:pt x="2539" y="23"/>
                </a:lnTo>
                <a:lnTo>
                  <a:pt x="2547" y="23"/>
                </a:lnTo>
                <a:lnTo>
                  <a:pt x="2562" y="23"/>
                </a:lnTo>
                <a:lnTo>
                  <a:pt x="2576" y="23"/>
                </a:lnTo>
                <a:lnTo>
                  <a:pt x="2584" y="23"/>
                </a:lnTo>
                <a:lnTo>
                  <a:pt x="2591" y="23"/>
                </a:lnTo>
                <a:lnTo>
                  <a:pt x="2599" y="23"/>
                </a:lnTo>
                <a:lnTo>
                  <a:pt x="2606" y="30"/>
                </a:lnTo>
                <a:lnTo>
                  <a:pt x="2613" y="30"/>
                </a:lnTo>
                <a:lnTo>
                  <a:pt x="2621" y="30"/>
                </a:lnTo>
                <a:lnTo>
                  <a:pt x="2636" y="30"/>
                </a:lnTo>
                <a:lnTo>
                  <a:pt x="2643" y="30"/>
                </a:lnTo>
                <a:lnTo>
                  <a:pt x="2650" y="30"/>
                </a:lnTo>
                <a:lnTo>
                  <a:pt x="2658" y="30"/>
                </a:lnTo>
                <a:lnTo>
                  <a:pt x="2673" y="30"/>
                </a:lnTo>
                <a:lnTo>
                  <a:pt x="2680" y="30"/>
                </a:lnTo>
                <a:lnTo>
                  <a:pt x="2687" y="30"/>
                </a:lnTo>
                <a:lnTo>
                  <a:pt x="2702" y="30"/>
                </a:lnTo>
                <a:lnTo>
                  <a:pt x="2710" y="30"/>
                </a:lnTo>
                <a:lnTo>
                  <a:pt x="2717" y="30"/>
                </a:lnTo>
                <a:lnTo>
                  <a:pt x="2732" y="30"/>
                </a:lnTo>
                <a:lnTo>
                  <a:pt x="2739" y="30"/>
                </a:lnTo>
                <a:lnTo>
                  <a:pt x="2747" y="30"/>
                </a:lnTo>
                <a:lnTo>
                  <a:pt x="2754" y="30"/>
                </a:lnTo>
                <a:lnTo>
                  <a:pt x="2769" y="30"/>
                </a:lnTo>
                <a:lnTo>
                  <a:pt x="2776" y="30"/>
                </a:lnTo>
                <a:lnTo>
                  <a:pt x="2784" y="30"/>
                </a:lnTo>
                <a:lnTo>
                  <a:pt x="2798" y="30"/>
                </a:lnTo>
                <a:lnTo>
                  <a:pt x="2806" y="30"/>
                </a:lnTo>
                <a:lnTo>
                  <a:pt x="2813" y="30"/>
                </a:lnTo>
                <a:lnTo>
                  <a:pt x="2828" y="30"/>
                </a:lnTo>
                <a:lnTo>
                  <a:pt x="2835" y="30"/>
                </a:lnTo>
                <a:lnTo>
                  <a:pt x="2843" y="30"/>
                </a:lnTo>
                <a:lnTo>
                  <a:pt x="2858" y="30"/>
                </a:lnTo>
                <a:lnTo>
                  <a:pt x="2865" y="30"/>
                </a:lnTo>
                <a:lnTo>
                  <a:pt x="2880" y="30"/>
                </a:lnTo>
                <a:lnTo>
                  <a:pt x="2887" y="30"/>
                </a:lnTo>
                <a:lnTo>
                  <a:pt x="2902" y="30"/>
                </a:lnTo>
                <a:lnTo>
                  <a:pt x="2909" y="30"/>
                </a:lnTo>
                <a:lnTo>
                  <a:pt x="2924" y="30"/>
                </a:lnTo>
                <a:lnTo>
                  <a:pt x="2939" y="30"/>
                </a:lnTo>
                <a:lnTo>
                  <a:pt x="2947" y="30"/>
                </a:lnTo>
                <a:lnTo>
                  <a:pt x="2961" y="30"/>
                </a:lnTo>
                <a:lnTo>
                  <a:pt x="2969" y="30"/>
                </a:lnTo>
                <a:lnTo>
                  <a:pt x="2984" y="30"/>
                </a:lnTo>
                <a:lnTo>
                  <a:pt x="2991" y="30"/>
                </a:lnTo>
                <a:lnTo>
                  <a:pt x="3006" y="30"/>
                </a:lnTo>
                <a:lnTo>
                  <a:pt x="3013" y="30"/>
                </a:lnTo>
                <a:lnTo>
                  <a:pt x="3028" y="30"/>
                </a:lnTo>
                <a:lnTo>
                  <a:pt x="3035" y="30"/>
                </a:lnTo>
                <a:lnTo>
                  <a:pt x="3050" y="30"/>
                </a:lnTo>
                <a:lnTo>
                  <a:pt x="3058" y="30"/>
                </a:lnTo>
                <a:lnTo>
                  <a:pt x="3072" y="30"/>
                </a:lnTo>
                <a:lnTo>
                  <a:pt x="3087" y="30"/>
                </a:lnTo>
                <a:lnTo>
                  <a:pt x="3095" y="30"/>
                </a:lnTo>
                <a:lnTo>
                  <a:pt x="3109" y="30"/>
                </a:lnTo>
                <a:lnTo>
                  <a:pt x="3124" y="30"/>
                </a:lnTo>
                <a:lnTo>
                  <a:pt x="3132" y="30"/>
                </a:lnTo>
                <a:lnTo>
                  <a:pt x="3146" y="30"/>
                </a:lnTo>
                <a:lnTo>
                  <a:pt x="3154" y="30"/>
                </a:lnTo>
                <a:lnTo>
                  <a:pt x="3176" y="30"/>
                </a:lnTo>
                <a:lnTo>
                  <a:pt x="3183" y="30"/>
                </a:lnTo>
                <a:lnTo>
                  <a:pt x="3191" y="30"/>
                </a:lnTo>
                <a:lnTo>
                  <a:pt x="3206" y="30"/>
                </a:lnTo>
                <a:lnTo>
                  <a:pt x="3213" y="30"/>
                </a:lnTo>
                <a:lnTo>
                  <a:pt x="3228" y="30"/>
                </a:lnTo>
                <a:lnTo>
                  <a:pt x="3235" y="30"/>
                </a:lnTo>
                <a:lnTo>
                  <a:pt x="3243" y="30"/>
                </a:lnTo>
                <a:lnTo>
                  <a:pt x="3257" y="30"/>
                </a:lnTo>
                <a:lnTo>
                  <a:pt x="3265" y="30"/>
                </a:lnTo>
                <a:lnTo>
                  <a:pt x="3272" y="30"/>
                </a:lnTo>
                <a:lnTo>
                  <a:pt x="3280" y="30"/>
                </a:lnTo>
                <a:lnTo>
                  <a:pt x="3287" y="30"/>
                </a:lnTo>
                <a:lnTo>
                  <a:pt x="3302" y="30"/>
                </a:lnTo>
                <a:lnTo>
                  <a:pt x="3309" y="30"/>
                </a:lnTo>
                <a:lnTo>
                  <a:pt x="3317" y="30"/>
                </a:lnTo>
                <a:lnTo>
                  <a:pt x="3324" y="30"/>
                </a:lnTo>
                <a:lnTo>
                  <a:pt x="3332" y="30"/>
                </a:lnTo>
                <a:lnTo>
                  <a:pt x="3346" y="30"/>
                </a:lnTo>
                <a:lnTo>
                  <a:pt x="3354" y="30"/>
                </a:lnTo>
                <a:lnTo>
                  <a:pt x="3361" y="30"/>
                </a:lnTo>
                <a:lnTo>
                  <a:pt x="3376" y="30"/>
                </a:lnTo>
                <a:lnTo>
                  <a:pt x="3383" y="30"/>
                </a:lnTo>
                <a:lnTo>
                  <a:pt x="3391" y="30"/>
                </a:lnTo>
                <a:lnTo>
                  <a:pt x="3398" y="30"/>
                </a:lnTo>
                <a:lnTo>
                  <a:pt x="3413" y="30"/>
                </a:lnTo>
                <a:lnTo>
                  <a:pt x="3420" y="30"/>
                </a:lnTo>
                <a:lnTo>
                  <a:pt x="3428" y="30"/>
                </a:lnTo>
                <a:lnTo>
                  <a:pt x="3443" y="30"/>
                </a:lnTo>
                <a:lnTo>
                  <a:pt x="3450" y="30"/>
                </a:lnTo>
                <a:lnTo>
                  <a:pt x="3457" y="30"/>
                </a:lnTo>
                <a:lnTo>
                  <a:pt x="3465" y="30"/>
                </a:lnTo>
                <a:lnTo>
                  <a:pt x="3480" y="30"/>
                </a:lnTo>
                <a:lnTo>
                  <a:pt x="3487" y="30"/>
                </a:lnTo>
                <a:lnTo>
                  <a:pt x="3502" y="30"/>
                </a:lnTo>
                <a:lnTo>
                  <a:pt x="3509" y="30"/>
                </a:lnTo>
                <a:lnTo>
                  <a:pt x="3524" y="30"/>
                </a:lnTo>
                <a:lnTo>
                  <a:pt x="3531" y="37"/>
                </a:lnTo>
                <a:lnTo>
                  <a:pt x="3539" y="37"/>
                </a:lnTo>
                <a:lnTo>
                  <a:pt x="3554" y="37"/>
                </a:lnTo>
                <a:lnTo>
                  <a:pt x="3561" y="37"/>
                </a:lnTo>
                <a:lnTo>
                  <a:pt x="3568" y="37"/>
                </a:lnTo>
                <a:lnTo>
                  <a:pt x="3583" y="37"/>
                </a:lnTo>
                <a:lnTo>
                  <a:pt x="3591" y="37"/>
                </a:lnTo>
                <a:lnTo>
                  <a:pt x="3605" y="37"/>
                </a:lnTo>
                <a:lnTo>
                  <a:pt x="3613" y="37"/>
                </a:lnTo>
                <a:lnTo>
                  <a:pt x="3628" y="37"/>
                </a:lnTo>
                <a:lnTo>
                  <a:pt x="3642" y="37"/>
                </a:lnTo>
                <a:lnTo>
                  <a:pt x="3650" y="37"/>
                </a:lnTo>
                <a:lnTo>
                  <a:pt x="3665" y="37"/>
                </a:lnTo>
                <a:lnTo>
                  <a:pt x="3672" y="37"/>
                </a:lnTo>
                <a:lnTo>
                  <a:pt x="3679" y="37"/>
                </a:lnTo>
                <a:lnTo>
                  <a:pt x="3694" y="37"/>
                </a:lnTo>
                <a:lnTo>
                  <a:pt x="3702" y="37"/>
                </a:lnTo>
                <a:lnTo>
                  <a:pt x="3709" y="37"/>
                </a:lnTo>
                <a:lnTo>
                  <a:pt x="3724" y="37"/>
                </a:lnTo>
                <a:lnTo>
                  <a:pt x="3731" y="37"/>
                </a:lnTo>
                <a:lnTo>
                  <a:pt x="3746" y="37"/>
                </a:lnTo>
                <a:lnTo>
                  <a:pt x="3754" y="37"/>
                </a:lnTo>
                <a:lnTo>
                  <a:pt x="3768" y="37"/>
                </a:lnTo>
                <a:lnTo>
                  <a:pt x="3776" y="37"/>
                </a:lnTo>
                <a:lnTo>
                  <a:pt x="3783" y="37"/>
                </a:lnTo>
                <a:lnTo>
                  <a:pt x="3791" y="37"/>
                </a:lnTo>
                <a:lnTo>
                  <a:pt x="3798" y="37"/>
                </a:lnTo>
                <a:lnTo>
                  <a:pt x="3805" y="37"/>
                </a:lnTo>
                <a:lnTo>
                  <a:pt x="3813" y="37"/>
                </a:lnTo>
                <a:lnTo>
                  <a:pt x="3820" y="37"/>
                </a:lnTo>
                <a:lnTo>
                  <a:pt x="3828" y="37"/>
                </a:lnTo>
                <a:lnTo>
                  <a:pt x="3828" y="37"/>
                </a:lnTo>
              </a:path>
            </a:pathLst>
          </a:custGeom>
          <a:noFill/>
          <a:ln w="12600">
            <a:solidFill>
              <a:srgbClr val="ff0000"/>
            </a:solidFill>
            <a:miter/>
          </a:ln>
        </p:spPr>
        <p:style>
          <a:lnRef idx="0"/>
          <a:fillRef idx="0"/>
          <a:effectRef idx="0"/>
          <a:fontRef idx="minor"/>
        </p:style>
        <p:txBody>
          <a:bodyPr wrap="none" tIns="14760" bIns="14760" anchor="ctr">
            <a:noAutofit/>
          </a:bodyPr>
          <a:p>
            <a:endParaRPr b="0" lang="en-US" sz="2400" spc="-1" strike="noStrike">
              <a:solidFill>
                <a:srgbClr val="5b5249"/>
              </a:solidFill>
              <a:latin typeface="Times New Roman"/>
            </a:endParaRPr>
          </a:p>
        </p:txBody>
      </p:sp>
      <p:sp>
        <p:nvSpPr>
          <p:cNvPr id="109" name=""/>
          <p:cNvSpPr/>
          <p:nvPr/>
        </p:nvSpPr>
        <p:spPr>
          <a:xfrm>
            <a:off x="1563840" y="2101680"/>
            <a:ext cx="5101920" cy="71640"/>
          </a:xfrm>
          <a:custGeom>
            <a:avLst/>
            <a:gdLst/>
            <a:ahLst/>
            <a:rect l="l" t="t" r="r" b="b"/>
            <a:pathLst>
              <a:path w="3214" h="45">
                <a:moveTo>
                  <a:pt x="0" y="22"/>
                </a:moveTo>
                <a:lnTo>
                  <a:pt x="7" y="22"/>
                </a:lnTo>
                <a:lnTo>
                  <a:pt x="14" y="22"/>
                </a:lnTo>
                <a:lnTo>
                  <a:pt x="22" y="22"/>
                </a:lnTo>
                <a:lnTo>
                  <a:pt x="29" y="22"/>
                </a:lnTo>
                <a:lnTo>
                  <a:pt x="37" y="22"/>
                </a:lnTo>
                <a:lnTo>
                  <a:pt x="44" y="22"/>
                </a:lnTo>
                <a:lnTo>
                  <a:pt x="52" y="22"/>
                </a:lnTo>
                <a:lnTo>
                  <a:pt x="59" y="22"/>
                </a:lnTo>
                <a:lnTo>
                  <a:pt x="66" y="22"/>
                </a:lnTo>
                <a:lnTo>
                  <a:pt x="74" y="22"/>
                </a:lnTo>
                <a:lnTo>
                  <a:pt x="81" y="22"/>
                </a:lnTo>
                <a:lnTo>
                  <a:pt x="89" y="22"/>
                </a:lnTo>
                <a:lnTo>
                  <a:pt x="96" y="30"/>
                </a:lnTo>
                <a:lnTo>
                  <a:pt x="103" y="30"/>
                </a:lnTo>
                <a:lnTo>
                  <a:pt x="111" y="30"/>
                </a:lnTo>
                <a:lnTo>
                  <a:pt x="118" y="30"/>
                </a:lnTo>
                <a:lnTo>
                  <a:pt x="126" y="30"/>
                </a:lnTo>
                <a:lnTo>
                  <a:pt x="133" y="30"/>
                </a:lnTo>
                <a:lnTo>
                  <a:pt x="140" y="30"/>
                </a:lnTo>
                <a:lnTo>
                  <a:pt x="148" y="30"/>
                </a:lnTo>
                <a:lnTo>
                  <a:pt x="155" y="22"/>
                </a:lnTo>
                <a:lnTo>
                  <a:pt x="163" y="22"/>
                </a:lnTo>
                <a:lnTo>
                  <a:pt x="170" y="22"/>
                </a:lnTo>
                <a:lnTo>
                  <a:pt x="177" y="22"/>
                </a:lnTo>
                <a:lnTo>
                  <a:pt x="185" y="22"/>
                </a:lnTo>
                <a:lnTo>
                  <a:pt x="192" y="22"/>
                </a:lnTo>
                <a:lnTo>
                  <a:pt x="200" y="22"/>
                </a:lnTo>
                <a:lnTo>
                  <a:pt x="207" y="22"/>
                </a:lnTo>
                <a:lnTo>
                  <a:pt x="214" y="22"/>
                </a:lnTo>
                <a:lnTo>
                  <a:pt x="222" y="22"/>
                </a:lnTo>
                <a:lnTo>
                  <a:pt x="229" y="22"/>
                </a:lnTo>
                <a:lnTo>
                  <a:pt x="237" y="22"/>
                </a:lnTo>
                <a:lnTo>
                  <a:pt x="244" y="22"/>
                </a:lnTo>
                <a:lnTo>
                  <a:pt x="251" y="22"/>
                </a:lnTo>
                <a:lnTo>
                  <a:pt x="259" y="22"/>
                </a:lnTo>
                <a:lnTo>
                  <a:pt x="266" y="22"/>
                </a:lnTo>
                <a:lnTo>
                  <a:pt x="274" y="22"/>
                </a:lnTo>
                <a:lnTo>
                  <a:pt x="281" y="22"/>
                </a:lnTo>
                <a:lnTo>
                  <a:pt x="288" y="22"/>
                </a:lnTo>
                <a:lnTo>
                  <a:pt x="296" y="22"/>
                </a:lnTo>
                <a:lnTo>
                  <a:pt x="303" y="22"/>
                </a:lnTo>
                <a:lnTo>
                  <a:pt x="311" y="22"/>
                </a:lnTo>
                <a:lnTo>
                  <a:pt x="318" y="22"/>
                </a:lnTo>
                <a:lnTo>
                  <a:pt x="325" y="22"/>
                </a:lnTo>
                <a:lnTo>
                  <a:pt x="333" y="22"/>
                </a:lnTo>
                <a:lnTo>
                  <a:pt x="348" y="22"/>
                </a:lnTo>
                <a:lnTo>
                  <a:pt x="348" y="15"/>
                </a:lnTo>
                <a:lnTo>
                  <a:pt x="355" y="15"/>
                </a:lnTo>
                <a:lnTo>
                  <a:pt x="370" y="15"/>
                </a:lnTo>
                <a:lnTo>
                  <a:pt x="377" y="15"/>
                </a:lnTo>
                <a:lnTo>
                  <a:pt x="385" y="15"/>
                </a:lnTo>
                <a:lnTo>
                  <a:pt x="392" y="15"/>
                </a:lnTo>
                <a:lnTo>
                  <a:pt x="399" y="15"/>
                </a:lnTo>
                <a:lnTo>
                  <a:pt x="407" y="15"/>
                </a:lnTo>
                <a:lnTo>
                  <a:pt x="414" y="15"/>
                </a:lnTo>
                <a:lnTo>
                  <a:pt x="422" y="15"/>
                </a:lnTo>
                <a:lnTo>
                  <a:pt x="429" y="15"/>
                </a:lnTo>
                <a:lnTo>
                  <a:pt x="436" y="15"/>
                </a:lnTo>
                <a:lnTo>
                  <a:pt x="444" y="15"/>
                </a:lnTo>
                <a:lnTo>
                  <a:pt x="466" y="15"/>
                </a:lnTo>
                <a:lnTo>
                  <a:pt x="474" y="15"/>
                </a:lnTo>
                <a:lnTo>
                  <a:pt x="481" y="15"/>
                </a:lnTo>
                <a:lnTo>
                  <a:pt x="488" y="15"/>
                </a:lnTo>
                <a:lnTo>
                  <a:pt x="496" y="15"/>
                </a:lnTo>
                <a:lnTo>
                  <a:pt x="503" y="15"/>
                </a:lnTo>
                <a:lnTo>
                  <a:pt x="511" y="15"/>
                </a:lnTo>
                <a:lnTo>
                  <a:pt x="518" y="15"/>
                </a:lnTo>
                <a:lnTo>
                  <a:pt x="533" y="15"/>
                </a:lnTo>
                <a:lnTo>
                  <a:pt x="540" y="15"/>
                </a:lnTo>
                <a:lnTo>
                  <a:pt x="548" y="15"/>
                </a:lnTo>
                <a:lnTo>
                  <a:pt x="555" y="15"/>
                </a:lnTo>
                <a:lnTo>
                  <a:pt x="570" y="15"/>
                </a:lnTo>
                <a:lnTo>
                  <a:pt x="577" y="15"/>
                </a:lnTo>
                <a:lnTo>
                  <a:pt x="592" y="15"/>
                </a:lnTo>
                <a:lnTo>
                  <a:pt x="599" y="15"/>
                </a:lnTo>
                <a:lnTo>
                  <a:pt x="607" y="15"/>
                </a:lnTo>
                <a:lnTo>
                  <a:pt x="622" y="15"/>
                </a:lnTo>
                <a:lnTo>
                  <a:pt x="629" y="15"/>
                </a:lnTo>
                <a:lnTo>
                  <a:pt x="636" y="22"/>
                </a:lnTo>
                <a:lnTo>
                  <a:pt x="651" y="22"/>
                </a:lnTo>
                <a:lnTo>
                  <a:pt x="659" y="22"/>
                </a:lnTo>
                <a:lnTo>
                  <a:pt x="673" y="22"/>
                </a:lnTo>
                <a:lnTo>
                  <a:pt x="681" y="22"/>
                </a:lnTo>
                <a:lnTo>
                  <a:pt x="696" y="22"/>
                </a:lnTo>
                <a:lnTo>
                  <a:pt x="703" y="22"/>
                </a:lnTo>
                <a:lnTo>
                  <a:pt x="718" y="22"/>
                </a:lnTo>
                <a:lnTo>
                  <a:pt x="733" y="22"/>
                </a:lnTo>
                <a:lnTo>
                  <a:pt x="740" y="22"/>
                </a:lnTo>
                <a:lnTo>
                  <a:pt x="747" y="22"/>
                </a:lnTo>
                <a:lnTo>
                  <a:pt x="755" y="22"/>
                </a:lnTo>
                <a:lnTo>
                  <a:pt x="770" y="22"/>
                </a:lnTo>
                <a:lnTo>
                  <a:pt x="777" y="22"/>
                </a:lnTo>
                <a:lnTo>
                  <a:pt x="784" y="22"/>
                </a:lnTo>
                <a:lnTo>
                  <a:pt x="799" y="15"/>
                </a:lnTo>
                <a:lnTo>
                  <a:pt x="807" y="15"/>
                </a:lnTo>
                <a:lnTo>
                  <a:pt x="821" y="15"/>
                </a:lnTo>
                <a:lnTo>
                  <a:pt x="829" y="15"/>
                </a:lnTo>
                <a:lnTo>
                  <a:pt x="836" y="15"/>
                </a:lnTo>
                <a:lnTo>
                  <a:pt x="851" y="15"/>
                </a:lnTo>
                <a:lnTo>
                  <a:pt x="858" y="15"/>
                </a:lnTo>
                <a:lnTo>
                  <a:pt x="866" y="15"/>
                </a:lnTo>
                <a:lnTo>
                  <a:pt x="881" y="15"/>
                </a:lnTo>
                <a:lnTo>
                  <a:pt x="888" y="15"/>
                </a:lnTo>
                <a:lnTo>
                  <a:pt x="896" y="15"/>
                </a:lnTo>
                <a:lnTo>
                  <a:pt x="903" y="15"/>
                </a:lnTo>
                <a:lnTo>
                  <a:pt x="918" y="15"/>
                </a:lnTo>
                <a:lnTo>
                  <a:pt x="925" y="15"/>
                </a:lnTo>
                <a:lnTo>
                  <a:pt x="940" y="15"/>
                </a:lnTo>
                <a:lnTo>
                  <a:pt x="947" y="15"/>
                </a:lnTo>
                <a:lnTo>
                  <a:pt x="962" y="22"/>
                </a:lnTo>
                <a:lnTo>
                  <a:pt x="970" y="22"/>
                </a:lnTo>
                <a:lnTo>
                  <a:pt x="977" y="22"/>
                </a:lnTo>
                <a:lnTo>
                  <a:pt x="992" y="22"/>
                </a:lnTo>
                <a:lnTo>
                  <a:pt x="999" y="22"/>
                </a:lnTo>
                <a:lnTo>
                  <a:pt x="1014" y="22"/>
                </a:lnTo>
                <a:lnTo>
                  <a:pt x="1021" y="22"/>
                </a:lnTo>
                <a:lnTo>
                  <a:pt x="1036" y="22"/>
                </a:lnTo>
                <a:lnTo>
                  <a:pt x="1058" y="22"/>
                </a:lnTo>
                <a:lnTo>
                  <a:pt x="1066" y="22"/>
                </a:lnTo>
                <a:lnTo>
                  <a:pt x="1073" y="22"/>
                </a:lnTo>
                <a:lnTo>
                  <a:pt x="1088" y="22"/>
                </a:lnTo>
                <a:lnTo>
                  <a:pt x="1103" y="22"/>
                </a:lnTo>
                <a:lnTo>
                  <a:pt x="1110" y="22"/>
                </a:lnTo>
                <a:lnTo>
                  <a:pt x="1125" y="22"/>
                </a:lnTo>
                <a:lnTo>
                  <a:pt x="1140" y="22"/>
                </a:lnTo>
                <a:lnTo>
                  <a:pt x="1147" y="30"/>
                </a:lnTo>
                <a:lnTo>
                  <a:pt x="1162" y="30"/>
                </a:lnTo>
                <a:lnTo>
                  <a:pt x="1177" y="30"/>
                </a:lnTo>
                <a:lnTo>
                  <a:pt x="1184" y="30"/>
                </a:lnTo>
                <a:lnTo>
                  <a:pt x="1199" y="30"/>
                </a:lnTo>
                <a:lnTo>
                  <a:pt x="1214" y="30"/>
                </a:lnTo>
                <a:lnTo>
                  <a:pt x="1221" y="30"/>
                </a:lnTo>
                <a:lnTo>
                  <a:pt x="1236" y="30"/>
                </a:lnTo>
                <a:lnTo>
                  <a:pt x="1243" y="30"/>
                </a:lnTo>
                <a:lnTo>
                  <a:pt x="1258" y="30"/>
                </a:lnTo>
                <a:lnTo>
                  <a:pt x="1273" y="30"/>
                </a:lnTo>
                <a:lnTo>
                  <a:pt x="1281" y="30"/>
                </a:lnTo>
                <a:lnTo>
                  <a:pt x="1295" y="30"/>
                </a:lnTo>
                <a:lnTo>
                  <a:pt x="1303" y="30"/>
                </a:lnTo>
                <a:lnTo>
                  <a:pt x="1310" y="37"/>
                </a:lnTo>
                <a:lnTo>
                  <a:pt x="1325" y="37"/>
                </a:lnTo>
                <a:lnTo>
                  <a:pt x="1332" y="37"/>
                </a:lnTo>
                <a:lnTo>
                  <a:pt x="1340" y="37"/>
                </a:lnTo>
                <a:lnTo>
                  <a:pt x="1355" y="37"/>
                </a:lnTo>
                <a:lnTo>
                  <a:pt x="1362" y="37"/>
                </a:lnTo>
                <a:lnTo>
                  <a:pt x="1369" y="37"/>
                </a:lnTo>
                <a:lnTo>
                  <a:pt x="1384" y="37"/>
                </a:lnTo>
                <a:lnTo>
                  <a:pt x="1392" y="37"/>
                </a:lnTo>
                <a:lnTo>
                  <a:pt x="1406" y="37"/>
                </a:lnTo>
                <a:lnTo>
                  <a:pt x="1414" y="37"/>
                </a:lnTo>
                <a:lnTo>
                  <a:pt x="1421" y="37"/>
                </a:lnTo>
                <a:lnTo>
                  <a:pt x="1436" y="44"/>
                </a:lnTo>
                <a:lnTo>
                  <a:pt x="1443" y="44"/>
                </a:lnTo>
                <a:lnTo>
                  <a:pt x="1451" y="44"/>
                </a:lnTo>
                <a:lnTo>
                  <a:pt x="1466" y="44"/>
                </a:lnTo>
                <a:lnTo>
                  <a:pt x="1473" y="44"/>
                </a:lnTo>
                <a:lnTo>
                  <a:pt x="1480" y="44"/>
                </a:lnTo>
                <a:lnTo>
                  <a:pt x="1495" y="44"/>
                </a:lnTo>
                <a:lnTo>
                  <a:pt x="1503" y="44"/>
                </a:lnTo>
                <a:lnTo>
                  <a:pt x="1517" y="44"/>
                </a:lnTo>
                <a:lnTo>
                  <a:pt x="1525" y="44"/>
                </a:lnTo>
                <a:lnTo>
                  <a:pt x="1532" y="44"/>
                </a:lnTo>
                <a:lnTo>
                  <a:pt x="1547" y="44"/>
                </a:lnTo>
                <a:lnTo>
                  <a:pt x="1554" y="37"/>
                </a:lnTo>
                <a:lnTo>
                  <a:pt x="1562" y="37"/>
                </a:lnTo>
                <a:lnTo>
                  <a:pt x="1569" y="37"/>
                </a:lnTo>
                <a:lnTo>
                  <a:pt x="1577" y="37"/>
                </a:lnTo>
                <a:lnTo>
                  <a:pt x="1591" y="37"/>
                </a:lnTo>
                <a:lnTo>
                  <a:pt x="1599" y="37"/>
                </a:lnTo>
                <a:lnTo>
                  <a:pt x="1614" y="37"/>
                </a:lnTo>
                <a:lnTo>
                  <a:pt x="1621" y="37"/>
                </a:lnTo>
                <a:lnTo>
                  <a:pt x="1628" y="30"/>
                </a:lnTo>
                <a:lnTo>
                  <a:pt x="1636" y="30"/>
                </a:lnTo>
                <a:lnTo>
                  <a:pt x="1643" y="30"/>
                </a:lnTo>
                <a:lnTo>
                  <a:pt x="1658" y="30"/>
                </a:lnTo>
                <a:lnTo>
                  <a:pt x="1665" y="30"/>
                </a:lnTo>
                <a:lnTo>
                  <a:pt x="1673" y="30"/>
                </a:lnTo>
                <a:lnTo>
                  <a:pt x="1680" y="30"/>
                </a:lnTo>
                <a:lnTo>
                  <a:pt x="1688" y="30"/>
                </a:lnTo>
                <a:lnTo>
                  <a:pt x="1695" y="30"/>
                </a:lnTo>
                <a:lnTo>
                  <a:pt x="1703" y="30"/>
                </a:lnTo>
                <a:lnTo>
                  <a:pt x="1710" y="30"/>
                </a:lnTo>
                <a:lnTo>
                  <a:pt x="1717" y="30"/>
                </a:lnTo>
                <a:lnTo>
                  <a:pt x="1725" y="22"/>
                </a:lnTo>
                <a:lnTo>
                  <a:pt x="1732" y="22"/>
                </a:lnTo>
                <a:lnTo>
                  <a:pt x="1740" y="22"/>
                </a:lnTo>
                <a:lnTo>
                  <a:pt x="1747" y="22"/>
                </a:lnTo>
                <a:lnTo>
                  <a:pt x="1754" y="22"/>
                </a:lnTo>
                <a:lnTo>
                  <a:pt x="1769" y="22"/>
                </a:lnTo>
                <a:lnTo>
                  <a:pt x="1777" y="22"/>
                </a:lnTo>
                <a:lnTo>
                  <a:pt x="1784" y="22"/>
                </a:lnTo>
                <a:lnTo>
                  <a:pt x="1791" y="22"/>
                </a:lnTo>
                <a:lnTo>
                  <a:pt x="1799" y="22"/>
                </a:lnTo>
                <a:lnTo>
                  <a:pt x="1814" y="22"/>
                </a:lnTo>
                <a:lnTo>
                  <a:pt x="1821" y="22"/>
                </a:lnTo>
                <a:lnTo>
                  <a:pt x="1828" y="22"/>
                </a:lnTo>
                <a:lnTo>
                  <a:pt x="1843" y="22"/>
                </a:lnTo>
                <a:lnTo>
                  <a:pt x="1851" y="22"/>
                </a:lnTo>
                <a:lnTo>
                  <a:pt x="1865" y="30"/>
                </a:lnTo>
                <a:lnTo>
                  <a:pt x="1873" y="30"/>
                </a:lnTo>
                <a:lnTo>
                  <a:pt x="1880" y="30"/>
                </a:lnTo>
                <a:lnTo>
                  <a:pt x="1895" y="30"/>
                </a:lnTo>
                <a:lnTo>
                  <a:pt x="1902" y="30"/>
                </a:lnTo>
                <a:lnTo>
                  <a:pt x="1917" y="30"/>
                </a:lnTo>
                <a:lnTo>
                  <a:pt x="1925" y="30"/>
                </a:lnTo>
                <a:lnTo>
                  <a:pt x="1939" y="37"/>
                </a:lnTo>
                <a:lnTo>
                  <a:pt x="1947" y="37"/>
                </a:lnTo>
                <a:lnTo>
                  <a:pt x="1954" y="37"/>
                </a:lnTo>
                <a:lnTo>
                  <a:pt x="1969" y="37"/>
                </a:lnTo>
                <a:lnTo>
                  <a:pt x="1984" y="37"/>
                </a:lnTo>
                <a:lnTo>
                  <a:pt x="1991" y="37"/>
                </a:lnTo>
                <a:lnTo>
                  <a:pt x="2006" y="37"/>
                </a:lnTo>
                <a:lnTo>
                  <a:pt x="2013" y="37"/>
                </a:lnTo>
                <a:lnTo>
                  <a:pt x="2028" y="44"/>
                </a:lnTo>
                <a:lnTo>
                  <a:pt x="2036" y="44"/>
                </a:lnTo>
                <a:lnTo>
                  <a:pt x="2050" y="44"/>
                </a:lnTo>
                <a:lnTo>
                  <a:pt x="2058" y="44"/>
                </a:lnTo>
                <a:lnTo>
                  <a:pt x="2073" y="44"/>
                </a:lnTo>
                <a:lnTo>
                  <a:pt x="2080" y="44"/>
                </a:lnTo>
                <a:lnTo>
                  <a:pt x="2095" y="44"/>
                </a:lnTo>
                <a:lnTo>
                  <a:pt x="2102" y="44"/>
                </a:lnTo>
                <a:lnTo>
                  <a:pt x="2125" y="44"/>
                </a:lnTo>
                <a:lnTo>
                  <a:pt x="2139" y="44"/>
                </a:lnTo>
                <a:lnTo>
                  <a:pt x="2147" y="37"/>
                </a:lnTo>
                <a:lnTo>
                  <a:pt x="2162" y="37"/>
                </a:lnTo>
                <a:lnTo>
                  <a:pt x="2169" y="37"/>
                </a:lnTo>
                <a:lnTo>
                  <a:pt x="2184" y="37"/>
                </a:lnTo>
                <a:lnTo>
                  <a:pt x="2191" y="37"/>
                </a:lnTo>
                <a:lnTo>
                  <a:pt x="2206" y="37"/>
                </a:lnTo>
                <a:lnTo>
                  <a:pt x="2213" y="37"/>
                </a:lnTo>
                <a:lnTo>
                  <a:pt x="2221" y="37"/>
                </a:lnTo>
                <a:lnTo>
                  <a:pt x="2236" y="37"/>
                </a:lnTo>
                <a:lnTo>
                  <a:pt x="2243" y="37"/>
                </a:lnTo>
                <a:lnTo>
                  <a:pt x="2258" y="37"/>
                </a:lnTo>
                <a:lnTo>
                  <a:pt x="2265" y="37"/>
                </a:lnTo>
                <a:lnTo>
                  <a:pt x="2273" y="37"/>
                </a:lnTo>
                <a:lnTo>
                  <a:pt x="2287" y="37"/>
                </a:lnTo>
                <a:lnTo>
                  <a:pt x="2295" y="37"/>
                </a:lnTo>
                <a:lnTo>
                  <a:pt x="2302" y="44"/>
                </a:lnTo>
                <a:lnTo>
                  <a:pt x="2317" y="44"/>
                </a:lnTo>
                <a:lnTo>
                  <a:pt x="2324" y="44"/>
                </a:lnTo>
                <a:lnTo>
                  <a:pt x="2332" y="44"/>
                </a:lnTo>
                <a:lnTo>
                  <a:pt x="2347" y="37"/>
                </a:lnTo>
                <a:lnTo>
                  <a:pt x="2354" y="44"/>
                </a:lnTo>
                <a:lnTo>
                  <a:pt x="2361" y="37"/>
                </a:lnTo>
                <a:lnTo>
                  <a:pt x="2369" y="37"/>
                </a:lnTo>
                <a:lnTo>
                  <a:pt x="2376" y="37"/>
                </a:lnTo>
                <a:lnTo>
                  <a:pt x="2391" y="37"/>
                </a:lnTo>
                <a:lnTo>
                  <a:pt x="2398" y="37"/>
                </a:lnTo>
                <a:lnTo>
                  <a:pt x="2406" y="37"/>
                </a:lnTo>
                <a:lnTo>
                  <a:pt x="2413" y="37"/>
                </a:lnTo>
                <a:lnTo>
                  <a:pt x="2421" y="37"/>
                </a:lnTo>
                <a:lnTo>
                  <a:pt x="2435" y="37"/>
                </a:lnTo>
                <a:lnTo>
                  <a:pt x="2443" y="37"/>
                </a:lnTo>
                <a:lnTo>
                  <a:pt x="2450" y="37"/>
                </a:lnTo>
                <a:lnTo>
                  <a:pt x="2458" y="37"/>
                </a:lnTo>
                <a:lnTo>
                  <a:pt x="2465" y="37"/>
                </a:lnTo>
                <a:lnTo>
                  <a:pt x="2472" y="37"/>
                </a:lnTo>
                <a:lnTo>
                  <a:pt x="2480" y="37"/>
                </a:lnTo>
                <a:lnTo>
                  <a:pt x="2487" y="37"/>
                </a:lnTo>
                <a:lnTo>
                  <a:pt x="2495" y="37"/>
                </a:lnTo>
                <a:lnTo>
                  <a:pt x="2502" y="37"/>
                </a:lnTo>
                <a:lnTo>
                  <a:pt x="2509" y="37"/>
                </a:lnTo>
                <a:lnTo>
                  <a:pt x="2517" y="37"/>
                </a:lnTo>
                <a:lnTo>
                  <a:pt x="2524" y="37"/>
                </a:lnTo>
                <a:lnTo>
                  <a:pt x="2532" y="37"/>
                </a:lnTo>
                <a:lnTo>
                  <a:pt x="2539" y="30"/>
                </a:lnTo>
                <a:lnTo>
                  <a:pt x="2554" y="30"/>
                </a:lnTo>
                <a:lnTo>
                  <a:pt x="2561" y="30"/>
                </a:lnTo>
                <a:lnTo>
                  <a:pt x="2569" y="30"/>
                </a:lnTo>
                <a:lnTo>
                  <a:pt x="2576" y="30"/>
                </a:lnTo>
                <a:lnTo>
                  <a:pt x="2584" y="30"/>
                </a:lnTo>
                <a:lnTo>
                  <a:pt x="2591" y="30"/>
                </a:lnTo>
                <a:lnTo>
                  <a:pt x="2613" y="30"/>
                </a:lnTo>
                <a:lnTo>
                  <a:pt x="2621" y="30"/>
                </a:lnTo>
                <a:lnTo>
                  <a:pt x="2628" y="30"/>
                </a:lnTo>
                <a:lnTo>
                  <a:pt x="2635" y="30"/>
                </a:lnTo>
                <a:lnTo>
                  <a:pt x="2643" y="30"/>
                </a:lnTo>
                <a:lnTo>
                  <a:pt x="2650" y="30"/>
                </a:lnTo>
                <a:lnTo>
                  <a:pt x="2658" y="30"/>
                </a:lnTo>
                <a:lnTo>
                  <a:pt x="2665" y="30"/>
                </a:lnTo>
                <a:lnTo>
                  <a:pt x="2672" y="30"/>
                </a:lnTo>
                <a:lnTo>
                  <a:pt x="2680" y="30"/>
                </a:lnTo>
                <a:lnTo>
                  <a:pt x="2687" y="30"/>
                </a:lnTo>
                <a:lnTo>
                  <a:pt x="2695" y="30"/>
                </a:lnTo>
                <a:lnTo>
                  <a:pt x="2702" y="30"/>
                </a:lnTo>
                <a:lnTo>
                  <a:pt x="2709" y="22"/>
                </a:lnTo>
                <a:lnTo>
                  <a:pt x="2717" y="22"/>
                </a:lnTo>
                <a:lnTo>
                  <a:pt x="2724" y="22"/>
                </a:lnTo>
                <a:lnTo>
                  <a:pt x="2732" y="22"/>
                </a:lnTo>
                <a:lnTo>
                  <a:pt x="2739" y="22"/>
                </a:lnTo>
                <a:lnTo>
                  <a:pt x="2746" y="22"/>
                </a:lnTo>
                <a:lnTo>
                  <a:pt x="2754" y="22"/>
                </a:lnTo>
                <a:lnTo>
                  <a:pt x="2761" y="22"/>
                </a:lnTo>
                <a:lnTo>
                  <a:pt x="2769" y="22"/>
                </a:lnTo>
                <a:lnTo>
                  <a:pt x="2776" y="22"/>
                </a:lnTo>
                <a:lnTo>
                  <a:pt x="2783" y="22"/>
                </a:lnTo>
                <a:lnTo>
                  <a:pt x="2791" y="22"/>
                </a:lnTo>
                <a:lnTo>
                  <a:pt x="2798" y="22"/>
                </a:lnTo>
                <a:lnTo>
                  <a:pt x="2806" y="15"/>
                </a:lnTo>
                <a:lnTo>
                  <a:pt x="2813" y="15"/>
                </a:lnTo>
                <a:lnTo>
                  <a:pt x="2820" y="15"/>
                </a:lnTo>
                <a:lnTo>
                  <a:pt x="2828" y="15"/>
                </a:lnTo>
                <a:lnTo>
                  <a:pt x="2835" y="15"/>
                </a:lnTo>
                <a:lnTo>
                  <a:pt x="2843" y="15"/>
                </a:lnTo>
                <a:lnTo>
                  <a:pt x="2850" y="15"/>
                </a:lnTo>
                <a:lnTo>
                  <a:pt x="2857" y="15"/>
                </a:lnTo>
                <a:lnTo>
                  <a:pt x="2865" y="15"/>
                </a:lnTo>
                <a:lnTo>
                  <a:pt x="2865" y="8"/>
                </a:lnTo>
                <a:lnTo>
                  <a:pt x="2872" y="8"/>
                </a:lnTo>
                <a:lnTo>
                  <a:pt x="2880" y="8"/>
                </a:lnTo>
                <a:lnTo>
                  <a:pt x="2887" y="8"/>
                </a:lnTo>
                <a:lnTo>
                  <a:pt x="2894" y="8"/>
                </a:lnTo>
                <a:lnTo>
                  <a:pt x="2902" y="8"/>
                </a:lnTo>
                <a:lnTo>
                  <a:pt x="2909" y="8"/>
                </a:lnTo>
                <a:lnTo>
                  <a:pt x="2917" y="8"/>
                </a:lnTo>
                <a:lnTo>
                  <a:pt x="2932" y="8"/>
                </a:lnTo>
                <a:lnTo>
                  <a:pt x="2939" y="8"/>
                </a:lnTo>
                <a:lnTo>
                  <a:pt x="2946" y="0"/>
                </a:lnTo>
                <a:lnTo>
                  <a:pt x="2954" y="0"/>
                </a:lnTo>
                <a:lnTo>
                  <a:pt x="2961" y="0"/>
                </a:lnTo>
                <a:lnTo>
                  <a:pt x="2969" y="0"/>
                </a:lnTo>
                <a:lnTo>
                  <a:pt x="2976" y="0"/>
                </a:lnTo>
                <a:lnTo>
                  <a:pt x="2983" y="0"/>
                </a:lnTo>
                <a:lnTo>
                  <a:pt x="2991" y="0"/>
                </a:lnTo>
                <a:lnTo>
                  <a:pt x="2998" y="0"/>
                </a:lnTo>
                <a:lnTo>
                  <a:pt x="3006" y="0"/>
                </a:lnTo>
                <a:lnTo>
                  <a:pt x="3013" y="0"/>
                </a:lnTo>
                <a:lnTo>
                  <a:pt x="3020" y="0"/>
                </a:lnTo>
                <a:lnTo>
                  <a:pt x="3028" y="0"/>
                </a:lnTo>
                <a:lnTo>
                  <a:pt x="3035" y="0"/>
                </a:lnTo>
                <a:lnTo>
                  <a:pt x="3043" y="0"/>
                </a:lnTo>
                <a:lnTo>
                  <a:pt x="3050" y="8"/>
                </a:lnTo>
                <a:lnTo>
                  <a:pt x="3057" y="8"/>
                </a:lnTo>
                <a:lnTo>
                  <a:pt x="3065" y="8"/>
                </a:lnTo>
                <a:lnTo>
                  <a:pt x="3072" y="8"/>
                </a:lnTo>
                <a:lnTo>
                  <a:pt x="3080" y="8"/>
                </a:lnTo>
                <a:lnTo>
                  <a:pt x="3087" y="8"/>
                </a:lnTo>
                <a:lnTo>
                  <a:pt x="3094" y="8"/>
                </a:lnTo>
                <a:lnTo>
                  <a:pt x="3102" y="8"/>
                </a:lnTo>
                <a:lnTo>
                  <a:pt x="3109" y="8"/>
                </a:lnTo>
                <a:lnTo>
                  <a:pt x="3117" y="15"/>
                </a:lnTo>
                <a:lnTo>
                  <a:pt x="3124" y="15"/>
                </a:lnTo>
                <a:lnTo>
                  <a:pt x="3131" y="15"/>
                </a:lnTo>
                <a:lnTo>
                  <a:pt x="3139" y="15"/>
                </a:lnTo>
                <a:lnTo>
                  <a:pt x="3146" y="15"/>
                </a:lnTo>
                <a:lnTo>
                  <a:pt x="3154" y="15"/>
                </a:lnTo>
                <a:lnTo>
                  <a:pt x="3161" y="15"/>
                </a:lnTo>
                <a:lnTo>
                  <a:pt x="3161" y="22"/>
                </a:lnTo>
                <a:lnTo>
                  <a:pt x="3168" y="22"/>
                </a:lnTo>
                <a:lnTo>
                  <a:pt x="3176" y="22"/>
                </a:lnTo>
                <a:lnTo>
                  <a:pt x="3183" y="22"/>
                </a:lnTo>
                <a:lnTo>
                  <a:pt x="3191" y="22"/>
                </a:lnTo>
                <a:lnTo>
                  <a:pt x="3198" y="22"/>
                </a:lnTo>
                <a:lnTo>
                  <a:pt x="3205" y="22"/>
                </a:lnTo>
                <a:lnTo>
                  <a:pt x="3205" y="30"/>
                </a:lnTo>
                <a:lnTo>
                  <a:pt x="3213" y="30"/>
                </a:lnTo>
                <a:lnTo>
                  <a:pt x="3213" y="30"/>
                </a:lnTo>
              </a:path>
            </a:pathLst>
          </a:custGeom>
          <a:noFill/>
          <a:ln w="190440">
            <a:solidFill>
              <a:srgbClr val="ffff00">
                <a:alpha val="50000"/>
              </a:srgbClr>
            </a:solidFill>
            <a:miter/>
          </a:ln>
        </p:spPr>
        <p:style>
          <a:lnRef idx="0"/>
          <a:fillRef idx="0"/>
          <a:effectRef idx="0"/>
          <a:fontRef idx="minor"/>
        </p:style>
        <p:txBody>
          <a:bodyPr wrap="none" tIns="25920" bIns="25920" anchor="ctr">
            <a:noAutofit/>
          </a:bodyPr>
          <a:p>
            <a:endParaRPr b="0" lang="en-US" sz="2400" spc="-1" strike="noStrike">
              <a:solidFill>
                <a:srgbClr val="5b5249"/>
              </a:solidFill>
              <a:latin typeface="Times New Roman"/>
            </a:endParaRPr>
          </a:p>
        </p:txBody>
      </p:sp>
      <p:sp>
        <p:nvSpPr>
          <p:cNvPr id="110" name=""/>
          <p:cNvSpPr/>
          <p:nvPr/>
        </p:nvSpPr>
        <p:spPr>
          <a:xfrm>
            <a:off x="8532720" y="2136600"/>
            <a:ext cx="647640" cy="36720"/>
          </a:xfrm>
          <a:custGeom>
            <a:avLst/>
            <a:gdLst/>
            <a:ahLst/>
            <a:rect l="l" t="t" r="r" b="b"/>
            <a:pathLst>
              <a:path w="408" h="23">
                <a:moveTo>
                  <a:pt x="0" y="8"/>
                </a:moveTo>
                <a:lnTo>
                  <a:pt x="0" y="8"/>
                </a:lnTo>
                <a:lnTo>
                  <a:pt x="7" y="8"/>
                </a:lnTo>
                <a:lnTo>
                  <a:pt x="15" y="8"/>
                </a:lnTo>
                <a:lnTo>
                  <a:pt x="15" y="0"/>
                </a:lnTo>
                <a:lnTo>
                  <a:pt x="22" y="0"/>
                </a:lnTo>
                <a:lnTo>
                  <a:pt x="30" y="0"/>
                </a:lnTo>
                <a:lnTo>
                  <a:pt x="37" y="0"/>
                </a:lnTo>
                <a:lnTo>
                  <a:pt x="44" y="0"/>
                </a:lnTo>
                <a:lnTo>
                  <a:pt x="52" y="0"/>
                </a:lnTo>
                <a:lnTo>
                  <a:pt x="59" y="0"/>
                </a:lnTo>
                <a:lnTo>
                  <a:pt x="67" y="8"/>
                </a:lnTo>
                <a:lnTo>
                  <a:pt x="74" y="8"/>
                </a:lnTo>
                <a:lnTo>
                  <a:pt x="81" y="8"/>
                </a:lnTo>
                <a:lnTo>
                  <a:pt x="89" y="8"/>
                </a:lnTo>
                <a:lnTo>
                  <a:pt x="96" y="8"/>
                </a:lnTo>
                <a:lnTo>
                  <a:pt x="104" y="8"/>
                </a:lnTo>
                <a:lnTo>
                  <a:pt x="111" y="8"/>
                </a:lnTo>
                <a:lnTo>
                  <a:pt x="118" y="8"/>
                </a:lnTo>
                <a:lnTo>
                  <a:pt x="126" y="8"/>
                </a:lnTo>
                <a:lnTo>
                  <a:pt x="133" y="8"/>
                </a:lnTo>
                <a:lnTo>
                  <a:pt x="141" y="8"/>
                </a:lnTo>
                <a:lnTo>
                  <a:pt x="155" y="8"/>
                </a:lnTo>
                <a:lnTo>
                  <a:pt x="163" y="8"/>
                </a:lnTo>
                <a:lnTo>
                  <a:pt x="170" y="8"/>
                </a:lnTo>
                <a:lnTo>
                  <a:pt x="178" y="15"/>
                </a:lnTo>
                <a:lnTo>
                  <a:pt x="185" y="15"/>
                </a:lnTo>
                <a:lnTo>
                  <a:pt x="193" y="15"/>
                </a:lnTo>
                <a:lnTo>
                  <a:pt x="200" y="15"/>
                </a:lnTo>
                <a:lnTo>
                  <a:pt x="207" y="15"/>
                </a:lnTo>
                <a:lnTo>
                  <a:pt x="222" y="15"/>
                </a:lnTo>
                <a:lnTo>
                  <a:pt x="230" y="15"/>
                </a:lnTo>
                <a:lnTo>
                  <a:pt x="237" y="22"/>
                </a:lnTo>
                <a:lnTo>
                  <a:pt x="244" y="22"/>
                </a:lnTo>
                <a:lnTo>
                  <a:pt x="259" y="22"/>
                </a:lnTo>
                <a:lnTo>
                  <a:pt x="267" y="22"/>
                </a:lnTo>
                <a:lnTo>
                  <a:pt x="274" y="22"/>
                </a:lnTo>
                <a:lnTo>
                  <a:pt x="289" y="22"/>
                </a:lnTo>
                <a:lnTo>
                  <a:pt x="296" y="22"/>
                </a:lnTo>
                <a:lnTo>
                  <a:pt x="304" y="22"/>
                </a:lnTo>
                <a:lnTo>
                  <a:pt x="318" y="22"/>
                </a:lnTo>
                <a:lnTo>
                  <a:pt x="326" y="22"/>
                </a:lnTo>
                <a:lnTo>
                  <a:pt x="333" y="22"/>
                </a:lnTo>
                <a:lnTo>
                  <a:pt x="341" y="22"/>
                </a:lnTo>
                <a:lnTo>
                  <a:pt x="355" y="22"/>
                </a:lnTo>
                <a:lnTo>
                  <a:pt x="363" y="22"/>
                </a:lnTo>
                <a:lnTo>
                  <a:pt x="370" y="22"/>
                </a:lnTo>
                <a:lnTo>
                  <a:pt x="378" y="22"/>
                </a:lnTo>
                <a:lnTo>
                  <a:pt x="385" y="22"/>
                </a:lnTo>
                <a:lnTo>
                  <a:pt x="392" y="22"/>
                </a:lnTo>
                <a:lnTo>
                  <a:pt x="400" y="22"/>
                </a:lnTo>
                <a:lnTo>
                  <a:pt x="400" y="15"/>
                </a:lnTo>
                <a:lnTo>
                  <a:pt x="407" y="15"/>
                </a:lnTo>
                <a:lnTo>
                  <a:pt x="407" y="15"/>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
        <p:nvSpPr>
          <p:cNvPr id="111" name=""/>
          <p:cNvSpPr/>
          <p:nvPr/>
        </p:nvSpPr>
        <p:spPr>
          <a:xfrm>
            <a:off x="446040" y="2430360"/>
            <a:ext cx="2611440" cy="36720"/>
          </a:xfrm>
          <a:custGeom>
            <a:avLst/>
            <a:gdLst/>
            <a:ahLst/>
            <a:rect l="l" t="t" r="r" b="b"/>
            <a:pathLst>
              <a:path w="1645" h="23">
                <a:moveTo>
                  <a:pt x="0" y="15"/>
                </a:moveTo>
                <a:lnTo>
                  <a:pt x="8" y="15"/>
                </a:lnTo>
                <a:lnTo>
                  <a:pt x="15" y="15"/>
                </a:lnTo>
                <a:lnTo>
                  <a:pt x="23" y="15"/>
                </a:lnTo>
                <a:lnTo>
                  <a:pt x="30" y="8"/>
                </a:lnTo>
                <a:lnTo>
                  <a:pt x="37" y="8"/>
                </a:lnTo>
                <a:lnTo>
                  <a:pt x="45" y="8"/>
                </a:lnTo>
                <a:lnTo>
                  <a:pt x="52" y="8"/>
                </a:lnTo>
                <a:lnTo>
                  <a:pt x="67" y="8"/>
                </a:lnTo>
                <a:lnTo>
                  <a:pt x="74" y="8"/>
                </a:lnTo>
                <a:lnTo>
                  <a:pt x="82" y="8"/>
                </a:lnTo>
                <a:lnTo>
                  <a:pt x="97" y="8"/>
                </a:lnTo>
                <a:lnTo>
                  <a:pt x="104" y="8"/>
                </a:lnTo>
                <a:lnTo>
                  <a:pt x="119" y="8"/>
                </a:lnTo>
                <a:lnTo>
                  <a:pt x="126" y="8"/>
                </a:lnTo>
                <a:lnTo>
                  <a:pt x="141" y="8"/>
                </a:lnTo>
                <a:lnTo>
                  <a:pt x="156" y="15"/>
                </a:lnTo>
                <a:lnTo>
                  <a:pt x="171" y="15"/>
                </a:lnTo>
                <a:lnTo>
                  <a:pt x="178" y="15"/>
                </a:lnTo>
                <a:lnTo>
                  <a:pt x="193" y="15"/>
                </a:lnTo>
                <a:lnTo>
                  <a:pt x="208" y="15"/>
                </a:lnTo>
                <a:lnTo>
                  <a:pt x="215" y="22"/>
                </a:lnTo>
                <a:lnTo>
                  <a:pt x="230" y="22"/>
                </a:lnTo>
                <a:lnTo>
                  <a:pt x="245" y="22"/>
                </a:lnTo>
                <a:lnTo>
                  <a:pt x="259" y="22"/>
                </a:lnTo>
                <a:lnTo>
                  <a:pt x="274" y="22"/>
                </a:lnTo>
                <a:lnTo>
                  <a:pt x="289" y="22"/>
                </a:lnTo>
                <a:lnTo>
                  <a:pt x="304" y="15"/>
                </a:lnTo>
                <a:lnTo>
                  <a:pt x="319" y="15"/>
                </a:lnTo>
                <a:lnTo>
                  <a:pt x="333" y="15"/>
                </a:lnTo>
                <a:lnTo>
                  <a:pt x="348" y="22"/>
                </a:lnTo>
                <a:lnTo>
                  <a:pt x="363" y="22"/>
                </a:lnTo>
                <a:lnTo>
                  <a:pt x="378" y="22"/>
                </a:lnTo>
                <a:lnTo>
                  <a:pt x="393" y="15"/>
                </a:lnTo>
                <a:lnTo>
                  <a:pt x="408" y="15"/>
                </a:lnTo>
                <a:lnTo>
                  <a:pt x="422" y="15"/>
                </a:lnTo>
                <a:lnTo>
                  <a:pt x="437" y="15"/>
                </a:lnTo>
                <a:lnTo>
                  <a:pt x="452" y="15"/>
                </a:lnTo>
                <a:lnTo>
                  <a:pt x="467" y="15"/>
                </a:lnTo>
                <a:lnTo>
                  <a:pt x="474" y="15"/>
                </a:lnTo>
                <a:lnTo>
                  <a:pt x="489" y="15"/>
                </a:lnTo>
                <a:lnTo>
                  <a:pt x="504" y="15"/>
                </a:lnTo>
                <a:lnTo>
                  <a:pt x="519" y="15"/>
                </a:lnTo>
                <a:lnTo>
                  <a:pt x="541" y="15"/>
                </a:lnTo>
                <a:lnTo>
                  <a:pt x="556" y="15"/>
                </a:lnTo>
                <a:lnTo>
                  <a:pt x="570" y="15"/>
                </a:lnTo>
                <a:lnTo>
                  <a:pt x="585" y="15"/>
                </a:lnTo>
                <a:lnTo>
                  <a:pt x="593" y="15"/>
                </a:lnTo>
                <a:lnTo>
                  <a:pt x="607" y="15"/>
                </a:lnTo>
                <a:lnTo>
                  <a:pt x="622" y="15"/>
                </a:lnTo>
                <a:lnTo>
                  <a:pt x="630" y="15"/>
                </a:lnTo>
                <a:lnTo>
                  <a:pt x="644" y="15"/>
                </a:lnTo>
                <a:lnTo>
                  <a:pt x="659" y="22"/>
                </a:lnTo>
                <a:lnTo>
                  <a:pt x="674" y="22"/>
                </a:lnTo>
                <a:lnTo>
                  <a:pt x="681" y="22"/>
                </a:lnTo>
                <a:lnTo>
                  <a:pt x="696" y="22"/>
                </a:lnTo>
                <a:lnTo>
                  <a:pt x="711" y="22"/>
                </a:lnTo>
                <a:lnTo>
                  <a:pt x="718" y="22"/>
                </a:lnTo>
                <a:lnTo>
                  <a:pt x="733" y="22"/>
                </a:lnTo>
                <a:lnTo>
                  <a:pt x="748" y="22"/>
                </a:lnTo>
                <a:lnTo>
                  <a:pt x="756" y="22"/>
                </a:lnTo>
                <a:lnTo>
                  <a:pt x="770" y="22"/>
                </a:lnTo>
                <a:lnTo>
                  <a:pt x="785" y="22"/>
                </a:lnTo>
                <a:lnTo>
                  <a:pt x="793" y="22"/>
                </a:lnTo>
                <a:lnTo>
                  <a:pt x="807" y="22"/>
                </a:lnTo>
                <a:lnTo>
                  <a:pt x="815" y="22"/>
                </a:lnTo>
                <a:lnTo>
                  <a:pt x="822" y="22"/>
                </a:lnTo>
                <a:lnTo>
                  <a:pt x="830" y="22"/>
                </a:lnTo>
                <a:lnTo>
                  <a:pt x="837" y="22"/>
                </a:lnTo>
                <a:lnTo>
                  <a:pt x="852" y="22"/>
                </a:lnTo>
                <a:lnTo>
                  <a:pt x="859" y="22"/>
                </a:lnTo>
                <a:lnTo>
                  <a:pt x="867" y="15"/>
                </a:lnTo>
                <a:lnTo>
                  <a:pt x="874" y="15"/>
                </a:lnTo>
                <a:lnTo>
                  <a:pt x="881" y="15"/>
                </a:lnTo>
                <a:lnTo>
                  <a:pt x="889" y="15"/>
                </a:lnTo>
                <a:lnTo>
                  <a:pt x="904" y="15"/>
                </a:lnTo>
                <a:lnTo>
                  <a:pt x="911" y="15"/>
                </a:lnTo>
                <a:lnTo>
                  <a:pt x="918" y="15"/>
                </a:lnTo>
                <a:lnTo>
                  <a:pt x="926" y="15"/>
                </a:lnTo>
                <a:lnTo>
                  <a:pt x="933" y="15"/>
                </a:lnTo>
                <a:lnTo>
                  <a:pt x="941" y="15"/>
                </a:lnTo>
                <a:lnTo>
                  <a:pt x="948" y="8"/>
                </a:lnTo>
                <a:lnTo>
                  <a:pt x="955" y="8"/>
                </a:lnTo>
                <a:lnTo>
                  <a:pt x="963" y="8"/>
                </a:lnTo>
                <a:lnTo>
                  <a:pt x="970" y="8"/>
                </a:lnTo>
                <a:lnTo>
                  <a:pt x="978" y="8"/>
                </a:lnTo>
                <a:lnTo>
                  <a:pt x="985" y="8"/>
                </a:lnTo>
                <a:lnTo>
                  <a:pt x="992" y="8"/>
                </a:lnTo>
                <a:lnTo>
                  <a:pt x="1000" y="8"/>
                </a:lnTo>
                <a:lnTo>
                  <a:pt x="1015" y="8"/>
                </a:lnTo>
                <a:lnTo>
                  <a:pt x="1022" y="8"/>
                </a:lnTo>
                <a:lnTo>
                  <a:pt x="1029" y="8"/>
                </a:lnTo>
                <a:lnTo>
                  <a:pt x="1044" y="8"/>
                </a:lnTo>
                <a:lnTo>
                  <a:pt x="1052" y="8"/>
                </a:lnTo>
                <a:lnTo>
                  <a:pt x="1059" y="8"/>
                </a:lnTo>
                <a:lnTo>
                  <a:pt x="1074" y="8"/>
                </a:lnTo>
                <a:lnTo>
                  <a:pt x="1081" y="8"/>
                </a:lnTo>
                <a:lnTo>
                  <a:pt x="1096" y="8"/>
                </a:lnTo>
                <a:lnTo>
                  <a:pt x="1103" y="8"/>
                </a:lnTo>
                <a:lnTo>
                  <a:pt x="1118" y="8"/>
                </a:lnTo>
                <a:lnTo>
                  <a:pt x="1133" y="8"/>
                </a:lnTo>
                <a:lnTo>
                  <a:pt x="1163" y="8"/>
                </a:lnTo>
                <a:lnTo>
                  <a:pt x="1178" y="8"/>
                </a:lnTo>
                <a:lnTo>
                  <a:pt x="1185" y="8"/>
                </a:lnTo>
                <a:lnTo>
                  <a:pt x="1200" y="8"/>
                </a:lnTo>
                <a:lnTo>
                  <a:pt x="1215" y="8"/>
                </a:lnTo>
                <a:lnTo>
                  <a:pt x="1229" y="8"/>
                </a:lnTo>
                <a:lnTo>
                  <a:pt x="1244" y="8"/>
                </a:lnTo>
                <a:lnTo>
                  <a:pt x="1259" y="8"/>
                </a:lnTo>
                <a:lnTo>
                  <a:pt x="1274" y="8"/>
                </a:lnTo>
                <a:lnTo>
                  <a:pt x="1289" y="8"/>
                </a:lnTo>
                <a:lnTo>
                  <a:pt x="1303" y="8"/>
                </a:lnTo>
                <a:lnTo>
                  <a:pt x="1326" y="8"/>
                </a:lnTo>
                <a:lnTo>
                  <a:pt x="1333" y="8"/>
                </a:lnTo>
                <a:lnTo>
                  <a:pt x="1355" y="8"/>
                </a:lnTo>
                <a:lnTo>
                  <a:pt x="1370" y="8"/>
                </a:lnTo>
                <a:lnTo>
                  <a:pt x="1385" y="8"/>
                </a:lnTo>
                <a:lnTo>
                  <a:pt x="1400" y="8"/>
                </a:lnTo>
                <a:lnTo>
                  <a:pt x="1422" y="8"/>
                </a:lnTo>
                <a:lnTo>
                  <a:pt x="1437" y="8"/>
                </a:lnTo>
                <a:lnTo>
                  <a:pt x="1451" y="8"/>
                </a:lnTo>
                <a:lnTo>
                  <a:pt x="1466" y="8"/>
                </a:lnTo>
                <a:lnTo>
                  <a:pt x="1481" y="8"/>
                </a:lnTo>
                <a:lnTo>
                  <a:pt x="1488" y="8"/>
                </a:lnTo>
                <a:lnTo>
                  <a:pt x="1503" y="0"/>
                </a:lnTo>
                <a:lnTo>
                  <a:pt x="1518" y="0"/>
                </a:lnTo>
                <a:lnTo>
                  <a:pt x="1533" y="0"/>
                </a:lnTo>
                <a:lnTo>
                  <a:pt x="1548" y="0"/>
                </a:lnTo>
                <a:lnTo>
                  <a:pt x="1562" y="0"/>
                </a:lnTo>
                <a:lnTo>
                  <a:pt x="1570" y="0"/>
                </a:lnTo>
                <a:lnTo>
                  <a:pt x="1577" y="0"/>
                </a:lnTo>
                <a:lnTo>
                  <a:pt x="1592" y="0"/>
                </a:lnTo>
                <a:lnTo>
                  <a:pt x="1600" y="0"/>
                </a:lnTo>
                <a:lnTo>
                  <a:pt x="1607" y="0"/>
                </a:lnTo>
                <a:lnTo>
                  <a:pt x="1614" y="0"/>
                </a:lnTo>
                <a:lnTo>
                  <a:pt x="1622" y="0"/>
                </a:lnTo>
                <a:lnTo>
                  <a:pt x="1629" y="0"/>
                </a:lnTo>
                <a:lnTo>
                  <a:pt x="1637" y="0"/>
                </a:lnTo>
                <a:lnTo>
                  <a:pt x="1644" y="0"/>
                </a:lnTo>
                <a:lnTo>
                  <a:pt x="1644" y="0"/>
                </a:lnTo>
              </a:path>
            </a:pathLst>
          </a:custGeom>
          <a:noFill/>
          <a:ln w="190440">
            <a:solidFill>
              <a:srgbClr val="ff0000">
                <a:alpha val="50000"/>
              </a:srgbClr>
            </a:solidFill>
            <a:miter/>
          </a:ln>
        </p:spPr>
        <p:style>
          <a:lnRef idx="0"/>
          <a:fillRef idx="0"/>
          <a:effectRef idx="0"/>
          <a:fontRef idx="minor"/>
        </p:style>
        <p:txBody>
          <a:bodyPr wrap="none" tIns="-9000" bIns="-90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04"/>
                                        </p:tgtEl>
                                        <p:attrNameLst>
                                          <p:attrName>style.visibility</p:attrName>
                                        </p:attrNameLst>
                                      </p:cBhvr>
                                      <p:to>
                                        <p:strVal val="visible"/>
                                      </p:to>
                                    </p:set>
                                    <p:anim calcmode="lin" valueType="num">
                                      <p:cBhvr additive="base">
                                        <p:cTn id="247" dur="500" fill="hold"/>
                                        <p:tgtEl>
                                          <p:spTgt spid="104"/>
                                        </p:tgtEl>
                                        <p:attrNameLst>
                                          <p:attrName>ppt_x</p:attrName>
                                        </p:attrNameLst>
                                      </p:cBhvr>
                                      <p:tavLst>
                                        <p:tav tm="0">
                                          <p:val>
                                            <p:strVal val="0-#ppt_w/2"/>
                                          </p:val>
                                        </p:tav>
                                        <p:tav tm="100000">
                                          <p:val>
                                            <p:strVal val="#ppt_x"/>
                                          </p:val>
                                        </p:tav>
                                      </p:tavLst>
                                    </p:anim>
                                    <p:anim calcmode="lin" valueType="num">
                                      <p:cBhvr additive="base">
                                        <p:cTn id="24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 calcmode="lin" valueType="num">
                                      <p:cBhvr additive="base">
                                        <p:cTn id="253"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05">
                                            <p:txEl>
                                              <p:pRg st="2" end="2"/>
                                            </p:txEl>
                                          </p:spTgt>
                                        </p:tgtEl>
                                        <p:attrNameLst>
                                          <p:attrName>style.visibility</p:attrName>
                                        </p:attrNameLst>
                                      </p:cBhvr>
                                      <p:to>
                                        <p:strVal val="visible"/>
                                      </p:to>
                                    </p:set>
                                    <p:anim calcmode="lin" valueType="num">
                                      <p:cBhvr additive="base">
                                        <p:cTn id="25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05">
                                            <p:txEl>
                                              <p:pRg st="4" end="4"/>
                                            </p:txEl>
                                          </p:spTgt>
                                        </p:tgtEl>
                                        <p:attrNameLst>
                                          <p:attrName>style.visibility</p:attrName>
                                        </p:attrNameLst>
                                      </p:cBhvr>
                                      <p:to>
                                        <p:strVal val="visible"/>
                                      </p:to>
                                    </p:set>
                                    <p:anim calcmode="lin" valueType="num">
                                      <p:cBhvr additive="base">
                                        <p:cTn id="2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5">
                                            <p:txEl>
                                              <p:pRg st="6" end="6"/>
                                            </p:txEl>
                                          </p:spTgt>
                                        </p:tgtEl>
                                        <p:attrNameLst>
                                          <p:attrName>style.visibility</p:attrName>
                                        </p:attrNameLst>
                                      </p:cBhvr>
                                      <p:to>
                                        <p:strVal val="visible"/>
                                      </p:to>
                                    </p:set>
                                    <p:anim calcmode="lin" valueType="num">
                                      <p:cBhvr additive="base">
                                        <p:cTn id="271"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05">
                                            <p:txEl>
                                              <p:pRg st="6" end="6"/>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105">
                                            <p:txEl>
                                              <p:pRg st="7" end="7"/>
                                            </p:txEl>
                                          </p:spTgt>
                                        </p:tgtEl>
                                        <p:attrNameLst>
                                          <p:attrName>style.visibility</p:attrName>
                                        </p:attrNameLst>
                                      </p:cBhvr>
                                      <p:to>
                                        <p:strVal val="visible"/>
                                      </p:to>
                                    </p:set>
                                    <p:anim calcmode="lin" valueType="num">
                                      <p:cBhvr additive="base">
                                        <p:cTn id="275"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5">
                                            <p:txEl>
                                              <p:pRg st="7" end="7"/>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105">
                                            <p:txEl>
                                              <p:pRg st="8" end="8"/>
                                            </p:txEl>
                                          </p:spTgt>
                                        </p:tgtEl>
                                        <p:attrNameLst>
                                          <p:attrName>style.visibility</p:attrName>
                                        </p:attrNameLst>
                                      </p:cBhvr>
                                      <p:to>
                                        <p:strVal val="visible"/>
                                      </p:to>
                                    </p:set>
                                    <p:anim calcmode="lin" valueType="num">
                                      <p:cBhvr additive="base">
                                        <p:cTn id="27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05">
                                            <p:txEl>
                                              <p:pRg st="8" end="8"/>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05">
                                            <p:txEl>
                                              <p:pRg st="9" end="9"/>
                                            </p:txEl>
                                          </p:spTgt>
                                        </p:tgtEl>
                                        <p:attrNameLst>
                                          <p:attrName>style.visibility</p:attrName>
                                        </p:attrNameLst>
                                      </p:cBhvr>
                                      <p:to>
                                        <p:strVal val="visible"/>
                                      </p:to>
                                    </p:set>
                                    <p:anim calcmode="lin" valueType="num">
                                      <p:cBhvr additive="base">
                                        <p:cTn id="283"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06"/>
                                        </p:tgtEl>
                                        <p:attrNameLst>
                                          <p:attrName>style.visibility</p:attrName>
                                        </p:attrNameLst>
                                      </p:cBhvr>
                                      <p:to>
                                        <p:strVal val="visible"/>
                                      </p:to>
                                    </p:set>
                                    <p:anim calcmode="lin" valueType="num">
                                      <p:cBhvr additive="base">
                                        <p:cTn id="288" dur="500" fill="hold"/>
                                        <p:tgtEl>
                                          <p:spTgt spid="106"/>
                                        </p:tgtEl>
                                        <p:attrNameLst>
                                          <p:attrName>ppt_x</p:attrName>
                                        </p:attrNameLst>
                                      </p:cBhvr>
                                      <p:tavLst>
                                        <p:tav tm="0">
                                          <p:val>
                                            <p:strVal val="0-#ppt_w/2"/>
                                          </p:val>
                                        </p:tav>
                                        <p:tav tm="100000">
                                          <p:val>
                                            <p:strVal val="#ppt_x"/>
                                          </p:val>
                                        </p:tav>
                                      </p:tavLst>
                                    </p:anim>
                                    <p:anim calcmode="lin" valueType="num">
                                      <p:cBhvr additive="base">
                                        <p:cTn id="28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ontext ques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685440"/>
            <a:ext cx="8305560" cy="5530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News of the enemy’s surrender swept across Europe like a fever. Finally after years of bitter struggle the armistice was declared. Although the violence did not end at once, for many there was an ending to the suffering of the Great War.For thousands of soldiers, who had only ever dreamed that a truce might be possible,  this signalled that a return to loved ones and some kind of normal life might actually become a reality.</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Explain what the word, ‘armistice’ means and how the context of this word helps you understand this.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How do we answer? </a:t>
            </a:r>
            <a:endParaRPr b="0" lang="en-US" sz="4400" spc="-1" strike="noStrike">
              <a:solidFill>
                <a:srgbClr val="2a3d7a"/>
              </a:solidFill>
              <a:latin typeface="Times New Roman"/>
            </a:endParaRPr>
          </a:p>
        </p:txBody>
      </p:sp>
      <p:sp>
        <p:nvSpPr>
          <p:cNvPr id="115"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Identify any words or phrases you think are linked to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learly state the meaning of the key word</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Explain in what way words and phrases from the context relate to the meaning of the key word- use bullet points to structure your answer.</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News of the </a:t>
            </a:r>
            <a:r>
              <a:rPr b="0" lang="en-GB" sz="2000" spc="-1" strike="noStrike">
                <a:solidFill>
                  <a:srgbClr val="fd1df8"/>
                </a:solidFill>
                <a:latin typeface="Times New Roman"/>
              </a:rPr>
              <a:t>enemy’s surrender</a:t>
            </a:r>
            <a:r>
              <a:rPr b="0" lang="en-GB" sz="2000" spc="-1" strike="noStrike">
                <a:solidFill>
                  <a:srgbClr val="5b5249"/>
                </a:solidFill>
                <a:latin typeface="Times New Roman"/>
              </a:rPr>
              <a:t> swept across Europe like a fever. Finally after years of bitter struggle the </a:t>
            </a:r>
            <a:r>
              <a:rPr b="0" lang="en-GB" sz="2000" spc="-1" strike="noStrike" u="sng">
                <a:solidFill>
                  <a:srgbClr val="5b5249"/>
                </a:solidFill>
                <a:uFillTx/>
                <a:latin typeface="Times New Roman"/>
              </a:rPr>
              <a:t>armistice </a:t>
            </a:r>
            <a:r>
              <a:rPr b="0" lang="en-GB" sz="2000" spc="-1" strike="noStrike">
                <a:solidFill>
                  <a:srgbClr val="5b5249"/>
                </a:solidFill>
                <a:latin typeface="Times New Roman"/>
              </a:rPr>
              <a:t>was declared. </a:t>
            </a:r>
            <a:r>
              <a:rPr b="0" lang="en-GB" sz="2000" spc="-1" strike="noStrike">
                <a:solidFill>
                  <a:srgbClr val="fd1df8"/>
                </a:solidFill>
                <a:latin typeface="Times New Roman"/>
              </a:rPr>
              <a:t>Although the violence did not end at once, for many there was an ending to the suffering</a:t>
            </a:r>
            <a:r>
              <a:rPr b="0" lang="en-GB" sz="2000" spc="-1" strike="noStrike">
                <a:solidFill>
                  <a:srgbClr val="5b5249"/>
                </a:solidFill>
                <a:latin typeface="Times New Roman"/>
              </a:rPr>
              <a:t> of the Great War.For thousands of soldiers, who had only ever dreamed that </a:t>
            </a:r>
            <a:r>
              <a:rPr b="0" lang="en-GB" sz="2000" spc="-1" strike="noStrike">
                <a:solidFill>
                  <a:srgbClr val="fd1df8"/>
                </a:solidFill>
                <a:latin typeface="Times New Roman"/>
              </a:rPr>
              <a:t>a truce</a:t>
            </a:r>
            <a:r>
              <a:rPr b="0" lang="en-GB" sz="2000" spc="-1" strike="noStrike">
                <a:solidFill>
                  <a:srgbClr val="5b5249"/>
                </a:solidFill>
                <a:latin typeface="Times New Roman"/>
              </a:rPr>
              <a:t> might be possible,  this signalled that </a:t>
            </a:r>
            <a:r>
              <a:rPr b="0" lang="en-GB" sz="2000" spc="-1" strike="noStrike">
                <a:solidFill>
                  <a:srgbClr val="fd1df8"/>
                </a:solidFill>
                <a:latin typeface="Times New Roman"/>
              </a:rPr>
              <a:t>a return to loved ones and some kind of normal life</a:t>
            </a:r>
            <a:r>
              <a:rPr b="0" lang="en-GB" sz="2000" spc="-1" strike="noStrike">
                <a:solidFill>
                  <a:srgbClr val="5b5249"/>
                </a:solidFill>
                <a:latin typeface="Times New Roman"/>
              </a:rPr>
              <a:t> might actually become a reality.</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rPr>
              <a:t>Explain what the word, ‘armistice’ means and how the context of this word helps you understand this.</a:t>
            </a:r>
            <a:r>
              <a:rPr b="1" lang="en-GB" sz="2000" spc="-1" strike="noStrike">
                <a:solidFill>
                  <a:srgbClr val="5b5249"/>
                </a:solidFill>
                <a:latin typeface="Times New Roman"/>
              </a:rPr>
              <a:t>	</a:t>
            </a:r>
            <a:r>
              <a:rPr b="1" lang="en-GB" sz="2000" spc="-1" strike="noStrike">
                <a:solidFill>
                  <a:srgbClr val="5b5249"/>
                </a:solidFill>
                <a:latin typeface="Times New Roman"/>
              </a:rPr>
              <a:t>(3)</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rmistice means a ceasefire or the end of a conflic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a:t>
            </a:r>
            <a:r>
              <a:rPr b="0" lang="en-GB" sz="2000" spc="-1" strike="noStrike">
                <a:solidFill>
                  <a:srgbClr val="5b5249"/>
                </a:solidFill>
                <a:latin typeface="Times New Roman"/>
              </a:rPr>
              <a:t>Surrender’ and ‘truce’ both refer to the end of fighting or violence</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The writer also refers to the suffering of soldiers ending and that it would be possible for them to leave the forces and return to civilian life.</a:t>
            </a:r>
            <a:endParaRPr b="0" lang="en-US" sz="2000" spc="-1" strike="noStrike">
              <a:solidFill>
                <a:srgbClr val="5b5249"/>
              </a:solidFill>
              <a:latin typeface="Times New Roman"/>
            </a:endParaRPr>
          </a:p>
        </p:txBody>
      </p:sp>
      <p:pic>
        <p:nvPicPr>
          <p:cNvPr id="116" name="" descr=""/>
          <p:cNvPicPr/>
          <p:nvPr/>
        </p:nvPicPr>
        <p:blipFill>
          <a:blip r:embed="rId1"/>
          <a:stretch/>
        </p:blipFill>
        <p:spPr>
          <a:xfrm>
            <a:off x="7543800" y="4876920"/>
            <a:ext cx="1123920" cy="7617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4"/>
                                        </p:tgtEl>
                                        <p:attrNameLst>
                                          <p:attrName>style.visibility</p:attrName>
                                        </p:attrNameLst>
                                      </p:cBhvr>
                                      <p:to>
                                        <p:strVal val="visible"/>
                                      </p:to>
                                    </p:set>
                                    <p:anim calcmode="lin" valueType="num">
                                      <p:cBhvr additive="base">
                                        <p:cTn id="296" dur="500" fill="hold"/>
                                        <p:tgtEl>
                                          <p:spTgt spid="114"/>
                                        </p:tgtEl>
                                        <p:attrNameLst>
                                          <p:attrName>ppt_x</p:attrName>
                                        </p:attrNameLst>
                                      </p:cBhvr>
                                      <p:tavLst>
                                        <p:tav tm="0">
                                          <p:val>
                                            <p:strVal val="0-#ppt_w/2"/>
                                          </p:val>
                                        </p:tav>
                                        <p:tav tm="100000">
                                          <p:val>
                                            <p:strVal val="#ppt_x"/>
                                          </p:val>
                                        </p:tav>
                                      </p:tavLst>
                                    </p:anim>
                                    <p:anim calcmode="lin" valueType="num">
                                      <p:cBhvr additive="base">
                                        <p:cTn id="29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5">
                                            <p:txEl>
                                              <p:pRg st="0" end="0"/>
                                            </p:txEl>
                                          </p:spTgt>
                                        </p:tgtEl>
                                        <p:attrNameLst>
                                          <p:attrName>style.visibility</p:attrName>
                                        </p:attrNameLst>
                                      </p:cBhvr>
                                      <p:to>
                                        <p:strVal val="visible"/>
                                      </p:to>
                                    </p:set>
                                    <p:anim calcmode="lin" valueType="num">
                                      <p:cBhvr additive="base">
                                        <p:cTn id="30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15">
                                            <p:txEl>
                                              <p:pRg st="1" end="1"/>
                                            </p:txEl>
                                          </p:spTgt>
                                        </p:tgtEl>
                                        <p:attrNameLst>
                                          <p:attrName>style.visibility</p:attrName>
                                        </p:attrNameLst>
                                      </p:cBhvr>
                                      <p:to>
                                        <p:strVal val="visible"/>
                                      </p:to>
                                    </p:set>
                                    <p:anim calcmode="lin" valueType="num">
                                      <p:cBhvr additive="base">
                                        <p:cTn id="30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5">
                                            <p:txEl>
                                              <p:pRg st="2" end="2"/>
                                            </p:txEl>
                                          </p:spTgt>
                                        </p:tgtEl>
                                        <p:attrNameLst>
                                          <p:attrName>style.visibility</p:attrName>
                                        </p:attrNameLst>
                                      </p:cBhvr>
                                      <p:to>
                                        <p:strVal val="visible"/>
                                      </p:to>
                                    </p:set>
                                    <p:anim calcmode="lin" valueType="num">
                                      <p:cBhvr additive="base">
                                        <p:cTn id="314"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5">
                                            <p:txEl>
                                              <p:pRg st="4" end="4"/>
                                            </p:txEl>
                                          </p:spTgt>
                                        </p:tgtEl>
                                        <p:attrNameLst>
                                          <p:attrName>style.visibility</p:attrName>
                                        </p:attrNameLst>
                                      </p:cBhvr>
                                      <p:to>
                                        <p:strVal val="visible"/>
                                      </p:to>
                                    </p:set>
                                    <p:anim calcmode="lin" valueType="num">
                                      <p:cBhvr additive="base">
                                        <p:cTn id="320"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5">
                                            <p:txEl>
                                              <p:pRg st="6" end="6"/>
                                            </p:txEl>
                                          </p:spTgt>
                                        </p:tgtEl>
                                        <p:attrNameLst>
                                          <p:attrName>style.visibility</p:attrName>
                                        </p:attrNameLst>
                                      </p:cBhvr>
                                      <p:to>
                                        <p:strVal val="visible"/>
                                      </p:to>
                                    </p:set>
                                    <p:anim calcmode="lin" valueType="num">
                                      <p:cBhvr additive="base">
                                        <p:cTn id="326" dur="500" fill="hold"/>
                                        <p:tgtEl>
                                          <p:spTgt spid="115">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xEl>
                                              <p:pRg st="7" end="7"/>
                                            </p:txEl>
                                          </p:spTgt>
                                        </p:tgtEl>
                                        <p:attrNameLst>
                                          <p:attrName>style.visibility</p:attrName>
                                        </p:attrNameLst>
                                      </p:cBhvr>
                                      <p:to>
                                        <p:strVal val="visible"/>
                                      </p:to>
                                    </p:set>
                                    <p:anim calcmode="lin" valueType="num">
                                      <p:cBhvr additive="base">
                                        <p:cTn id="332" dur="500" fill="hold"/>
                                        <p:tgtEl>
                                          <p:spTgt spid="115">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5">
                                            <p:txEl>
                                              <p:pRg st="8" end="8"/>
                                            </p:txEl>
                                          </p:spTgt>
                                        </p:tgtEl>
                                        <p:attrNameLst>
                                          <p:attrName>style.visibility</p:attrName>
                                        </p:attrNameLst>
                                      </p:cBhvr>
                                      <p:to>
                                        <p:strVal val="visible"/>
                                      </p:to>
                                    </p:set>
                                    <p:anim calcmode="lin" valueType="num">
                                      <p:cBhvr additive="base">
                                        <p:cTn id="338" dur="500" fill="hold"/>
                                        <p:tgtEl>
                                          <p:spTgt spid="115">
                                            <p:txEl>
                                              <p:pRg st="8" end="8"/>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15">
                                            <p:txEl>
                                              <p:pRg st="9" end="9"/>
                                            </p:txEl>
                                          </p:spTgt>
                                        </p:tgtEl>
                                        <p:attrNameLst>
                                          <p:attrName>style.visibility</p:attrName>
                                        </p:attrNameLst>
                                      </p:cBhvr>
                                      <p:to>
                                        <p:strVal val="visible"/>
                                      </p:to>
                                    </p:set>
                                    <p:anim calcmode="lin" valueType="num">
                                      <p:cBhvr additive="base">
                                        <p:cTn id="344" dur="500" fill="hold"/>
                                        <p:tgtEl>
                                          <p:spTgt spid="115">
                                            <p:txEl>
                                              <p:pRg st="9" end="9"/>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15">
                                            <p:txEl>
                                              <p:pRg st="9" end="9"/>
                                            </p:txEl>
                                          </p:spTgt>
                                        </p:tgtEl>
                                        <p:attrNameLst>
                                          <p:attrName>ppt_y</p:attrName>
                                        </p:attrNameLst>
                                      </p:cBhvr>
                                      <p:tavLst>
                                        <p:tav tm="0">
                                          <p:val>
                                            <p:strVal val="#ppt_y"/>
                                          </p:val>
                                        </p:tav>
                                        <p:tav tm="100000">
                                          <p:val>
                                            <p:strVal val="#ppt_y"/>
                                          </p:val>
                                        </p:tav>
                                      </p:tavLst>
                                    </p:anim>
                                  </p:childTnLst>
                                </p:cTn>
                              </p:par>
                            </p:childTnLst>
                          </p:cTn>
                        </p:par>
                        <p:par>
                          <p:cTn id="346" fill="hold">
                            <p:stCondLst>
                              <p:cond delay="500"/>
                            </p:stCondLst>
                            <p:childTnLst>
                              <p:par>
                                <p:cTn id="347" nodeType="afterEffect" fill="hold" presetClass="entr" presetID="2" presetSubtype="8">
                                  <p:stCondLst>
                                    <p:cond delay="0"/>
                                  </p:stCondLst>
                                  <p:childTnLst>
                                    <p:set>
                                      <p:cBhvr>
                                        <p:cTn id="348" dur="1" fill="hold">
                                          <p:stCondLst>
                                            <p:cond delay="0"/>
                                          </p:stCondLst>
                                        </p:cTn>
                                        <p:tgtEl>
                                          <p:spTgt spid="116"/>
                                        </p:tgtEl>
                                        <p:attrNameLst>
                                          <p:attrName>style.visibility</p:attrName>
                                        </p:attrNameLst>
                                      </p:cBhvr>
                                      <p:to>
                                        <p:strVal val="visible"/>
                                      </p:to>
                                    </p:set>
                                    <p:anim calcmode="lin" valueType="num">
                                      <p:cBhvr additive="base">
                                        <p:cTn id="349" dur="500" fill="hold"/>
                                        <p:tgtEl>
                                          <p:spTgt spid="116"/>
                                        </p:tgtEl>
                                        <p:attrNameLst>
                                          <p:attrName>ppt_x</p:attrName>
                                        </p:attrNameLst>
                                      </p:cBhvr>
                                      <p:tavLst>
                                        <p:tav tm="0">
                                          <p:val>
                                            <p:strVal val="0-#ppt_w/2"/>
                                          </p:val>
                                        </p:tav>
                                        <p:tav tm="100000">
                                          <p:val>
                                            <p:strVal val="#ppt_x"/>
                                          </p:val>
                                        </p:tav>
                                      </p:tavLst>
                                    </p:anim>
                                    <p:anim calcmode="lin" valueType="num">
                                      <p:cBhvr additive="base">
                                        <p:cTn id="35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ylorKJ</cp:lastModifiedBy>
  <dcterms:modified xsi:type="dcterms:W3CDTF">2008-09-22T12:21:41Z</dcterms:modified>
  <cp:revision>7</cp:revision>
  <dc:subject/>
  <dc:title>PowerPoint Presentation</dc:title>
</cp:coreProperties>
</file>